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A4C-060D-4360-A7A3-72CD0B38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F58-79E3-4761-AAC8-3A61A5DC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92D-E453-4624-886F-B35BAFEF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7A4C-6A89-4128-9F8D-F1889F2D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EC99F-9CB4-4D14-83CD-097BFD45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98467-4953-4770-B61E-C3912CCF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328D4-567E-4399-A829-CE5984DD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38601-DC00-4EB5-8C0F-E4AB5BC3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47C40-C7CA-4FBA-8151-489E875A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F0D89-322F-437A-BAFD-F306320D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96AF9-DA4A-4B13-BFA1-4523DBCB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B5B-DB6E-47C6-B49B-557EE41D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51A63-D0DC-4B81-AD58-3B3A305E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1FAE5-4740-44F0-8A0B-BE6A677F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0227D-802F-487B-9599-0943D2E2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91345-3E5E-43E4-9C3A-A322FF38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7B129-114D-4683-AECD-FF43F84B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C306-5381-4D93-9715-1F44CCA1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62C2-8E16-44C2-9CF4-19F03B6A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317-2D08-44C7-8614-C5AFEAFD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360B-213B-4243-BC87-3EEFDBAD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FCF0-EA02-4FB5-8CAD-DC04E6B8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3A7-9B0A-48E2-90B1-FDF8F88A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FA5-3649-4E04-8359-70432EB0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A292-0814-4C06-88AD-03CAA32C7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7CF7-00A2-47C9-AB56-2CC2BCF63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rcRect l="0" t="0" r="73" b="-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1341360"/>
            <a:ext cx="813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00"/>
                </a:solidFill>
                <a:latin typeface="Times New Roman"/>
              </a:rPr>
              <a:t>Діяльність людини та стан біосфе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rcRect l="0" t="0" r="65" b="107"/>
          <a:stretch/>
        </p:blipFill>
        <p:spPr>
          <a:xfrm>
            <a:off x="324000" y="4653000"/>
            <a:ext cx="2592360" cy="1893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rcRect l="0" t="0" r="-98" b="-250"/>
          <a:stretch/>
        </p:blipFill>
        <p:spPr>
          <a:xfrm>
            <a:off x="6156360" y="4581360"/>
            <a:ext cx="2735280" cy="196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Нікітченко Я.А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DFF0F-3DA5-43E0-8274-5248386C1D33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Парниковий ефек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7200" y="144792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80808"/>
                </a:solidFill>
                <a:latin typeface="Tahoma"/>
              </a:rPr>
              <a:t>Забруднення гідросфер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80808"/>
                </a:solidFill>
                <a:latin typeface="Tahoma"/>
              </a:rPr>
              <a:t>Розливи нафти внаслідок аварій танкері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7" descr="1794"/>
          <p:cNvPicPr/>
          <p:nvPr/>
        </p:nvPicPr>
        <p:blipFill>
          <a:blip r:embed="rId2"/>
          <a:stretch/>
        </p:blipFill>
        <p:spPr>
          <a:xfrm>
            <a:off x="1219320" y="1752480"/>
            <a:ext cx="65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00"/>
                </a:solidFill>
                <a:latin typeface="Tahoma"/>
              </a:rPr>
              <a:t>Людська діяльність призвела до зникнення багатьох видів організмі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2849400" cy="3886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334120" y="1828800"/>
            <a:ext cx="312408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429000" y="4656240"/>
            <a:ext cx="3924360" cy="2201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c600"/>
                </a:solidFill>
                <a:latin typeface="Tahoma"/>
              </a:rPr>
              <a:t>Маньківщи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525744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c00"/>
                </a:solidFill>
                <a:latin typeface="Tahoma"/>
              </a:rPr>
              <a:t>Просторі поля, чисті став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c00"/>
                </a:solidFill>
                <a:latin typeface="Tahoma"/>
              </a:rPr>
              <a:t>неповторна природ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80880" y="1905120"/>
            <a:ext cx="3962520" cy="3024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3081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743200" y="2133720"/>
            <a:ext cx="3581280" cy="3070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0" y="4048200"/>
            <a:ext cx="3352680" cy="2809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2280" y="76212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0808"/>
                </a:solidFill>
                <a:latin typeface="Tahoma"/>
              </a:rPr>
              <a:t>Та іноді лю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0808"/>
                </a:solidFill>
                <a:latin typeface="Tahoma"/>
              </a:rPr>
              <a:t>забувають про ц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40880" y="5867280"/>
            <a:ext cx="35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80808"/>
                </a:solidFill>
                <a:latin typeface="Tahoma"/>
              </a:rPr>
              <a:t>… </a:t>
            </a:r>
            <a:r>
              <a:rPr b="0" lang="uk-UA" sz="2800" spc="-1" strike="noStrike">
                <a:solidFill>
                  <a:srgbClr val="080808"/>
                </a:solidFill>
                <a:latin typeface="Tahoma"/>
              </a:rPr>
              <a:t>і приходить лих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Разом з екологією гине наша культура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57200" y="1522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Разом з екологією гине наша культура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45820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cc00"/>
                </a:solidFill>
                <a:latin typeface="Tahoma"/>
              </a:rPr>
              <a:t>Природа – це казка, </a:t>
            </a:r>
            <a:br>
              <a:rPr sz="4000"/>
            </a:br>
            <a:r>
              <a:rPr b="0" lang="uk-UA" sz="4000" spc="-1" strike="noStrike">
                <a:solidFill>
                  <a:srgbClr val="00cc00"/>
                </a:solidFill>
                <a:latin typeface="Tahoma"/>
              </a:rPr>
              <a:t>яку треба читати серцем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80010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c600"/>
                </a:solidFill>
                <a:latin typeface="Tahoma"/>
              </a:rPr>
              <a:t>Планета Земл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639040" cy="5638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7620120" cy="6629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057400" y="22860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ahoma"/>
              </a:rPr>
              <a:t>Людина – частинка приро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00"/>
                </a:solidFill>
                <a:latin typeface="Tahoma"/>
              </a:rPr>
              <a:t>Природа – безпосереднє джерело краси і доб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90360" y="1523520"/>
            <a:ext cx="7010280" cy="4953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90720" y="1523880"/>
            <a:ext cx="7086600" cy="496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80808"/>
                </a:solidFill>
                <a:latin typeface="Tahoma"/>
              </a:rPr>
              <a:t>Перетворення природи людино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0" t="0" r="-98" b="-250"/>
          <a:stretch/>
        </p:blipFill>
        <p:spPr>
          <a:xfrm>
            <a:off x="990720" y="12952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Знищення лісі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767657-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80808"/>
                </a:solidFill>
                <a:latin typeface="Tahoma"/>
              </a:rPr>
              <a:t>Забруднення атмосфер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57200" y="182880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648320" y="182880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99"/>
                </a:solidFill>
                <a:latin typeface="Tahoma"/>
              </a:rPr>
              <a:t>Всі шкідливі сполуки скупчуються в атмосфері у вигляді смогу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10430092_smog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40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Проблема озонового шар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05120" y="1066680"/>
            <a:ext cx="5410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03-23T14:48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e000000000001024140</vt:lpwstr>
  </property>
  <property fmtid="{D5CDD505-2E9C-101B-9397-08002B2CF9AE}" pid="3" name="Version">
    <vt:r8>1</vt:r8>
  </property>
</Properties>
</file>