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0731-7545-4476-9E4F-2968B943C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FEFF-8D16-4178-8F3C-8C0C6E68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836C-E023-4AC9-913B-3F5C9B8C1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B07DE-7CFA-4BFC-9EF6-C14B2C37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A289C-AB63-4CF9-99FF-9EF1252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2845D0-D9A0-42E0-96DE-AF50A914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30141-58F1-41D8-B653-4A0A2862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7E66CF-2580-42BB-9579-81971AB3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7A758D-40B9-4CDD-9174-4FAB75F6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EB7A6B-2A47-40E7-BD8D-4EA684CE0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0284B-D6B8-4584-9942-CD790BC8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1F95-1D9A-4BFA-BB95-DA0AED93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EEEDF-D9DF-46C0-81CA-6C431D5E9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0C76C9-F2A7-4CA6-8A01-A77A0C63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12D2FD-1651-473C-B3F0-9719F9D0C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2366C-3015-45B6-BC0E-81A7BAA95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63149-EE70-4EBE-A9B6-779C61CAD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0475-9239-470C-9495-CD9CD9E4A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0D3-20FF-4075-A110-859124449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C5F6-D88A-4099-AA9F-991E36C35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382E-1D8F-42AF-BD3B-5C036A82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FE32-2F2B-4633-B7F5-3B4C86CD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AB85-2A75-44D6-A370-49CD385D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358EF-01BE-45FA-A325-D6581A65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582A-892F-46CF-AF19-6B3D90F7C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7A488-3067-45C7-BDCA-376002A04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73" b="-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34136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00"/>
                </a:solidFill>
                <a:latin typeface="Times New Roman"/>
              </a:rPr>
              <a:t>Діяльність людини та стан біосф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0" t="0" r="65" b="107"/>
          <a:stretch/>
        </p:blipFill>
        <p:spPr>
          <a:xfrm>
            <a:off x="324000" y="4653000"/>
            <a:ext cx="259236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0" t="0" r="-98" b="-250"/>
          <a:stretch/>
        </p:blipFill>
        <p:spPr>
          <a:xfrm>
            <a:off x="6156360" y="4581360"/>
            <a:ext cx="2735280" cy="19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Нікітченко Я.А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0955D-2F94-4018-9C5F-D9B30C65CCB9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арниковий еф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гідр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Розливи нафти внаслідок аварій танкер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1794"/>
          <p:cNvPicPr/>
          <p:nvPr/>
        </p:nvPicPr>
        <p:blipFill>
          <a:blip r:embed="rId2"/>
          <a:stretch/>
        </p:blipFill>
        <p:spPr>
          <a:xfrm>
            <a:off x="1219320" y="17524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ahoma"/>
              </a:rPr>
              <a:t>Людська діяльність призвела до зникнення багатьох видів організм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46562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Маньків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5257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Просторі поля, чисті став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неповторна приро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96252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0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3581280" cy="30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3352680" cy="280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7621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Та іноді 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забувають про ц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0880" y="58672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… </a:t>
            </a: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і приходить ли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Природа – це казка, </a:t>
            </a:r>
            <a:br>
              <a:rPr sz="4000"/>
            </a:b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яку треба читати серце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62012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28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Людина – частинка прир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Природа – безпосереднє джерело краси і доб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360" y="1523520"/>
            <a:ext cx="7010280" cy="495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Перетворення природи людино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-98" b="-250"/>
          <a:stretch/>
        </p:blipFill>
        <p:spPr>
          <a:xfrm>
            <a:off x="990720" y="12952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нищення ліс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767657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атм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18288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Tahoma"/>
              </a:rPr>
              <a:t>Всі шкідливі сполуки скупчуються в атмосфері у вигляді смогу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10430092_smog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4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Проблема озонового ш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23T14:4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e000000000001024140</vt:lpwstr>
  </property>
  <property fmtid="{D5CDD505-2E9C-101B-9397-08002B2CF9AE}" pid="3" name="Version">
    <vt:r8>1</vt:r8>
  </property>
</Properties>
</file>