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27.jpeg" ContentType="image/jpeg"/>
  <Override PartName="/ppt/media/image4.jpeg" ContentType="image/jpeg"/>
  <Override PartName="/ppt/media/image25.jpeg" ContentType="image/jpeg"/>
  <Override PartName="/ppt/media/image28.jpeg" ContentType="image/jpeg"/>
  <Override PartName="/ppt/media/image2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E0BD-7D90-4C90-B050-F7685F7578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8FB4-5D1D-46BC-A381-0BA391833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38B8-52D8-4081-BF2F-A1D708E39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65A30-651C-488B-8DB2-314408CD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48F6D3-1985-4BE3-BF96-90947E55B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F7D98A-67DE-4FF6-8450-514D64E53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005D1C-4B6F-47A0-896D-1C4ADB9BC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0A3C82-7E28-4FF0-B04B-19965AF41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AF8D8F-C3DD-4D95-BC29-497EAA377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D158E0-8FAE-44A2-8786-98EFF2F5A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37BE5A-A5E8-48BE-9DB2-ABDB76FA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D7C4-CCFF-45CD-8221-3F9315CEB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17B3BB-1086-42BC-8E92-7642F580C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318092-65A3-470B-ACCD-701AE78BD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3132C6-9B1C-4EBD-9975-1EA54F4F3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E52E5F-1B92-43F8-80BD-68343D6255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CCA340-94DE-4A19-A517-42A0BC63D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5323-8BB2-4BB4-93AE-0BE0661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EDC-F7C3-453E-905E-9ABBDF1F7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A124F-5313-4AEE-93AE-2A625E4D7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C7D07-B59B-405B-B307-06D3B8FDE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02BAC-2901-4E22-9C7B-5EC666AA8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F742-B602-4F7F-9944-AEBEC9E7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E824E-FBD4-44A1-8E6D-FC5E871C3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D2426-06D6-43E4-B245-404091CFAA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808F-555B-4D26-A50D-F9CA18F8AD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rcRect l="0" t="0" r="73" b="-4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539640" y="1341360"/>
            <a:ext cx="813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00"/>
                </a:solidFill>
                <a:latin typeface="Times New Roman"/>
              </a:rPr>
              <a:t>Діяльність людини та стан біосфер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rcRect l="0" t="0" r="65" b="107"/>
          <a:stretch/>
        </p:blipFill>
        <p:spPr>
          <a:xfrm>
            <a:off x="324000" y="4653000"/>
            <a:ext cx="2592360" cy="18939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rcRect l="0" t="0" r="-98" b="-250"/>
          <a:stretch/>
        </p:blipFill>
        <p:spPr>
          <a:xfrm>
            <a:off x="6156360" y="4581360"/>
            <a:ext cx="2735280" cy="1960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Нікітченко Я.А.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502E4D-BD9F-4D0F-92D3-95BF437730BF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" dur="20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Парниковий ефект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8229600" cy="44956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457200" y="1447920"/>
            <a:ext cx="8229600" cy="51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гідр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4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5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Розливи нафти внаслідок аварій танкер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6" name="Picture 7" descr="1794"/>
          <p:cNvPicPr/>
          <p:nvPr/>
        </p:nvPicPr>
        <p:blipFill>
          <a:blip r:embed="rId2"/>
          <a:stretch/>
        </p:blipFill>
        <p:spPr>
          <a:xfrm>
            <a:off x="1219320" y="1752480"/>
            <a:ext cx="65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8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3300"/>
                </a:solidFill>
                <a:latin typeface="Tahoma"/>
              </a:rPr>
              <a:t>Людська діяльність призвела до зникнення багатьох видів організмів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33520" y="1295280"/>
            <a:ext cx="2849400" cy="38862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1828800"/>
            <a:ext cx="3124080" cy="271152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29000" y="4656240"/>
            <a:ext cx="3924360" cy="220176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Маньківщин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42640" y="5257440"/>
            <a:ext cx="716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Просторі поля, чисті ставк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cc00"/>
                </a:solidFill>
                <a:latin typeface="Tahoma"/>
              </a:rPr>
              <a:t>неповторна приро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00600" y="190512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380880" y="1905120"/>
            <a:ext cx="3962520" cy="3024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5638680" y="0"/>
            <a:ext cx="3505320" cy="30812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2743200" y="2133720"/>
            <a:ext cx="3581280" cy="30700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4"/>
          <a:stretch/>
        </p:blipFill>
        <p:spPr>
          <a:xfrm>
            <a:off x="0" y="4048200"/>
            <a:ext cx="3352680" cy="2809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152280" y="762120"/>
            <a:ext cx="5639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Та іноді люд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80808"/>
                </a:solidFill>
                <a:latin typeface="Tahoma"/>
              </a:rPr>
              <a:t>забувають про це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240880" y="5867280"/>
            <a:ext cx="355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… </a:t>
            </a:r>
            <a:r>
              <a:rPr b="0" lang="uk-UA" sz="2800" spc="-1" strike="noStrike">
                <a:solidFill>
                  <a:srgbClr val="080808"/>
                </a:solidFill>
                <a:latin typeface="Tahoma"/>
              </a:rPr>
              <a:t>і приходить лих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57200" y="15228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Разом з екологією гине наша культура..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xit" presetID="3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Природа – це казка, </a:t>
            </a:r>
            <a:br>
              <a:rPr sz="4000"/>
            </a:br>
            <a:r>
              <a:rPr b="0" lang="uk-UA" sz="4000" spc="-1" strike="noStrike">
                <a:solidFill>
                  <a:srgbClr val="00cc00"/>
                </a:solidFill>
                <a:latin typeface="Tahoma"/>
              </a:rPr>
              <a:t>яку треба читати серцем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533520" y="1371600"/>
            <a:ext cx="80010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c600"/>
                </a:solidFill>
                <a:latin typeface="Tahoma"/>
              </a:rPr>
              <a:t>Планета Земля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752480" y="1219320"/>
            <a:ext cx="5639040" cy="563868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838080" y="0"/>
            <a:ext cx="7620120" cy="6629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057400" y="228600"/>
            <a:ext cx="55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00"/>
                </a:solidFill>
                <a:latin typeface="Tahoma"/>
              </a:rPr>
              <a:t>Людина – частинка природ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9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00"/>
                </a:solidFill>
                <a:latin typeface="Tahoma"/>
              </a:rPr>
              <a:t>Природа – безпосереднє джерело краси і добр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990360" y="1523520"/>
            <a:ext cx="7010280" cy="4953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990720" y="1523880"/>
            <a:ext cx="7086600" cy="49626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80808"/>
                </a:solidFill>
                <a:latin typeface="Tahoma"/>
              </a:rPr>
              <a:t>Перетворення природи людиною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rcRect l="0" t="0" r="-98" b="-250"/>
          <a:stretch/>
        </p:blipFill>
        <p:spPr>
          <a:xfrm>
            <a:off x="990720" y="1295280"/>
            <a:ext cx="7086600" cy="5181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Tahoma"/>
              </a:rPr>
              <a:t>Знищення лісів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4" descr="767657-001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80808"/>
                </a:solidFill>
                <a:latin typeface="Tahoma"/>
              </a:rPr>
              <a:t>Забруднення атмосфери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5720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4648320" y="1905120"/>
            <a:ext cx="4038480" cy="41148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457200" y="1828800"/>
            <a:ext cx="4038480" cy="434340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5"/>
          <a:stretch/>
        </p:blipFill>
        <p:spPr>
          <a:xfrm>
            <a:off x="4648320" y="1828800"/>
            <a:ext cx="40384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cc99"/>
                </a:solidFill>
                <a:latin typeface="Tahoma"/>
              </a:rPr>
              <a:t>Всі шкідливі сполуки скупчуються в атмосфері у вигляді смогу</a:t>
            </a: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4" name="Picture 7" descr="10430092_smog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400280"/>
          </a:xfrm>
          <a:prstGeom prst="rect">
            <a:avLst/>
          </a:prstGeom>
          <a:ln w="0">
            <a:noFill/>
          </a:ln>
        </p:spPr>
      </p:pic>
    </p:spTree>
  </p:cSld>
  <p:transition>
    <p:wedg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768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768" fill="hold"/>
                                        <p:tgtEl>
                                          <p:spTgt spid="10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0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2" dur="768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6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ahoma"/>
              </a:rPr>
              <a:t>Проблема озонового шару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1905120" y="1066680"/>
            <a:ext cx="5410080" cy="541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1</cp:lastModifiedBy>
  <dcterms:modified xsi:type="dcterms:W3CDTF">2011-03-23T14:48:1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a0e000000000001024140</vt:lpwstr>
  </property>
  <property fmtid="{D5CDD505-2E9C-101B-9397-08002B2CF9AE}" pid="3" name="Version">
    <vt:r8>1</vt:r8>
  </property>
</Properties>
</file>