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7B4-CB01-44E2-8B93-5542EBC7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2F3-BDDA-4C43-A1C4-73405DB1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42A-8864-4FDB-A278-FA59457E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AB2-06C9-497D-9610-C8EB17D6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2ED0C-CFED-47C0-834E-43A114E3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15335-047D-4E71-8D9E-6AABFAFF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F5B21-746C-41EE-A1BB-15ECF2BF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143DD-B43A-4703-AF0A-E3B6A09B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FDEC7-04F0-4CC3-9BEE-CBEF8486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FA5A5-68A4-4373-8A7F-64FB7599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462A5-EFC4-4D08-8D90-9DB7F83B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6F3-D940-40EB-88FA-022F469F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353FF-E112-4BC2-B7C6-6F8262AA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CBC41-15EC-4C1B-9A20-5141D622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2CBB8-2AD4-407A-BD99-62B8B4EC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D9F75-DE92-4DBF-A3AB-3EAE4A2F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4D90B-A1AF-45AA-9578-66F7DBA9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AC9-D320-4AC8-92F4-5ACA3524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B27-A1CC-4AB2-9655-FAEC8794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676-EC82-4ADF-82C8-3A774ED3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34F-07AE-45AE-9016-DC34B8AD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A03-1648-4D35-9B49-EABBDC3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357-B5D5-489D-99AE-37BD92FE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3C4-1D42-4E68-B408-D8C02B1A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8B6B-B9A4-4D22-BD8C-6F19FF5A4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8483-8B42-491E-BBB7-37CD3184B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0" t="0" r="73" b="-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1341360"/>
            <a:ext cx="813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00"/>
                </a:solidFill>
                <a:latin typeface="Times New Roman"/>
              </a:rPr>
              <a:t>Діяльність людини та стан біосфе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rcRect l="0" t="0" r="65" b="107"/>
          <a:stretch/>
        </p:blipFill>
        <p:spPr>
          <a:xfrm>
            <a:off x="324000" y="4653000"/>
            <a:ext cx="2592360" cy="1893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rcRect l="0" t="0" r="-98" b="-250"/>
          <a:stretch/>
        </p:blipFill>
        <p:spPr>
          <a:xfrm>
            <a:off x="6156360" y="4581360"/>
            <a:ext cx="2735280" cy="196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Нікітченко Я.А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B376B-C99C-44F2-BE76-C83A94C9CF66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Парниковий ефе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80808"/>
                </a:solidFill>
                <a:latin typeface="Tahoma"/>
              </a:rPr>
              <a:t>Забруднення гідросфе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80808"/>
                </a:solidFill>
                <a:latin typeface="Tahoma"/>
              </a:rPr>
              <a:t>Розливи нафти внаслідок аварій танкері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1794"/>
          <p:cNvPicPr/>
          <p:nvPr/>
        </p:nvPicPr>
        <p:blipFill>
          <a:blip r:embed="rId2"/>
          <a:stretch/>
        </p:blipFill>
        <p:spPr>
          <a:xfrm>
            <a:off x="1219320" y="1752480"/>
            <a:ext cx="65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00"/>
                </a:solidFill>
                <a:latin typeface="Tahoma"/>
              </a:rPr>
              <a:t>Людська діяльність призвела до зникнення багатьох видів організмі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284940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12408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429000" y="4656240"/>
            <a:ext cx="3924360" cy="220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c600"/>
                </a:solidFill>
                <a:latin typeface="Tahoma"/>
              </a:rPr>
              <a:t>Маньківщ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52574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ahoma"/>
              </a:rPr>
              <a:t>Просторі поля, чисті став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ahoma"/>
              </a:rPr>
              <a:t>неповторна приро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396252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308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743200" y="2133720"/>
            <a:ext cx="3581280" cy="307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4048200"/>
            <a:ext cx="3352680" cy="2809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280" y="7621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Tahoma"/>
              </a:rPr>
              <a:t>Та іноді лю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Tahoma"/>
              </a:rPr>
              <a:t>забувають про ц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40880" y="586728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80808"/>
                </a:solidFill>
                <a:latin typeface="Tahoma"/>
              </a:rPr>
              <a:t>… </a:t>
            </a:r>
            <a:r>
              <a:rPr b="0" lang="uk-UA" sz="2800" spc="-1" strike="noStrike">
                <a:solidFill>
                  <a:srgbClr val="080808"/>
                </a:solidFill>
                <a:latin typeface="Tahoma"/>
              </a:rPr>
              <a:t>і приходить лих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Разом з екологією гине наша культура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азом з екологією гине наша культура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582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cc00"/>
                </a:solidFill>
                <a:latin typeface="Tahoma"/>
              </a:rPr>
              <a:t>Природа – це казка, </a:t>
            </a:r>
            <a:br>
              <a:rPr sz="4000"/>
            </a:br>
            <a:r>
              <a:rPr b="0" lang="uk-UA" sz="4000" spc="-1" strike="noStrike">
                <a:solidFill>
                  <a:srgbClr val="00cc00"/>
                </a:solidFill>
                <a:latin typeface="Tahoma"/>
              </a:rPr>
              <a:t>яку треба читати серцем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0010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c600"/>
                </a:solidFill>
                <a:latin typeface="Tahoma"/>
              </a:rPr>
              <a:t>Планета Зем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620120" cy="662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2286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ahoma"/>
              </a:rPr>
              <a:t>Людина – частинка приро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Природа – безпосереднє джерело краси і доб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90360" y="1523520"/>
            <a:ext cx="7010280" cy="495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7086600" cy="496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80808"/>
                </a:solidFill>
                <a:latin typeface="Tahoma"/>
              </a:rPr>
              <a:t>Перетворення природи людино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-98" b="-250"/>
          <a:stretch/>
        </p:blipFill>
        <p:spPr>
          <a:xfrm>
            <a:off x="990720" y="12952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нищення ліс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767657-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80808"/>
                </a:solidFill>
                <a:latin typeface="Tahoma"/>
              </a:rPr>
              <a:t>Забруднення атмосфе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" y="182880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48320" y="18288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99"/>
                </a:solidFill>
                <a:latin typeface="Tahoma"/>
              </a:rPr>
              <a:t>Всі шкідливі сполуки скупчуються в атмосфері у вигляді смогу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10430092_smog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4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Проблема озонового шар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410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3-23T14:4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e000000000001024140</vt:lpwstr>
  </property>
  <property fmtid="{D5CDD505-2E9C-101B-9397-08002B2CF9AE}" pid="3" name="Version">
    <vt:r8>1</vt:r8>
  </property>
</Properties>
</file>