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0676-1148-49B7-B413-5EA11AAED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C748-3F17-41D7-B6F8-2AF8E3C0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D498-85CD-46DC-A5EB-14C6843B4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A91E-AF90-4591-A8B2-1FA4B1C11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78D9-1C5B-4FE7-B0FB-33415540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B451-DC67-4842-9081-055D42B8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0BCA-9151-4FD9-921C-4B853FDD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E33B-3F90-4AB8-96F3-3FA92BA3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8169-D1F9-46BF-A69B-39B422B2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1424-C6EA-405D-B8C7-D97E1BF0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394E-C002-4965-88E2-234E2C88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B6C8-CE05-47C7-832D-7E667F9E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1EB6-D00E-4DB0-B1DC-881CB4353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79280" y="2492280"/>
            <a:ext cx="8713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аємниця клітини розкрита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20544000">
            <a:off x="549000" y="4211640"/>
            <a:ext cx="2376360" cy="1781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 rot="343800">
            <a:off x="6300360" y="3860280"/>
            <a:ext cx="2381400" cy="1785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 rot="634800">
            <a:off x="3708360" y="4652640"/>
            <a:ext cx="1736640" cy="1915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 rot="389400">
            <a:off x="6297480" y="623880"/>
            <a:ext cx="2159280" cy="1438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 rot="21074400">
            <a:off x="3419640" y="691920"/>
            <a:ext cx="1981080" cy="1311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 rot="418800">
            <a:off x="250560" y="475920"/>
            <a:ext cx="2519280" cy="161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11280" y="981000"/>
            <a:ext cx="2601720" cy="3095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684360" y="549360"/>
            <a:ext cx="246672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cc00ff"/>
                    </a:gs>
                    <a:gs pos="100000">
                      <a:srgbClr val="5e0075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Роберт Гук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cc00ff"/>
                  </a:gs>
                  <a:gs pos="100000">
                    <a:srgbClr val="5e0075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4149720"/>
            <a:ext cx="31683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65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ік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 допомогою вдосконаленого ним мікроскопа Р.Гук спостерігав структуру рослин і дав чіткий малюнок, що вперше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показав клітинну будову пробки (термін "клітка" був введений Гуком),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 також описав будову кліток бузини, кропу, моркви і і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066000" y="1052640"/>
            <a:ext cx="2322360" cy="3097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5580000" y="549360"/>
            <a:ext cx="2962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cc00ff"/>
                    </a:gs>
                    <a:gs pos="100000">
                      <a:srgbClr val="5e0075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Антоні ван Левенгук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cc00ff"/>
                  </a:gs>
                  <a:gs pos="100000">
                    <a:srgbClr val="5e0075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4218120"/>
            <a:ext cx="2968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 допомогою мікроскопа власної конструкції </a:t>
            </a: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</a:rPr>
              <a:t>відкрив і описав одноклітинних тварин(інфузорії),бактерій,еритроцити і сперматозоїди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хребетних, а також простих, окремі рослинні і тваринні клітки, яйця і зародки, м'язову тканину і багато ін. частини і органи більш ніж 200 видів рослин і твар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2484360" y="189000"/>
            <a:ext cx="360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Ян Пуркін`є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 rot="20674200">
            <a:off x="560520" y="3220560"/>
            <a:ext cx="2232000" cy="2102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9640" y="907920"/>
            <a:ext cx="755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Йому належить ряд тверджень щодо клітинної будови організмів;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ін відкрив ядро яйцеклітин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1825), запровадив поняття «протоплазма» (1839), збагатив техніку мікроскоп, досліджень, описав ряд гістологічних структур, які названо його ім'ям — волокна, клітини Пуркинє тощ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2916360" y="307008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 rot="609600">
            <a:off x="4859280" y="2997000"/>
            <a:ext cx="1841400" cy="2125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 rot="981000">
            <a:off x="6659640" y="378936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 rot="20484000">
            <a:off x="2555640" y="472392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9"/>
          <a:stretch/>
        </p:blipFill>
        <p:spPr>
          <a:xfrm rot="468000">
            <a:off x="4140360" y="5084280"/>
            <a:ext cx="2160360" cy="1527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3476520" cy="4797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356000" y="692280"/>
            <a:ext cx="3529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берт Броун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/>
          <p:cNvSpPr/>
          <p:nvPr/>
        </p:nvSpPr>
        <p:spPr>
          <a:xfrm>
            <a:off x="4356000" y="1574280"/>
            <a:ext cx="4500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чений вперше описав будову сім’ї бруньки і встановив відмінність між голонасінними і покритонасінними рослинами (1825), виявив процес статевого схрещування (запилення) у вищих рослин. Спостерігаючи під мікроскопом поведінку часток пилку, зважених у воді, виявив, що вони здійснюють хаотичні зигзагоподібні рухи (1827). Згодом показав, що подібним же чином поводяться суспензії будь-яких інших речовин. Це явище пізніше отримало назву броунівського руху. Також </a:t>
            </a:r>
            <a:r>
              <a:rPr b="1" lang="uk-UA" sz="1600" spc="-1" strike="noStrike" u="sng">
                <a:solidFill>
                  <a:srgbClr val="000000"/>
                </a:solidFill>
                <a:uFillTx/>
                <a:latin typeface="Arial"/>
              </a:rPr>
              <a:t>англійський ботанік у клітинному соку орхідеї відкрив ядр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3484440" cy="4321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427640" y="907920"/>
            <a:ext cx="37479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удольф Вірхов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"/>
          <p:cNvSpPr/>
          <p:nvPr/>
        </p:nvSpPr>
        <p:spPr>
          <a:xfrm>
            <a:off x="4427640" y="1773360"/>
            <a:ext cx="38034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літинна теорія будови організмів змусила переглянути тогочасні погляди на патологію, потрібно було побудувати на нових підвалинах патологічну анатомію. Це здійснив видатний німецький учений Рудольф Вірхов (1821-190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27640" y="3500280"/>
            <a:ext cx="3568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ірхов та його послідовники суть патологічних процесів зводили до морфологічних порушень у клітинах і основну увагу звертали фактично на наслідки патологічних явищ, а не на процес розвитку ї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27640" y="5014080"/>
            <a:ext cx="418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 u="sng">
                <a:solidFill>
                  <a:srgbClr val="000000"/>
                </a:solidFill>
                <a:uFillTx/>
                <a:latin typeface="Arial"/>
              </a:rPr>
              <a:t>Він довів,що клітини не виникають з нічого,а утворюються під час поділу кліти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4224240" cy="48578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5292720" y="836640"/>
            <a:ext cx="2424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рл Бер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"/>
          <p:cNvSpPr/>
          <p:nvPr/>
        </p:nvSpPr>
        <p:spPr>
          <a:xfrm>
            <a:off x="4932360" y="1700280"/>
            <a:ext cx="37987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галузі ембріологічних досліджень Бер показав, що зародковий розвиток організму являє собою не ріст готових елементів, а послідовне виникнення частин зародка з більш простої маси заплідненого яйця. Бер помітив, що на ранніх стадіях зародки різноманітних тварин дуже схожі, що свідчить про їх філогенетичну спорідненість (закон зародкової подібності).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Естонський учений відкрив яйцеклітину ссавців і довів,що всі багатоклітинні організми починають свій розвиток із зиго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55640" y="189000"/>
            <a:ext cx="3186000" cy="3630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716360" y="189000"/>
            <a:ext cx="3240360" cy="3671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900000" y="3933720"/>
            <a:ext cx="6912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одор Шванн і Матіас Шлейде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/>
          <p:nvPr/>
        </p:nvSpPr>
        <p:spPr>
          <a:xfrm>
            <a:off x="108000" y="5589720"/>
            <a:ext cx="8761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лейден і Шванн, узагальнивши наявні знання про клітину, довели, що клітина є основною одиницею будь-якого організм а. Клітини тварин, рослин та бактерії мають подібну будову. Пізніше ці висновки стали основою для доказу єдності організмів. Т. Шванн і М. Шлейден ввели в науку основоположне уявлення про клітини: поза клітинами немає житт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півавторами клітинної теорії вважають також К.Бере і Р.Вірхо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4653000"/>
            <a:ext cx="8281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літинна теорія — основоположна для загальної біології теорія, сформульована у середині XIX століття, що надала базу для розуміння закономірностей живого світу і для розвитку еволюційного вчення.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Маттіас Шлейден та Теодор Шванн сформулювали клітинну теорію, грунтуючись на безлічі досліджень про клітини (1838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14:18:04Z</dcterms:created>
  <dc:creator>Admin</dc:creator>
  <dc:description/>
  <dc:language>en-US</dc:language>
  <cp:lastModifiedBy>Loner-XP</cp:lastModifiedBy>
  <dcterms:modified xsi:type="dcterms:W3CDTF">2011-11-02T18:56:24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605000000000001024140</vt:lpwstr>
  </property>
</Properties>
</file>