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660-BD31-41BD-8B32-2837AE6D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50F-4ABE-4357-9F38-72A79B8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CD1-D01E-45F0-BC4D-C93908A6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EA3-0417-422C-A2B5-216D080E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1E8-4BA9-4674-A6A1-B946731A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A73-ECF2-48C6-A526-B84BFAB9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94E-7B23-46C6-A6AB-610F096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526-412C-477F-8E87-F52D418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58A-73F4-4DDF-940D-E4758360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ABB-CF81-4A3F-AAC9-EFB857BB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7BD-9157-40DC-A341-C6151BA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9F1-8C4D-4763-957A-B86DB3A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5BA-EA09-40DB-A355-9B6342FC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49228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ємниця клітини розкрит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4000">
            <a:off x="549000" y="421164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343800">
            <a:off x="6300360" y="3860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634800">
            <a:off x="3708360" y="4652640"/>
            <a:ext cx="173664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89400">
            <a:off x="6297480" y="623880"/>
            <a:ext cx="215928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4400">
            <a:off x="3419640" y="691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418800">
            <a:off x="250560" y="475920"/>
            <a:ext cx="2519280" cy="16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60172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549360"/>
            <a:ext cx="2466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Роберт 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149720"/>
            <a:ext cx="316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65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к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допомогою вдосконаленого ним мікроскопа Р.Гук спостерігав структуру рослин і дав чіткий малюнок, що вперш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казав клітинну будову пробки (термін "клітка" був введений Гуком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також описав будову кліток бузини, кропу, моркви і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66000" y="1052640"/>
            <a:ext cx="232236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80000" y="549360"/>
            <a:ext cx="296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нтоні ван Левен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18120"/>
            <a:ext cx="296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допомогою мікроскопа власної конструкції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ідкрив і описав одноклітинних тварин(інфузорії),бактерій,еритроцити і сперматозої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хребетних, а також простих, окремі рослинні і тваринні клітки, яйця і зародки, м'язову тканину і багато ін. частини і органи більш ніж 200 видів рослин і тва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84360" y="18900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 Пуркін`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20674200">
            <a:off x="560520" y="3220560"/>
            <a:ext cx="223200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755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му належить ряд тверджень щодо клітинної будови організмів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ін відкрив ядро яйцекліт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25), запровадив поняття «протоплазма» (1839), збагатив техніку мікроскоп, досліджень, описав ряд гістологічних структур, які названо його ім'ям — волокна, клітини Пуркинє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3070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 rot="609600">
            <a:off x="4859280" y="2997000"/>
            <a:ext cx="184140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981000"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20484000">
            <a:off x="2555640" y="4723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468000">
            <a:off x="4140360" y="508428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476520" cy="47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356000" y="692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ерт Броу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74280"/>
            <a:ext cx="45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ений вперше описав будову сім’ї бруньки і встановив відмінність між голонасінними і покритонасінними рослинами (1825), виявив процес статевого схрещування (запилення) у вищих рослин. Спостерігаючи під мікроскопом поведінку часток пилку, зважених у воді, виявив, що вони здійснюють хаотичні зигзагоподібні рухи (1827). Згодом показав, що подібним же чином поводяться суспензії будь-яких інших речовин. Це явище пізніше отримало назву броунівського руху. Також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нглійський ботанік у клітинному соку орхідеї відкрив яд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907920"/>
            <a:ext cx="3747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дольф Вірх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1773360"/>
            <a:ext cx="380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ітинна теорія будови організмів змусила переглянути тогочасні погляди на патологію, потрібно було побудувати на нових підвалинах патологічну анатомію. Це здійснив видатний німецький учений Рудольф Вірхов (1821-19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500280"/>
            <a:ext cx="356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рхов та його послідовники суть патологічних процесів зводили до морфологічних порушень у клітинах і основну увагу звертали фактично на наслідки патологічних явищ, а не на процес розвитку ї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5014080"/>
            <a:ext cx="41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н довів,що клітини не виникають з нічого,а утворюються під час поділу кліт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22424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92720" y="836640"/>
            <a:ext cx="24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 Б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00280"/>
            <a:ext cx="379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алузі ембріологічних досліджень Бер показав, що зародковий розвиток організму являє собою не ріст готових елементів, а послідовне виникнення частин зародка з більш простої маси заплідненого яйця. Бер помітив, що на ранніх стадіях зародки різноманітних тварин дуже схожі, що свідчить про їх філогенетичну спорідненість (закон зародкової подібності)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онський учений відкрив яйцеклітину ссавців і довів,що всі багатоклітинні організми починають свій розвиток із зиг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8600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240360" cy="36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3933720"/>
            <a:ext cx="69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дор Шванн і Матіас Шлейд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589720"/>
            <a:ext cx="87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ейден і Шванн, узагальнивши наявні знання про клітину, довели, що клітина є основною одиницею будь-якого організм а. Клітини тварин, рослин та бактерії мають подібну будову. Пізніше ці висновки стали основою для доказу єдності організмів. Т. Шванн і М. Шлейден ввели в науку основоположне уявлення про клітини: поза клітинами немає житт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авторами клітинної теорії вважають також К.Бере і Р.Вірх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653000"/>
            <a:ext cx="828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ітинна теорія — основоположна для загальної біології теорія, сформульована у середині XIX століття, що надала базу для розуміння закономірностей живого світу і для розвитку еволюційного вчення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тіас Шлейден та Теодор Шванн сформулювали клітинну теорію, грунтуючись на безлічі досліджень про клітини (18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4:18:04Z</dcterms:created>
  <dc:creator>Admin</dc:creator>
  <dc:description/>
  <dc:language>en-US</dc:language>
  <cp:lastModifiedBy>Loner-XP</cp:lastModifiedBy>
  <dcterms:modified xsi:type="dcterms:W3CDTF">2011-11-02T18:56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