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C3F-8777-4C93-B9D9-0502AF72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3CC-0AD8-48AF-8133-C1AD9061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DA8-F873-470F-AA4C-36151EF4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235-35E9-483E-81FC-EF7BFCB8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2AE-D178-4A17-A885-C36C7CE6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914-8F0C-4A38-87BB-C95DFAF7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0C4-4719-44FE-8F5D-2034D3E2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7DE-84D6-41B4-9D06-6EB2B5E5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68D-7A42-482E-842B-E10A9235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A04-D795-457F-B71D-CF52F88E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9A7-C7AA-48A2-B2EA-FF33BA0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023-7D52-4C9A-BABE-95C3DE31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AD60-E85B-4F03-9DF9-6311DC8D0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249228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ємниця клітини розкрита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544000">
            <a:off x="549000" y="4211640"/>
            <a:ext cx="2376360" cy="1781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 rot="343800">
            <a:off x="6300360" y="386028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rot="634800">
            <a:off x="3708360" y="4652640"/>
            <a:ext cx="1736640" cy="191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 rot="389400">
            <a:off x="6297480" y="623880"/>
            <a:ext cx="2159280" cy="1438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 rot="21074400">
            <a:off x="3419640" y="691920"/>
            <a:ext cx="1981080" cy="131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 rot="418800">
            <a:off x="250560" y="475920"/>
            <a:ext cx="2519280" cy="161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2601720" cy="3095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84360" y="549360"/>
            <a:ext cx="246672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5e0075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Роберт Гук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5e0075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149720"/>
            <a:ext cx="316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65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ік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допомогою вдосконаленого ним мікроскопа Р.Гук спостерігав структуру рослин і дав чіткий малюнок, що вперш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оказав клітинну будову пробки (термін "клітка" був введений Гуком)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також описав будову кліток бузини, кропу, моркви і і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66000" y="1052640"/>
            <a:ext cx="2322360" cy="309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5580000" y="549360"/>
            <a:ext cx="2962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100000">
                      <a:srgbClr val="5e0075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Антоні ван Левенгук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100000">
                    <a:srgbClr val="5e0075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18120"/>
            <a:ext cx="2968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допомогою мікроскопа власної конструкції </a:t>
            </a:r>
            <a:r>
              <a:rPr b="0" lang="uk-UA" sz="1400" spc="-1" strike="noStrike" u="sng">
                <a:solidFill>
                  <a:srgbClr val="000000"/>
                </a:solidFill>
                <a:uFillTx/>
                <a:latin typeface="Arial"/>
              </a:rPr>
              <a:t>відкрив і описав одноклітинних тварин(інфузорії),бактерій,еритроцити і сперматозоїди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хребетних, а також простих, окремі рослинні і тваринні клітки, яйця і зародки, м'язову тканину і багато ін. частини і органи більш ніж 200 видів рослин і твар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484360" y="18900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н Пуркін`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20674200">
            <a:off x="560520" y="3220560"/>
            <a:ext cx="2232000" cy="2102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907920"/>
            <a:ext cx="7551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ому належить ряд тверджень щодо клітинної будови організмів;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ін відкрив ядро яйцеклітин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1825), запровадив поняття «протоплазма» (1839), збагатив техніку мікроскоп, досліджень, описав ряд гістологічних структур, які названо його ім'ям — волокна, клітини Пуркинє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916360" y="307008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 rot="609600">
            <a:off x="4859280" y="2997000"/>
            <a:ext cx="1841400" cy="2125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 rot="981000">
            <a:off x="6659640" y="378936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 rot="20484000">
            <a:off x="2555640" y="47239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 rot="468000">
            <a:off x="4140360" y="5084280"/>
            <a:ext cx="2160360" cy="1527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3476520" cy="479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356000" y="69228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берт Броу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4356000" y="1574280"/>
            <a:ext cx="4500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чений вперше описав будову сім’ї бруньки і встановив відмінність між голонасінними і покритонасінними рослинами (1825), виявив процес статевого схрещування (запилення) у вищих рослин. Спостерігаючи під мікроскопом поведінку часток пилку, зважених у воді, виявив, що вони здійснюють хаотичні зигзагоподібні рухи (1827). Згодом показав, що подібним же чином поводяться суспензії будь-яких інших речовин. Це явище пізніше отримало назву броунівського руху. Також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англійський ботанік у клітинному соку орхідеї відкрив яд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48444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427640" y="907920"/>
            <a:ext cx="3747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удольф Вірхов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1773360"/>
            <a:ext cx="380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ітинна теорія будови організмів змусила переглянути тогочасні погляди на патологію, потрібно було побудувати на нових підвалинах патологічну анатомію. Це здійснив видатний німецький учений Рудольф Вірхов (1821-190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3500280"/>
            <a:ext cx="3568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рхов та його послідовники суть патологічних процесів зводили до морфологічних порушень у клітинах і основну увагу звертали фактично на наслідки патологічних явищ, а не на процес розвитку ї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7640" y="5014080"/>
            <a:ext cx="418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Він довів,що клітини не виникають з нічого,а утворюються під час поділу кліти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224240" cy="4857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292720" y="836640"/>
            <a:ext cx="2424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л Бер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932360" y="1700280"/>
            <a:ext cx="3798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алузі ембріологічних досліджень Бер показав, що зародковий розвиток організму являє собою не ріст готових елементів, а послідовне виникнення частин зародка з більш простої маси заплідненого яйця. Бер помітив, що на ранніх стадіях зародки різноманітних тварин дуже схожі, що свідчить про їх філогенетичну спорідненість (закон зародкової подібності).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стонський учений відкрив яйцеклітину ссавців і довів,що всі багатоклітинні організми починають свій розвиток із зиго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3186000" cy="363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716360" y="189000"/>
            <a:ext cx="3240360" cy="367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900000" y="3933720"/>
            <a:ext cx="6912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одор Шванн і Матіас Шлейд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5589720"/>
            <a:ext cx="8761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ейден і Шванн, узагальнивши наявні знання про клітину, довели, що клітина є основною одиницею будь-якого організм а. Клітини тварин, рослин та бактерії мають подібну будову. Пізніше ці висновки стали основою для доказу єдності організмів. Т. Шванн і М. Шлейден ввели в науку основоположне уявлення про клітини: поза клітинами немає житт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півавторами клітинної теорії вважають також К.Бере і Р.Вірх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4653000"/>
            <a:ext cx="828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ітинна теорія — основоположна для загальної біології теорія, сформульована у середині XIX століття, що надала базу для розуміння закономірностей живого світу і для розвитку еволюційного вчення.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аттіас Шлейден та Теодор Шванн сформулювали клітинну теорію, грунтуючись на безлічі досліджень про клітини (183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4:18:04Z</dcterms:created>
  <dc:creator>Admin</dc:creator>
  <dc:description/>
  <dc:language>en-US</dc:language>
  <cp:lastModifiedBy>Loner-XP</cp:lastModifiedBy>
  <dcterms:modified xsi:type="dcterms:W3CDTF">2011-11-02T18:56:24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5000000000001024140</vt:lpwstr>
  </property>
</Properties>
</file>