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17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9.jpeg" ContentType="image/jpeg"/>
  <Override PartName="/ppt/media/image42.jpeg" ContentType="image/jpeg"/>
  <Override PartName="/ppt/media/image18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7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media/image51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879-BF26-44C6-9763-96FE07F1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467-526E-415C-A0A9-24853E74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F4B-A159-4F04-B60C-6E1C31DC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1E0-660E-43BF-8DDE-08092529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D6D-956F-4E21-AC10-69A63BBC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67E-63E1-4F61-A592-47A4F233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F5C-7FBB-4F1B-8220-DEAF41FA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B358-118A-4C32-83CD-6D633C9B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651-37CC-4686-B2D3-8454D873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A54-7EEE-440C-AB44-449C214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375D-0EB1-484D-AD06-27AD03CF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E50-2DFE-4A4A-A0C7-25C9B376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78B1-D5D2-46F3-A6AD-7C6EB8585B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Helia\Мои документы\НАТАША урок 2011 весна\кобра очковая.jpg"/>
          <p:cNvPicPr/>
          <p:nvPr/>
        </p:nvPicPr>
        <p:blipFill>
          <a:blip r:embed="rId1"/>
          <a:stretch/>
        </p:blipFill>
        <p:spPr>
          <a:xfrm>
            <a:off x="142920" y="2286000"/>
            <a:ext cx="3286080" cy="4381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Helia\Мои документы\НАТАША урок 2011 весна\гремучая змея.jpg"/>
          <p:cNvPicPr/>
          <p:nvPr/>
        </p:nvPicPr>
        <p:blipFill>
          <a:blip r:embed="rId2"/>
          <a:stretch/>
        </p:blipFill>
        <p:spPr>
          <a:xfrm>
            <a:off x="3689280" y="3214800"/>
            <a:ext cx="5454720" cy="36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Helia\Мои документы\НАТАША урок 2011 весна\Echis_carinatus_sal песчаная эфу.jpg"/>
          <p:cNvPicPr/>
          <p:nvPr/>
        </p:nvPicPr>
        <p:blipFill>
          <a:blip r:embed="rId3"/>
          <a:stretch/>
        </p:blipFill>
        <p:spPr>
          <a:xfrm>
            <a:off x="3571920" y="142920"/>
            <a:ext cx="3141720" cy="2571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Helia\Мои документы\НАТАША урок 2011 весна\морская змея 1.jpg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30718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0" y="571680"/>
            <a:ext cx="3571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ЗМІЇ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2071800" y="61437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б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3643200" y="321480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имуч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929280" y="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5500800" y="2143080"/>
            <a:ext cx="121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M:\НАТАША урок 2011 весна\Картинки\скелет змеи.jpg"/>
          <p:cNvPicPr/>
          <p:nvPr/>
        </p:nvPicPr>
        <p:blipFill>
          <a:blip r:embed="rId1"/>
          <a:stretch/>
        </p:blipFill>
        <p:spPr>
          <a:xfrm>
            <a:off x="0" y="1996920"/>
            <a:ext cx="6357960" cy="486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M:\НАТАША урок 2011 весна\Картинки\гадюка.jpg"/>
          <p:cNvPicPr/>
          <p:nvPr/>
        </p:nvPicPr>
        <p:blipFill>
          <a:blip r:embed="rId2"/>
          <a:stretch/>
        </p:blipFill>
        <p:spPr>
          <a:xfrm>
            <a:off x="600084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M:\НАТАША урок 2011 весна\Картинки\Eierschlange_frisst_Zwergwachtelei.jpg"/>
          <p:cNvPicPr/>
          <p:nvPr/>
        </p:nvPicPr>
        <p:blipFill>
          <a:blip r:embed="rId3"/>
          <a:stretch/>
        </p:blipFill>
        <p:spPr>
          <a:xfrm>
            <a:off x="6429240" y="714240"/>
            <a:ext cx="2390760" cy="3295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M:\НАТАША урок 2011 весна\Картинки\змея яйцеед.png"/>
          <p:cNvPicPr/>
          <p:nvPr/>
        </p:nvPicPr>
        <p:blipFill>
          <a:blip r:embed="rId4"/>
          <a:stretch/>
        </p:blipFill>
        <p:spPr>
          <a:xfrm>
            <a:off x="4929120" y="214200"/>
            <a:ext cx="2417760" cy="1714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0" y="35712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ливості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ови змі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C:\Documents and Settings\Helia\Мои документы\НАТАША урок 2011 весна\anaconda-kro.jpg"/>
          <p:cNvPicPr/>
          <p:nvPr/>
        </p:nvPicPr>
        <p:blipFill>
          <a:blip r:embed="rId1"/>
          <a:stretch/>
        </p:blipFill>
        <p:spPr>
          <a:xfrm>
            <a:off x="4929120" y="3929040"/>
            <a:ext cx="4095720" cy="271476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6143760" y="2428920"/>
            <a:ext cx="285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мін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іпу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:\НАТАША урок 2011 весна\сетчастый питон.jpg"/>
          <p:cNvPicPr/>
          <p:nvPr/>
        </p:nvPicPr>
        <p:blipFill>
          <a:blip r:embed="rId2"/>
          <a:stretch/>
        </p:blipFill>
        <p:spPr>
          <a:xfrm>
            <a:off x="71280" y="71280"/>
            <a:ext cx="5929560" cy="358776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2857680" y="71280"/>
            <a:ext cx="314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ітчастий піт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:\НАТАША урок 2011 весна\барминский-слепун.jpg"/>
          <p:cNvPicPr/>
          <p:nvPr/>
        </p:nvPicPr>
        <p:blipFill>
          <a:blip r:embed="rId3"/>
          <a:stretch/>
        </p:blipFill>
        <p:spPr>
          <a:xfrm>
            <a:off x="6143760" y="71280"/>
            <a:ext cx="2857320" cy="2365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M:\НАТАША урок 2011 весна\Картинки\Serpentes_51.jpg"/>
          <p:cNvPicPr/>
          <p:nvPr/>
        </p:nvPicPr>
        <p:blipFill>
          <a:blip r:embed="rId4"/>
          <a:stretch/>
        </p:blipFill>
        <p:spPr>
          <a:xfrm>
            <a:off x="142920" y="3921120"/>
            <a:ext cx="47149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M:\НАТАША урок 2011 весна\eskulapov-poloz-big.jpg"/>
          <p:cNvPicPr/>
          <p:nvPr/>
        </p:nvPicPr>
        <p:blipFill>
          <a:blip r:embed="rId1"/>
          <a:stretch/>
        </p:blipFill>
        <p:spPr>
          <a:xfrm>
            <a:off x="214200" y="3929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42920" y="14292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M:\НАТАША урок 2011 весна\Vipera berus2.jpg"/>
          <p:cNvPicPr/>
          <p:nvPr/>
        </p:nvPicPr>
        <p:blipFill>
          <a:blip r:embed="rId3"/>
          <a:stretch/>
        </p:blipFill>
        <p:spPr>
          <a:xfrm>
            <a:off x="4143240" y="3970440"/>
            <a:ext cx="2643480" cy="2631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5286240" y="14292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мії Поділ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M:\НАТАША урок 2011 весна\медянка.jpg"/>
          <p:cNvPicPr/>
          <p:nvPr/>
        </p:nvPicPr>
        <p:blipFill>
          <a:blip r:embed="rId4"/>
          <a:stretch/>
        </p:blipFill>
        <p:spPr>
          <a:xfrm>
            <a:off x="4929120" y="1143000"/>
            <a:ext cx="4056120" cy="2708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4929120" y="1143000"/>
            <a:ext cx="17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42920" y="3214800"/>
            <a:ext cx="300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ж звичай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786720" y="5572080"/>
            <a:ext cx="2000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ичай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14200" y="3929040"/>
            <a:ext cx="364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4200" y="1928520"/>
            <a:ext cx="8715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нцівки відсутн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сутня грудна кліти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уби загнуті наза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іки нерухомі, прозорі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хоме сполучення щелеп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ЗМІ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27c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1428840"/>
            <a:ext cx="5572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 кримськ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жовточере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еопард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ліс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з чотирисмуговий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ідянк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дюка степова східна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вона книга України. </a:t>
            </a:r>
            <a:br>
              <a:rPr sz="4500"/>
            </a:br>
            <a:r>
              <a:rPr b="1" lang="uk-UA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зуни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M:\Відкритий урок 2-04-2011\kingdom2.jpg.gif"/>
          <p:cNvPicPr/>
          <p:nvPr/>
        </p:nvPicPr>
        <p:blipFill>
          <a:blip r:embed="rId1"/>
          <a:stretch/>
        </p:blipFill>
        <p:spPr>
          <a:xfrm>
            <a:off x="6143760" y="3786120"/>
            <a:ext cx="1904760" cy="2676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:\Відкритий урок 2-04-2011\kingdom1-a83d5.jpg.gif"/>
          <p:cNvPicPr/>
          <p:nvPr/>
        </p:nvPicPr>
        <p:blipFill>
          <a:blip r:embed="rId2"/>
          <a:stretch/>
        </p:blipFill>
        <p:spPr>
          <a:xfrm>
            <a:off x="7000920" y="92880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C:\Documents and Settings\Helia\Мои документы\НАТАША урок 2011 весна\galapagos_islands-208734.jpg"/>
          <p:cNvPicPr/>
          <p:nvPr/>
        </p:nvPicPr>
        <p:blipFill>
          <a:blip r:embed="rId1"/>
          <a:stretch/>
        </p:blipFill>
        <p:spPr>
          <a:xfrm>
            <a:off x="2571840" y="1928880"/>
            <a:ext cx="6572160" cy="4929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Helia\Мои документы\НАТАША урок 2011 весна\болотная черепаха.jpg"/>
          <p:cNvPicPr/>
          <p:nvPr/>
        </p:nvPicPr>
        <p:blipFill>
          <a:blip r:embed="rId2"/>
          <a:stretch/>
        </p:blipFill>
        <p:spPr>
          <a:xfrm>
            <a:off x="214200" y="1665360"/>
            <a:ext cx="2214720" cy="219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Helia\Мои документы\НАТАША урок 2011 весна\9215-1440x900.jpg"/>
          <p:cNvPicPr/>
          <p:nvPr/>
        </p:nvPicPr>
        <p:blipFill>
          <a:blip r:embed="rId3"/>
          <a:stretch/>
        </p:blipFill>
        <p:spPr>
          <a:xfrm>
            <a:off x="4441680" y="0"/>
            <a:ext cx="4702320" cy="29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Documents and Settings\Helia\Мои документы\НАТАША урок 2011 весна\чсерепаха степная.jpg"/>
          <p:cNvPicPr/>
          <p:nvPr/>
        </p:nvPicPr>
        <p:blipFill>
          <a:blip r:embed="rId4"/>
          <a:stretch/>
        </p:blipFill>
        <p:spPr>
          <a:xfrm>
            <a:off x="0" y="3929040"/>
            <a:ext cx="4192560" cy="2928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0" y="285840"/>
            <a:ext cx="4429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ПАХ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429240" y="6303960"/>
            <a:ext cx="271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апагоськ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429080" y="0"/>
            <a:ext cx="18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сь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0" y="6303960"/>
            <a:ext cx="214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214200" y="3286080"/>
            <a:ext cx="221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тя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4200" y="1599840"/>
            <a:ext cx="8715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істковий панци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дна клітина майже нерухо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зубі щелепи, роговий дзьо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а мускулатура кінців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туть упродовж житт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05600" indent="-705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C:\Documents and Settings\Helia\Мои документы\НАТАША урок 2011 весна\крокодил гавиал.JPG"/>
          <p:cNvPicPr/>
          <p:nvPr/>
        </p:nvPicPr>
        <p:blipFill>
          <a:blip r:embed="rId1"/>
          <a:stretch/>
        </p:blipFill>
        <p:spPr>
          <a:xfrm>
            <a:off x="0" y="2143080"/>
            <a:ext cx="7072200" cy="4714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Helia\Мои документы\НАТАША урок 2011 весна\Alligators алигаторы.jpg"/>
          <p:cNvPicPr/>
          <p:nvPr/>
        </p:nvPicPr>
        <p:blipFill>
          <a:blip r:embed="rId2"/>
          <a:stretch/>
        </p:blipFill>
        <p:spPr>
          <a:xfrm>
            <a:off x="6000840" y="3286080"/>
            <a:ext cx="3143160" cy="23576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0" y="428760"/>
            <a:ext cx="43578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ОКОДИЛ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0" y="628668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ві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358040" y="5595840"/>
            <a:ext cx="178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ігато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M:\НАТАША урок 2011 весна\caiman.jpg"/>
          <p:cNvPicPr/>
          <p:nvPr/>
        </p:nvPicPr>
        <p:blipFill>
          <a:blip r:embed="rId3"/>
          <a:stretch/>
        </p:blipFill>
        <p:spPr>
          <a:xfrm>
            <a:off x="4429080" y="0"/>
            <a:ext cx="4714920" cy="3143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8"/>
          <p:cNvSpPr/>
          <p:nvPr/>
        </p:nvSpPr>
        <p:spPr>
          <a:xfrm>
            <a:off x="7215120" y="2571840"/>
            <a:ext cx="192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йм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4200" y="1285560"/>
            <a:ext cx="87868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іло вкрите роговими щит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На пальцях задніх кінцівок плавальні перетин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Зуби з кореня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отирикамерне серц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обре розвинені легені та моз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</a:t>
            </a:r>
            <a:r>
              <a:rPr b="1" lang="uk-UA" sz="8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ізноманітність, значення та охорона плазунів.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M:\НАТАША урок 2011 весна\Question_mark_alternate 2.jpg"/>
          <p:cNvPicPr/>
          <p:nvPr/>
        </p:nvPicPr>
        <p:blipFill>
          <a:blip r:embed="rId1"/>
          <a:stretch/>
        </p:blipFill>
        <p:spPr>
          <a:xfrm>
            <a:off x="71280" y="71280"/>
            <a:ext cx="8955360" cy="6715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88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ому плазуни пристосовані до життя в різних умовах, на всіх материках, крім Антарктиди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Відеоролик - Плазун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M:\НАТАША урок 2011 весна\tufli-dolce-gabbana-1292494727_bg2.jpg"/>
          <p:cNvPicPr/>
          <p:nvPr/>
        </p:nvPicPr>
        <p:blipFill>
          <a:blip r:embed="rId1"/>
          <a:stretch/>
        </p:blipFill>
        <p:spPr>
          <a:xfrm>
            <a:off x="7000920" y="51436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M:\НАТАША урок 2011 весна\bellaexotic-003-copy.jpg"/>
          <p:cNvPicPr/>
          <p:nvPr/>
        </p:nvPicPr>
        <p:blipFill>
          <a:blip r:embed="rId2"/>
          <a:stretch/>
        </p:blipFill>
        <p:spPr>
          <a:xfrm>
            <a:off x="7000920" y="3500280"/>
            <a:ext cx="2000160" cy="166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M:\НАТАША урок 2011 весна\image001.gif"/>
          <p:cNvPicPr/>
          <p:nvPr/>
        </p:nvPicPr>
        <p:blipFill>
          <a:blip r:embed="rId3"/>
          <a:stretch/>
        </p:blipFill>
        <p:spPr>
          <a:xfrm>
            <a:off x="4714920" y="3786120"/>
            <a:ext cx="1928880" cy="25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M:\НАТАША урок 2011 весна\97385243.jpg"/>
          <p:cNvPicPr/>
          <p:nvPr/>
        </p:nvPicPr>
        <p:blipFill>
          <a:blip r:embed="rId4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M:\НАТАША урок 2011 весна\564591371.jpg"/>
          <p:cNvPicPr/>
          <p:nvPr/>
        </p:nvPicPr>
        <p:blipFill>
          <a:blip r:embed="rId5"/>
          <a:stretch/>
        </p:blipFill>
        <p:spPr>
          <a:xfrm>
            <a:off x="-23760" y="3732120"/>
            <a:ext cx="4167000" cy="3125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M:\НАТАША урок 2011 весна\Zveri_22.jpg"/>
          <p:cNvPicPr/>
          <p:nvPr/>
        </p:nvPicPr>
        <p:blipFill>
          <a:blip r:embed="rId6"/>
          <a:stretch/>
        </p:blipFill>
        <p:spPr>
          <a:xfrm>
            <a:off x="1000080" y="571680"/>
            <a:ext cx="2786040" cy="3057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0"/>
          <p:cNvSpPr/>
          <p:nvPr/>
        </p:nvSpPr>
        <p:spPr>
          <a:xfrm>
            <a:off x="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ЕННЯ ПЛАЗУ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M:\НАТАША урок 2011 весна\емблема2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6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5" descr="M:\НАТАША урок 2011 весна\Інформаційне поле 2.jpg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45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M:\НАТАША урок 2011 весна\Круг.jpg"/>
          <p:cNvPicPr/>
          <p:nvPr/>
        </p:nvPicPr>
        <p:blipFill>
          <a:blip r:embed="rId1"/>
          <a:stretch/>
        </p:blipFill>
        <p:spPr>
          <a:xfrm>
            <a:off x="571680" y="0"/>
            <a:ext cx="801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:\НАТАША урок 2011 весна\68742053_korolevskaya_molochnaya_zmeya_raznye_vidy_19861749_3_F.jpg"/>
          <p:cNvPicPr/>
          <p:nvPr/>
        </p:nvPicPr>
        <p:blipFill>
          <a:blip r:embed="rId1"/>
          <a:stretch/>
        </p:blipFill>
        <p:spPr>
          <a:xfrm>
            <a:off x="2214720" y="1928880"/>
            <a:ext cx="2428560" cy="160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M:\НАТАША урок 2011 весна\800px-Nile_Crocodile_Side_View_2620px.jpg"/>
          <p:cNvPicPr/>
          <p:nvPr/>
        </p:nvPicPr>
        <p:blipFill>
          <a:blip r:embed="rId2"/>
          <a:stretch/>
        </p:blipFill>
        <p:spPr>
          <a:xfrm>
            <a:off x="5713560" y="5429160"/>
            <a:ext cx="3306600" cy="13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M:\НАТАША урок 2011 весна\Animals_Reptiles_Chameleon_027204_.jpg"/>
          <p:cNvPicPr/>
          <p:nvPr/>
        </p:nvPicPr>
        <p:blipFill>
          <a:blip r:embed="rId3"/>
          <a:stretch/>
        </p:blipFill>
        <p:spPr>
          <a:xfrm>
            <a:off x="4417920" y="3643200"/>
            <a:ext cx="2511360" cy="1570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:\НАТАША урок 2011 весна\Galapagos_giant_tortoise_Geochelone_elephantopus.jpg"/>
          <p:cNvPicPr/>
          <p:nvPr/>
        </p:nvPicPr>
        <p:blipFill>
          <a:blip r:embed="rId4"/>
          <a:stretch/>
        </p:blipFill>
        <p:spPr>
          <a:xfrm>
            <a:off x="142920" y="142920"/>
            <a:ext cx="257184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714760" y="142920"/>
            <a:ext cx="221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апагось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2714760" y="593640"/>
            <a:ext cx="92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8,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464328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500120" y="1928880"/>
            <a:ext cx="71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929280" y="3643200"/>
            <a:ext cx="85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4071960" y="6215040"/>
            <a:ext cx="1643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льськ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4071960" y="5715000"/>
            <a:ext cx="164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=и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5,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:\НАТАША урок 2011 весна\big smile.jpg"/>
          <p:cNvPicPr/>
          <p:nvPr/>
        </p:nvPicPr>
        <p:blipFill>
          <a:blip r:embed="rId1"/>
          <a:stretch/>
        </p:blipFill>
        <p:spPr>
          <a:xfrm>
            <a:off x="142920" y="7128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M:\НАТАША урок 2011 весна\Емоційна пауза\54983-1440x900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ознайомитись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з різноманітністю плазунів, видами поширеними в Україні, власному регіоні та рідкісними видами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значи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роль плазунів в екосистемах, їх значення для людини; причини, що зумовлюють необхідність охорони плазунів;</a:t>
            </a:r>
            <a:br>
              <a:rPr sz="3500"/>
            </a:br>
            <a:r>
              <a:rPr b="1" lang="uk-UA" sz="3500" spc="-1" strike="noStrike" u="sng">
                <a:solidFill>
                  <a:srgbClr val="ffffff"/>
                </a:solidFill>
                <a:uFillTx/>
                <a:latin typeface="Calibri"/>
              </a:rPr>
              <a:t>виховувати</a:t>
            </a:r>
            <a:r>
              <a:rPr b="0" lang="uk-UA" sz="3500" spc="-1" strike="noStrike">
                <a:solidFill>
                  <a:srgbClr val="ffffff"/>
                </a:solidFill>
                <a:latin typeface="Calibri"/>
              </a:rPr>
              <a:t> у собі почуття любові до природи та відповідальність за стан довкілля.</a:t>
            </a:r>
            <a:br>
              <a:rPr sz="14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0" y="214200"/>
            <a:ext cx="91440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3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та: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M:\НАТАША урок 2011 весна\Емоційна пауза\4379376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:\НАТАША урок 2011 весна\Емоційна пауза\535151798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M:\НАТАША урок 2011 весна\Емоційна пауза\1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M:\НАТАША урок 2011 весна\Емоційна пауза\1219575051_6.jpg"/>
          <p:cNvPicPr/>
          <p:nvPr/>
        </p:nvPicPr>
        <p:blipFill>
          <a:blip r:embed="rId1"/>
          <a:stretch/>
        </p:blipFill>
        <p:spPr>
          <a:xfrm>
            <a:off x="2428920" y="17640"/>
            <a:ext cx="450036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:\НАТАША урок 2011 весна\Емоційна пауза\27803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M:\НАТАША урок 2011 весна\Емоційна пауза\1270023308_1270011832_007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M:\НАТАША урок 2011 весна\Емоційна пауза\71943608.jp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:\НАТАША урок 2011 весна\Емоційна пауза\948785464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лас Плазуни.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1599840"/>
            <a:ext cx="91440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Дзьобоголові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найдав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Черепах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консерватив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численніш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Крокодили </a:t>
            </a:r>
            <a:r>
              <a:rPr b="1" lang="uk-U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найбільш високоорганізовані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машнє завдання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5920" y="15717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Вивчити параграф 42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Тестові завдання ст. 185 (1-8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*Тестові завдання ст. 185 (9)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ffff"/>
                </a:solidFill>
                <a:latin typeface="Calibri"/>
              </a:rPr>
              <a:t>Корекційна картк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M:\НАТАША урок 2011 весна\123.jpg"/>
          <p:cNvPicPr/>
          <p:nvPr/>
        </p:nvPicPr>
        <p:blipFill>
          <a:blip r:embed="rId1"/>
          <a:stretch/>
        </p:blipFill>
        <p:spPr>
          <a:xfrm>
            <a:off x="1739880" y="0"/>
            <a:ext cx="56563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2857680" y="187200"/>
            <a:ext cx="307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127c2b"/>
                </a:solidFill>
                <a:latin typeface="Times New Roman"/>
                <a:ea typeface="Times New Roman"/>
              </a:rPr>
              <a:t>Клас Плазу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M:\НАТАША урок 2011 весна\Картинки\xameleony-3.jpg"/>
          <p:cNvPicPr/>
          <p:nvPr/>
        </p:nvPicPr>
        <p:blipFill>
          <a:blip r:embed="rId1"/>
          <a:stretch/>
        </p:blipFill>
        <p:spPr>
          <a:xfrm>
            <a:off x="20520" y="0"/>
            <a:ext cx="90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Helia\Мои документы\НАТАША урок 2011 весна\Phrynocephalus_mystaceus агама ушастая.jpg"/>
          <p:cNvPicPr/>
          <p:nvPr/>
        </p:nvPicPr>
        <p:blipFill>
          <a:blip r:embed="rId1"/>
          <a:stretch/>
        </p:blipFill>
        <p:spPr>
          <a:xfrm>
            <a:off x="0" y="3500280"/>
            <a:ext cx="503856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Helia\Мои документы\НАТАША урок 2011 весна\игуана.jpg"/>
          <p:cNvPicPr/>
          <p:nvPr/>
        </p:nvPicPr>
        <p:blipFill>
          <a:blip r:embed="rId2"/>
          <a:stretch/>
        </p:blipFill>
        <p:spPr>
          <a:xfrm>
            <a:off x="5394240" y="0"/>
            <a:ext cx="3749760" cy="300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C:\Documents and Settings\Helia\Мои документы\НАТАША урок 2011 весна\геккон-токи-крупным-планом.jpg"/>
          <p:cNvPicPr/>
          <p:nvPr/>
        </p:nvPicPr>
        <p:blipFill>
          <a:blip r:embed="rId3"/>
          <a:stretch/>
        </p:blipFill>
        <p:spPr>
          <a:xfrm>
            <a:off x="500040" y="1265400"/>
            <a:ext cx="4071960" cy="2092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Documents and Settings\Helia\Мои документы\НАТАША урок 2011 весна\xameleony-6.jpg"/>
          <p:cNvPicPr/>
          <p:nvPr/>
        </p:nvPicPr>
        <p:blipFill>
          <a:blip r:embed="rId4"/>
          <a:stretch/>
        </p:blipFill>
        <p:spPr>
          <a:xfrm>
            <a:off x="5140440" y="3841920"/>
            <a:ext cx="4003560" cy="2658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0" y="0"/>
            <a:ext cx="5429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 ЛУСКАТІ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ідряд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714760" y="278604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357880" y="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Ігуа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0" y="6303960"/>
            <a:ext cx="18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143680" y="3857760"/>
            <a:ext cx="200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амеле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Helia\Мои документы\НАТАША урок 2011 весна\желтопуз.JPG"/>
          <p:cNvPicPr/>
          <p:nvPr/>
        </p:nvPicPr>
        <p:blipFill>
          <a:blip r:embed="rId1"/>
          <a:stretch/>
        </p:blipFill>
        <p:spPr>
          <a:xfrm>
            <a:off x="0" y="1571760"/>
            <a:ext cx="7048440" cy="528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Helia\Мои документы\НАТАША урок 2011 весна\веретенница.jpg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0" y="357120"/>
            <a:ext cx="4572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НОГІ ЯЩІРК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072200" y="6303960"/>
            <a:ext cx="20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овтопу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500880" y="2857680"/>
            <a:ext cx="264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етільниц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Helia\Мои документы\НАТАША урок 2011 весна\варан 2.jpg"/>
          <p:cNvPicPr/>
          <p:nvPr/>
        </p:nvPicPr>
        <p:blipFill>
          <a:blip r:embed="rId1"/>
          <a:stretch/>
        </p:blipFill>
        <p:spPr>
          <a:xfrm>
            <a:off x="2786040" y="2089080"/>
            <a:ext cx="6357960" cy="476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M:\НАТАША урок 2011 весна\Картинки\гекон карликовый 2.jpg"/>
          <p:cNvPicPr/>
          <p:nvPr/>
        </p:nvPicPr>
        <p:blipFill>
          <a:blip r:embed="rId2"/>
          <a:stretch/>
        </p:blipFill>
        <p:spPr>
          <a:xfrm>
            <a:off x="0" y="0"/>
            <a:ext cx="4597560" cy="2768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572000" y="0"/>
            <a:ext cx="45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ликов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ко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0" y="5842080"/>
            <a:ext cx="2786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одськ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14200" y="19288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звинені кінців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іло вкрите роговими лус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ібні, не диференційовані зуб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рухомі пові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тні до автотомії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Ряд ЛУСКАТІ</a:t>
            </a:r>
            <a:br>
              <a:rPr sz="5400"/>
            </a:br>
            <a:r>
              <a:rPr b="1" lang="uk-UA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ідряд ЯЩІР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аращук Н. А.</dc:creator>
  <dc:description>Презентація до уроку "Різноманітність, значення та охорона плазунів" - Паращук Н. А., НВО №9, м. Хмельницький, Україна.</dc:description>
  <dc:language>en-US</dc:language>
  <cp:lastModifiedBy>Helia</cp:lastModifiedBy>
  <dcterms:modified xsi:type="dcterms:W3CDTF">2011-07-15T19:56:01Z</dcterms:modified>
  <cp:revision>197</cp:revision>
  <dc:subject>Різноманітність, значення та охорона плазунів</dc:subject>
  <dc:title>Презент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20000000000001024140</vt:lpwstr>
  </property>
</Properties>
</file>