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F5C3-9002-4877-9CA1-3206CFCF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0B3-728F-48BE-9230-E222F6D0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162-1D63-4C8F-B134-3CBFB788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60E-3112-43DC-AE8C-B219DB1F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3873-C946-48B9-A303-4B6BD41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D08-C086-4EC1-957D-C6D2A8E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9A2-8D8C-4D12-865C-988DF4BF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30C-AC37-4879-B710-4EE87FF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ACE-A9B0-444E-9021-2245DD9F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BDF-DB49-4FFC-8108-CDD9905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F31-747E-41D7-99D3-266617B7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B70-4050-449B-B1F6-D3AB81A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6C3D-7216-47B1-99DF-24951B147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elia\Мои документы\НАТАША урок 2011 весна\кобра очковая.jpg"/>
          <p:cNvPicPr/>
          <p:nvPr/>
        </p:nvPicPr>
        <p:blipFill>
          <a:blip r:embed="rId1"/>
          <a:stretch/>
        </p:blipFill>
        <p:spPr>
          <a:xfrm>
            <a:off x="142920" y="228600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Helia\Мои документы\НАТАША урок 2011 весна\гремучая змея.jpg"/>
          <p:cNvPicPr/>
          <p:nvPr/>
        </p:nvPicPr>
        <p:blipFill>
          <a:blip r:embed="rId2"/>
          <a:stretch/>
        </p:blipFill>
        <p:spPr>
          <a:xfrm>
            <a:off x="3689280" y="3214800"/>
            <a:ext cx="545472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Helia\Мои документы\НАТАША урок 2011 весна\Echis_carinatus_sal песчаная эфу.jpg"/>
          <p:cNvPicPr/>
          <p:nvPr/>
        </p:nvPicPr>
        <p:blipFill>
          <a:blip r:embed="rId3"/>
          <a:stretch/>
        </p:blipFill>
        <p:spPr>
          <a:xfrm>
            <a:off x="3571920" y="142920"/>
            <a:ext cx="314172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Helia\Мои документы\НАТАША урок 2011 весна\морская змея 1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071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0" y="571680"/>
            <a:ext cx="3571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ЗМІ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071800" y="61437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32148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му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929280" y="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500800" y="214308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M:\НАТАША урок 2011 весна\Картинки\скелет змеи.jpg"/>
          <p:cNvPicPr/>
          <p:nvPr/>
        </p:nvPicPr>
        <p:blipFill>
          <a:blip r:embed="rId1"/>
          <a:stretch/>
        </p:blipFill>
        <p:spPr>
          <a:xfrm>
            <a:off x="0" y="1996920"/>
            <a:ext cx="6357960" cy="48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M:\НАТАША урок 2011 весна\Картинки\гадюка.jpg"/>
          <p:cNvPicPr/>
          <p:nvPr/>
        </p:nvPicPr>
        <p:blipFill>
          <a:blip r:embed="rId2"/>
          <a:stretch/>
        </p:blipFill>
        <p:spPr>
          <a:xfrm>
            <a:off x="600084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:\НАТАША урок 2011 весна\Картинки\Eierschlange_frisst_Zwergwachtelei.jpg"/>
          <p:cNvPicPr/>
          <p:nvPr/>
        </p:nvPicPr>
        <p:blipFill>
          <a:blip r:embed="rId3"/>
          <a:stretch/>
        </p:blipFill>
        <p:spPr>
          <a:xfrm>
            <a:off x="6429240" y="714240"/>
            <a:ext cx="239076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:\НАТАША урок 2011 весна\Картинки\змея яйцеед.png"/>
          <p:cNvPicPr/>
          <p:nvPr/>
        </p:nvPicPr>
        <p:blipFill>
          <a:blip r:embed="rId4"/>
          <a:stretch/>
        </p:blipFill>
        <p:spPr>
          <a:xfrm>
            <a:off x="4929120" y="214200"/>
            <a:ext cx="24177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0" y="3571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ливос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ови зм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Helia\Мои документы\НАТАША урок 2011 весна\anaconda-kro.jpg"/>
          <p:cNvPicPr/>
          <p:nvPr/>
        </p:nvPicPr>
        <p:blipFill>
          <a:blip r:embed="rId1"/>
          <a:stretch/>
        </p:blipFill>
        <p:spPr>
          <a:xfrm>
            <a:off x="4929120" y="3929040"/>
            <a:ext cx="409572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143760" y="2428920"/>
            <a:ext cx="28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мін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іпу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:\НАТАША урок 2011 весна\сетчастый питон.jpg"/>
          <p:cNvPicPr/>
          <p:nvPr/>
        </p:nvPicPr>
        <p:blipFill>
          <a:blip r:embed="rId2"/>
          <a:stretch/>
        </p:blipFill>
        <p:spPr>
          <a:xfrm>
            <a:off x="71280" y="71280"/>
            <a:ext cx="5929560" cy="3587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2857680" y="712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ітчастий піт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:\НАТАША урок 2011 весна\барминский-слепун.jpg"/>
          <p:cNvPicPr/>
          <p:nvPr/>
        </p:nvPicPr>
        <p:blipFill>
          <a:blip r:embed="rId3"/>
          <a:stretch/>
        </p:blipFill>
        <p:spPr>
          <a:xfrm>
            <a:off x="6143760" y="71280"/>
            <a:ext cx="2857320" cy="236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:\НАТАША урок 2011 весна\Картинки\Serpentes_51.jpg"/>
          <p:cNvPicPr/>
          <p:nvPr/>
        </p:nvPicPr>
        <p:blipFill>
          <a:blip r:embed="rId4"/>
          <a:stretch/>
        </p:blipFill>
        <p:spPr>
          <a:xfrm>
            <a:off x="142920" y="3921120"/>
            <a:ext cx="47149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:\НАТАША урок 2011 весна\eskulapov-poloz-big.jpg"/>
          <p:cNvPicPr/>
          <p:nvPr/>
        </p:nvPicPr>
        <p:blipFill>
          <a:blip r:embed="rId1"/>
          <a:stretch/>
        </p:blipFill>
        <p:spPr>
          <a:xfrm>
            <a:off x="214200" y="3929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:\НАТАША урок 2011 весна\Vipera berus2.jpg"/>
          <p:cNvPicPr/>
          <p:nvPr/>
        </p:nvPicPr>
        <p:blipFill>
          <a:blip r:embed="rId3"/>
          <a:stretch/>
        </p:blipFill>
        <p:spPr>
          <a:xfrm>
            <a:off x="4143240" y="3970440"/>
            <a:ext cx="2643480" cy="263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286240" y="142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ії Поділ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:\НАТАША урок 2011 весна\медянка.jpg"/>
          <p:cNvPicPr/>
          <p:nvPr/>
        </p:nvPicPr>
        <p:blipFill>
          <a:blip r:embed="rId4"/>
          <a:stretch/>
        </p:blipFill>
        <p:spPr>
          <a:xfrm>
            <a:off x="4929120" y="1143000"/>
            <a:ext cx="405612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4929120" y="114300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42920" y="321480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ж звичай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86720" y="5572080"/>
            <a:ext cx="2000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ича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14200" y="3929040"/>
            <a:ext cx="36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4200" y="192852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цівки відсут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сутня грудна кліт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и загнуті наз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іки нерухомі, прозор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хоме сполучення щеле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ЗМ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4288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 кримськ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жовточере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еопард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чотирисмуг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степова східн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а книга України. </a:t>
            </a:r>
            <a:br>
              <a:rPr sz="4500"/>
            </a:b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зуни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M:\Відкритий урок 2-04-2011\kingdom2.jpg.gif"/>
          <p:cNvPicPr/>
          <p:nvPr/>
        </p:nvPicPr>
        <p:blipFill>
          <a:blip r:embed="rId1"/>
          <a:stretch/>
        </p:blipFill>
        <p:spPr>
          <a:xfrm>
            <a:off x="6143760" y="3786120"/>
            <a:ext cx="1904760" cy="267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:\Відкритий урок 2-04-2011\kingdom1-a83d5.jpg.gif"/>
          <p:cNvPicPr/>
          <p:nvPr/>
        </p:nvPicPr>
        <p:blipFill>
          <a:blip r:embed="rId2"/>
          <a:stretch/>
        </p:blipFill>
        <p:spPr>
          <a:xfrm>
            <a:off x="7000920" y="9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Documents and Settings\Helia\Мои документы\НАТАША урок 2011 весна\galapagos_islands-208734.jpg"/>
          <p:cNvPicPr/>
          <p:nvPr/>
        </p:nvPicPr>
        <p:blipFill>
          <a:blip r:embed="rId1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Helia\Мои документы\НАТАША урок 2011 весна\болотная черепаха.jpg"/>
          <p:cNvPicPr/>
          <p:nvPr/>
        </p:nvPicPr>
        <p:blipFill>
          <a:blip r:embed="rId2"/>
          <a:stretch/>
        </p:blipFill>
        <p:spPr>
          <a:xfrm>
            <a:off x="214200" y="1665360"/>
            <a:ext cx="2214720" cy="21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Helia\Мои документы\НАТАША урок 2011 весна\9215-1440x900.jpg"/>
          <p:cNvPicPr/>
          <p:nvPr/>
        </p:nvPicPr>
        <p:blipFill>
          <a:blip r:embed="rId3"/>
          <a:stretch/>
        </p:blipFill>
        <p:spPr>
          <a:xfrm>
            <a:off x="4441680" y="0"/>
            <a:ext cx="4702320" cy="29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Helia\Мои документы\НАТАША урок 2011 весна\чсерепаха степная.jpg"/>
          <p:cNvPicPr/>
          <p:nvPr/>
        </p:nvPicPr>
        <p:blipFill>
          <a:blip r:embed="rId4"/>
          <a:stretch/>
        </p:blipFill>
        <p:spPr>
          <a:xfrm>
            <a:off x="0" y="3929040"/>
            <a:ext cx="419256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85840"/>
            <a:ext cx="442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29240" y="6303960"/>
            <a:ext cx="27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пагоськ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30396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4200" y="328608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стковий панц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а клітина майже нерух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зубі щелепи, роговий дзьо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а мускулатура кінців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уть упродовж жит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Helia\Мои документы\НАТАША урок 2011 весна\крокодил гавиал.JPG"/>
          <p:cNvPicPr/>
          <p:nvPr/>
        </p:nvPicPr>
        <p:blipFill>
          <a:blip r:embed="rId1"/>
          <a:stretch/>
        </p:blipFill>
        <p:spPr>
          <a:xfrm>
            <a:off x="0" y="2143080"/>
            <a:ext cx="7072200" cy="471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Helia\Мои документы\НАТАША урок 2011 весна\Alligators алигаторы.jpg"/>
          <p:cNvPicPr/>
          <p:nvPr/>
        </p:nvPicPr>
        <p:blipFill>
          <a:blip r:embed="rId2"/>
          <a:stretch/>
        </p:blipFill>
        <p:spPr>
          <a:xfrm>
            <a:off x="6000840" y="328608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428760"/>
            <a:ext cx="43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КОДИ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0" y="628668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ві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358040" y="559584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іг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M:\НАТАША урок 2011 весна\caiman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7215120" y="257184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йм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іло вкрите роговими щит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пальцях задніх кінцівок плавальні перет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уби з корен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отирикамерне сер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обре розвинені легені та моз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зноманітність, значення та охорона плазунів.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:\НАТАША урок 2011 весна\Question_mark_alternate 2.jpg"/>
          <p:cNvPicPr/>
          <p:nvPr/>
        </p:nvPicPr>
        <p:blipFill>
          <a:blip r:embed="rId1"/>
          <a:stretch/>
        </p:blipFill>
        <p:spPr>
          <a:xfrm>
            <a:off x="71280" y="71280"/>
            <a:ext cx="8955360" cy="6715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ому плазуни пристосовані до життя в різних умовах, на всіх материках, крім Антарктиди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Відеоролик - Плазун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:\НАТАША урок 2011 весна\tufli-dolce-gabbana-1292494727_bg2.jpg"/>
          <p:cNvPicPr/>
          <p:nvPr/>
        </p:nvPicPr>
        <p:blipFill>
          <a:blip r:embed="rId1"/>
          <a:stretch/>
        </p:blipFill>
        <p:spPr>
          <a:xfrm>
            <a:off x="7000920" y="5143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:\НАТАША урок 2011 весна\bellaexotic-003-copy.jpg"/>
          <p:cNvPicPr/>
          <p:nvPr/>
        </p:nvPicPr>
        <p:blipFill>
          <a:blip r:embed="rId2"/>
          <a:stretch/>
        </p:blipFill>
        <p:spPr>
          <a:xfrm>
            <a:off x="7000920" y="3500280"/>
            <a:ext cx="2000160" cy="16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:\НАТАША урок 2011 весна\image001.gif"/>
          <p:cNvPicPr/>
          <p:nvPr/>
        </p:nvPicPr>
        <p:blipFill>
          <a:blip r:embed="rId3"/>
          <a:stretch/>
        </p:blipFill>
        <p:spPr>
          <a:xfrm>
            <a:off x="4714920" y="3786120"/>
            <a:ext cx="192888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:\НАТАША урок 2011 весна\97385243.jpg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:\НАТАША урок 2011 весна\564591371.jpg"/>
          <p:cNvPicPr/>
          <p:nvPr/>
        </p:nvPicPr>
        <p:blipFill>
          <a:blip r:embed="rId5"/>
          <a:stretch/>
        </p:blipFill>
        <p:spPr>
          <a:xfrm>
            <a:off x="-23760" y="3732120"/>
            <a:ext cx="4167000" cy="312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:\НАТАША урок 2011 весна\Zveri_22.jpg"/>
          <p:cNvPicPr/>
          <p:nvPr/>
        </p:nvPicPr>
        <p:blipFill>
          <a:blip r:embed="rId6"/>
          <a:stretch/>
        </p:blipFill>
        <p:spPr>
          <a:xfrm>
            <a:off x="1000080" y="571680"/>
            <a:ext cx="278604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НЯ ПЛАЗ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:\НАТАША урок 2011 весна\емблема2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5" descr="M:\НАТАША урок 2011 весна\Інформаційне поле 2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45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:\НАТАША урок 2011 весна\68742053_korolevskaya_molochnaya_zmeya_raznye_vidy_19861749_3_F.jpg"/>
          <p:cNvPicPr/>
          <p:nvPr/>
        </p:nvPicPr>
        <p:blipFill>
          <a:blip r:embed="rId1"/>
          <a:stretch/>
        </p:blipFill>
        <p:spPr>
          <a:xfrm>
            <a:off x="2214720" y="1928880"/>
            <a:ext cx="2428560" cy="160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:\НАТАША урок 2011 весна\800px-Nile_Crocodile_Side_View_2620px.jpg"/>
          <p:cNvPicPr/>
          <p:nvPr/>
        </p:nvPicPr>
        <p:blipFill>
          <a:blip r:embed="rId2"/>
          <a:stretch/>
        </p:blipFill>
        <p:spPr>
          <a:xfrm>
            <a:off x="5713560" y="5429160"/>
            <a:ext cx="330660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:\НАТАША урок 2011 весна\Animals_Reptiles_Chameleon_027204_.jpg"/>
          <p:cNvPicPr/>
          <p:nvPr/>
        </p:nvPicPr>
        <p:blipFill>
          <a:blip r:embed="rId3"/>
          <a:stretch/>
        </p:blipFill>
        <p:spPr>
          <a:xfrm>
            <a:off x="4417920" y="3643200"/>
            <a:ext cx="2511360" cy="157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:\НАТАША урок 2011 весна\Galapagos_giant_tortoise_Geochelone_elephantopus.jpg"/>
          <p:cNvPicPr/>
          <p:nvPr/>
        </p:nvPicPr>
        <p:blipFill>
          <a:blip r:embed="rId4"/>
          <a:stretch/>
        </p:blipFill>
        <p:spPr>
          <a:xfrm>
            <a:off x="142920" y="142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714760" y="142920"/>
            <a:ext cx="221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пагось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714760" y="593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,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64328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50012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929280" y="3643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71960" y="621504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льсь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071960" y="57150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=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,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:\НАТАША урок 2011 весна\big smile.jpg"/>
          <p:cNvPicPr/>
          <p:nvPr/>
        </p:nvPicPr>
        <p:blipFill>
          <a:blip r:embed="rId1"/>
          <a:stretch/>
        </p:blipFill>
        <p:spPr>
          <a:xfrm>
            <a:off x="142920" y="7128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M:\НАТАША урок 2011 весна\Емоційна пауза\54983-1440x90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ознайомитись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з різноманітністю плазунів, видами поширеними в Україні, власному регіоні та рідкісними видами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значи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роль плазунів в екосистемах, їх значення для людини; причини, що зумовлюють необхідність охорони плазунів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ховува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у собі почуття любові до природи та відповідальність за стан довкілля.</a:t>
            </a:r>
            <a:br>
              <a:rPr sz="14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214200"/>
            <a:ext cx="9144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: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:\НАТАША урок 2011 весна\Емоційна пауза\437937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НАТАША урок 2011 весна\Емоційна пауза\5351517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:\НАТАША урок 2011 весна\Емоційна пауза\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НАТАША урок 2011 весна\Емоційна пауза\1219575051_6.jpg"/>
          <p:cNvPicPr/>
          <p:nvPr/>
        </p:nvPicPr>
        <p:blipFill>
          <a:blip r:embed="rId1"/>
          <a:stretch/>
        </p:blipFill>
        <p:spPr>
          <a:xfrm>
            <a:off x="2428920" y="17640"/>
            <a:ext cx="450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:\НАТАША урок 2011 весна\Емоційна пауза\2780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:\НАТАША урок 2011 весна\Емоційна пауза\1270023308_1270011832_00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:\НАТАША урок 2011 весна\Емоційна пауза\71943608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:\НАТАША урок 2011 весна\Емоційна пауза\94878546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ас Плазуни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599840"/>
            <a:ext cx="9144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Дзьобоголов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найдав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консерватив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числен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високоорганізов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є завданн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920" y="15717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Вивчити параграф 4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Тестові завдання ст. 185 (1-8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*Тестові завдання ст. 185 (9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Корекційна карт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:\НАТАША урок 2011 весна\123.jpg"/>
          <p:cNvPicPr/>
          <p:nvPr/>
        </p:nvPicPr>
        <p:blipFill>
          <a:blip r:embed="rId1"/>
          <a:stretch/>
        </p:blipFill>
        <p:spPr>
          <a:xfrm>
            <a:off x="17398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857680" y="18720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127c2b"/>
                </a:solidFill>
                <a:latin typeface="Times New Roman"/>
                <a:ea typeface="Times New Roman"/>
              </a:rPr>
              <a:t>Клас Плазу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:\НАТАША урок 2011 весна\Картинки\xameleony-3.jpg"/>
          <p:cNvPicPr/>
          <p:nvPr/>
        </p:nvPicPr>
        <p:blipFill>
          <a:blip r:embed="rId1"/>
          <a:stretch/>
        </p:blipFill>
        <p:spPr>
          <a:xfrm>
            <a:off x="2052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Helia\Мои документы\НАТАША урок 2011 весна\Phrynocephalus_mystaceus агама ушастая.jpg"/>
          <p:cNvPicPr/>
          <p:nvPr/>
        </p:nvPicPr>
        <p:blipFill>
          <a:blip r:embed="rId1"/>
          <a:stretch/>
        </p:blipFill>
        <p:spPr>
          <a:xfrm>
            <a:off x="0" y="3500280"/>
            <a:ext cx="50385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Helia\Мои документы\НАТАША урок 2011 весна\игуана.jpg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Helia\Мои документы\НАТАША урок 2011 весна\геккон-токи-крупным-планом.jpg"/>
          <p:cNvPicPr/>
          <p:nvPr/>
        </p:nvPicPr>
        <p:blipFill>
          <a:blip r:embed="rId3"/>
          <a:stretch/>
        </p:blipFill>
        <p:spPr>
          <a:xfrm>
            <a:off x="500040" y="1265400"/>
            <a:ext cx="4071960" cy="209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Helia\Мои документы\НАТАША урок 2011 весна\xameleony-6.jpg"/>
          <p:cNvPicPr/>
          <p:nvPr/>
        </p:nvPicPr>
        <p:blipFill>
          <a:blip r:embed="rId4"/>
          <a:stretch/>
        </p:blipFill>
        <p:spPr>
          <a:xfrm>
            <a:off x="5140440" y="3841920"/>
            <a:ext cx="400356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0"/>
            <a:ext cx="5429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14760" y="2786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57880" y="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гу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630396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43680" y="3857760"/>
            <a:ext cx="20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меле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Helia\Мои документы\НАТАША урок 2011 весна\желтопуз.JPG"/>
          <p:cNvPicPr/>
          <p:nvPr/>
        </p:nvPicPr>
        <p:blipFill>
          <a:blip r:embed="rId1"/>
          <a:stretch/>
        </p:blipFill>
        <p:spPr>
          <a:xfrm>
            <a:off x="0" y="1571760"/>
            <a:ext cx="7048440" cy="52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Helia\Мои документы\НАТАША урок 2011 весна\веретенница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35712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ОГІ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072200" y="630396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500880" y="285768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етільниц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elia\Мои документы\НАТАША урок 2011 весна\варан 2.jpg"/>
          <p:cNvPicPr/>
          <p:nvPr/>
        </p:nvPicPr>
        <p:blipFill>
          <a:blip r:embed="rId1"/>
          <a:stretch/>
        </p:blipFill>
        <p:spPr>
          <a:xfrm>
            <a:off x="2786040" y="208908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M:\НАТАША урок 2011 весна\Картинки\гекон карликовый 2.jpg"/>
          <p:cNvPicPr/>
          <p:nvPr/>
        </p:nvPicPr>
        <p:blipFill>
          <a:blip r:embed="rId2"/>
          <a:stretch/>
        </p:blipFill>
        <p:spPr>
          <a:xfrm>
            <a:off x="0" y="0"/>
            <a:ext cx="4597560" cy="276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ико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842080"/>
            <a:ext cx="278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д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і кінців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іло вкрите роговими лус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ібні, не диференційовані зуб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рухомі пові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тні до автотомії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ЯЩ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щук Н. А.</dc:creator>
  <dc:description>Презентація до уроку "Різноманітність, значення та охорона плазунів" - Паращук Н. А., НВО №9, м. Хмельницький, Україна.</dc:description>
  <dc:language>en-US</dc:language>
  <cp:lastModifiedBy>Helia</cp:lastModifiedBy>
  <dcterms:modified xsi:type="dcterms:W3CDTF">2011-07-15T19:56:01Z</dcterms:modified>
  <cp:revision>197</cp:revision>
  <dc:subject>Різноманітність, значення та охорона плазунів</dc:subject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0000000000001024140</vt:lpwstr>
  </property>
</Properties>
</file>