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5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4.jpeg" ContentType="image/jpeg"/>
  <Override PartName="/ppt/media/image15.png" ContentType="image/png"/>
  <Override PartName="/ppt/media/image14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b75b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B9E0-550C-4CDD-907F-1E6149E701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304D-8D6F-4073-89FA-7E7AF81FACF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25D2-94BC-4000-95F7-F4643AFD6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A965-D16B-47F8-AC3E-D6061215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3298-71A0-47AA-96CE-D701DDCBF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C2B2-F786-49DD-B2C7-B8515905C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3D62-EF28-4962-B64D-7BD18D90C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2EE1-D67A-43D6-9AE1-2BD2692B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CEFE-F72F-4769-A393-D00ACBF6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6BE7-D5B5-4D45-A956-FDA00541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3D75-9240-46D3-9A0F-502E7752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73DFB-6E0E-4B97-AE77-21FE1487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E515-E2E1-4ADF-ACE5-8F4D382E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B474-7CC7-42CA-82C2-46A604A7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2781-73CD-4F2D-A739-F97FFA0A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29A9-8C7F-49F2-B387-B331C293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AEC4-D54E-496C-B798-FE96EAD4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816B-B270-4DE1-8B58-9509EE797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552D-EA09-47CC-BE22-F61616604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9CDDC-D4A5-4979-B2CE-16BD53F88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18DD7-043E-47EE-A767-B1E8DCF3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18ACC-F315-455F-B3F1-F99213B5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359CE-BE70-4EDB-B2BC-9B1366F7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DC357-CA37-4E11-9D07-ADD06D03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A37A-AA5C-4F51-9AFB-000FC593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78EDA-7199-4C04-97A1-059CB585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4AF6F-E616-429E-8C2B-D544B93F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F2056-DDF2-417E-A1C8-82A2FC13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83356-15C2-4CD7-AC79-8574C7C8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50605-2300-4098-88A9-513D3248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6DA40-8303-403A-B891-B8A64D660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7D406-AEFA-422E-B1BE-7A27F2228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C6A5B-A2B4-4D3E-BAAF-B5E6EF1D0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DF7D1-16CC-4FAD-803A-56F006E9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3B3DC-5CAC-457D-9CD6-0E7B2EE1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C752-E47E-4D51-A939-7D355210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D29C5-DF4A-40D5-A585-C4A65781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8DB63-3175-4022-AEB1-23C0606D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047AE-B70B-4F42-A727-E1AE9C18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85F2A-6C58-433E-9252-483B1AA4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269B1-BEE9-4B3F-853B-00911355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94DB3-2CB5-4B60-9537-D0BC01EF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B4016-9102-4770-AD67-62BEE0A7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F9A04-3A1F-4C00-80F3-7BCEA973E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1BF1E-CE75-4876-8AEE-3776D9001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85636-7B6C-4F20-90E0-651371D76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166B-D164-4A66-8C87-841DCF54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40A90-1C57-4272-885B-83A0FD89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5DF18-01F0-44B9-B363-29F54F6E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A6D33-BB87-47D1-8D3A-ED5350D7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1A883-7173-4C96-876F-43003B5D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22121-5F28-4187-A903-095BD32E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E3EE9-EFD5-498C-AC0C-3C78B40C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23F66-D373-4381-8291-0083A7A2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C7258-4B6D-4CA0-9769-32319F99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4C027-3444-467F-9449-6EF1CDDC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7A10A-B7C1-4F52-9DFF-849329EBE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83C4-0DFC-48E8-9165-190A0351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35448-EB8F-4C78-A940-9626C20E5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B0591-96CA-4267-8065-22F20BA61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04292-FE3E-42DE-9DCA-4C311E8D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BD365-BF38-43F6-9E03-20154C15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E1416-31C2-46CA-B4F8-B7AFCBC5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28BF4-718C-4053-8FFE-17AB27E0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4E35F-01C7-4922-9D7C-445FD8C5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A504C-47D4-4255-994D-D24CA1E0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DD606-D3B4-4267-A2D6-CAAFE81F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7C99B-3C7D-4325-870F-28DCF21A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EED9-3794-4923-B89F-541514C9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4DCDC-532C-4577-A912-814FC8E3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32799-7BB7-491D-907F-8DB45F5D8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74CB1-B825-4BE5-A14F-EB0839F20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CC915-AE82-4C98-B68E-89E7296F4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06D1C-AF38-4767-BBB9-F9E0CAE6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8916A-311D-4CC2-97DB-B81BBFF5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CFAEA-B542-4CC9-8017-04B43F71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5D5E0-6C69-43E3-AD46-E8E5A0B8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D9D21-8064-4856-9915-BFB8F415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C3716-75C4-4986-A415-DFAA5D6F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AAEB-715A-487E-BBC2-22D0A92F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5D9CB-DA09-4266-B7A5-5AD06F7C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44054-0883-45A8-A1FC-31BB1570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A5DD9-4FAA-41B4-A24D-8FCC59DB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40307-841B-4E40-8529-9222F94FE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7BE49-EA37-49F0-B486-433F90129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F877F-E0F6-40D6-A43D-BB10D51B5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F2C88-C5E0-4F67-AA26-EF228567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BE471-FB50-4417-8B39-79BBE9A7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D7F47-D9E0-4E94-8F04-C27D8D80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185C3-E0D3-415B-BEC7-1F81D9DD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A341-7BC6-484B-A3A8-1B04394D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B2C49-56CB-4F26-A867-8C530BE1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9AD85-FA4B-4564-A6EE-A59AB8B3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4B33E-BE8A-4C98-9DDC-7A790409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27182-C528-4CB8-B812-042838D2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54584-82F1-4EA4-A934-6B33A8B0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15F66-903E-4D92-B758-2001F33F9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2BAFC-85FB-4E40-ACCE-7F006A47E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beec9">
                  <a:alpha val="1176"/>
                </a:srgbClr>
              </a:gs>
              <a:gs pos="100000">
                <a:srgbClr val="fbe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cb6b4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4be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b75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22e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bf8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5762-B43D-4273-99C2-3DFC0A084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beec9">
                  <a:alpha val="1176"/>
                </a:srgbClr>
              </a:gs>
              <a:gs pos="100000">
                <a:srgbClr val="fbe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cb6b4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4be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ac6300"/>
              </a:gs>
              <a:gs pos="100000">
                <a:srgbClr val="ffc16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b75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22e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bf8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FE65-2D90-45E8-9A48-8660B452CA69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beec9">
                  <a:alpha val="1176"/>
                </a:srgbClr>
              </a:gs>
              <a:gs pos="100000">
                <a:srgbClr val="fbe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cb6b4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4be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b75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22e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bf8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2D56-9235-42AB-8C09-472E275A42A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beec9">
                  <a:alpha val="1176"/>
                </a:srgbClr>
              </a:gs>
              <a:gs pos="100000">
                <a:srgbClr val="fbe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ac6300"/>
              </a:gs>
              <a:gs pos="100000">
                <a:srgbClr val="ffc16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4be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cb6b4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b75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22e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bf8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9C09-A089-4394-8A19-E8BEF46036A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beec9">
                  <a:alpha val="1176"/>
                </a:srgbClr>
              </a:gs>
              <a:gs pos="100000">
                <a:srgbClr val="fbe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cb6b4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4be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b75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22e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bf8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4194-9F40-42AA-8184-983002237B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b75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22e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bf8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9134-5EEC-4BFE-8A06-163FD0A68B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b75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22e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bf8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F229-9300-4EFD-B3FB-0ED0CD57AB6A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b75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22e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bf8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73BF-DF7A-4399-861F-45B3689CF82D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Заголовок 1" descr=""/>
          <p:cNvPicPr/>
          <p:nvPr/>
        </p:nvPicPr>
        <p:blipFill>
          <a:blip r:embed="rId1"/>
          <a:stretch/>
        </p:blipFill>
        <p:spPr>
          <a:xfrm>
            <a:off x="-6480" y="768240"/>
            <a:ext cx="9156960" cy="1481400"/>
          </a:xfrm>
          <a:prstGeom prst="rect">
            <a:avLst/>
          </a:prstGeom>
          <a:ln w="0">
            <a:noFill/>
          </a:ln>
        </p:spPr>
      </p:pic>
      <p:pic>
        <p:nvPicPr>
          <p:cNvPr id="353" name="Рисунок 5" descr="default.jpeg"/>
          <p:cNvPicPr/>
          <p:nvPr/>
        </p:nvPicPr>
        <p:blipFill>
          <a:blip r:embed="rId2"/>
          <a:stretch/>
        </p:blipFill>
        <p:spPr>
          <a:xfrm>
            <a:off x="1285920" y="2286000"/>
            <a:ext cx="635796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Заголовок 1" descr=""/>
          <p:cNvPicPr/>
          <p:nvPr/>
        </p:nvPicPr>
        <p:blipFill>
          <a:blip r:embed="rId1"/>
          <a:stretch/>
        </p:blipFill>
        <p:spPr>
          <a:xfrm>
            <a:off x="450720" y="49320"/>
            <a:ext cx="8242560" cy="135252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285840" y="149976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00"/>
                </a:solidFill>
                <a:latin typeface="Century Gothic"/>
              </a:rPr>
              <a:t>Потенціал стовбурових клітин — це можливість їхнього перетворення на дифференційовані типи клітин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00"/>
                </a:solidFill>
                <a:latin typeface="Century Gothic"/>
              </a:rPr>
              <a:t>Тотипотентні стовбурові клітини отримують унаслідок злиття сперматозоїду з яйцеклітиною. Клітини, що утворюються внаслідок декількох перших поділів заплідненої яйцеклітини теж тотипотентні. Ці клітини можуть перетворитися на ембріональні та екстраембріональні (поза-ембріональні) типи клітин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00"/>
                </a:solidFill>
                <a:latin typeface="Century Gothic"/>
              </a:rPr>
              <a:t>Плюрипотентні стовбурові клітини походять від тотипотентних клітин і можуть утворити клітини трьох зародкових шарів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00"/>
                </a:solidFill>
                <a:latin typeface="Century Gothic"/>
              </a:rPr>
              <a:t>Мультипотентні стовбурові клітини можуть утворювати лише близькі типи клітин (наприклад, гематопоетичні стовбурові клітини утворюють червоні кров'яні тільця, білі кров'яні тільця, тромбоцити, тощо)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00"/>
                </a:solidFill>
                <a:latin typeface="Century Gothic"/>
              </a:rPr>
              <a:t>Уніпотентні стовбурові клітини можуть перетворитися лише на один тип клітин, але мають здатність до самовідтворення, що відрізняє їх від «не стовбурових» клітин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Содержимое 3" descr="250px-Stem_cells_diagram_russia.png"/>
          <p:cNvPicPr/>
          <p:nvPr/>
        </p:nvPicPr>
        <p:blipFill>
          <a:blip r:embed="rId1"/>
          <a:stretch/>
        </p:blipFill>
        <p:spPr>
          <a:xfrm>
            <a:off x="1500120" y="142920"/>
            <a:ext cx="5643720" cy="5146560"/>
          </a:xfrm>
          <a:prstGeom prst="rect">
            <a:avLst/>
          </a:prstGeom>
          <a:ln w="0">
            <a:noFill/>
          </a:ln>
        </p:spPr>
      </p:pic>
      <p:sp>
        <p:nvSpPr>
          <p:cNvPr id="374" name="TextBox 4"/>
          <p:cNvSpPr/>
          <p:nvPr/>
        </p:nvSpPr>
        <p:spPr>
          <a:xfrm>
            <a:off x="142920" y="5286240"/>
            <a:ext cx="90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Плюрипотентні ембріональні стовбурові клітини походять з маси клітин усередені бластоцисти. Стовбурові клітини можуть дати початок будь-якій тканині тіла, крім плаценти. Тільки клітини морули є тотипотентними; вони можуть дати початок усім тканинам тіла, у тому числі і плаценті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Заголовок 1" descr=""/>
          <p:cNvPicPr/>
          <p:nvPr/>
        </p:nvPicPr>
        <p:blipFill>
          <a:blip r:embed="rId1"/>
          <a:stretch/>
        </p:blipFill>
        <p:spPr>
          <a:xfrm>
            <a:off x="-262080" y="-6480"/>
            <a:ext cx="9522000" cy="1414440"/>
          </a:xfrm>
          <a:prstGeom prst="rect">
            <a:avLst/>
          </a:prstGeom>
          <a:ln w="0">
            <a:noFill/>
          </a:ln>
        </p:spPr>
      </p:pic>
      <p:pic>
        <p:nvPicPr>
          <p:cNvPr id="376" name="Содержимое 3" descr="150px-Human_embryonic_stem_cells.png"/>
          <p:cNvPicPr/>
          <p:nvPr/>
        </p:nvPicPr>
        <p:blipFill>
          <a:blip r:embed="rId2"/>
          <a:stretch/>
        </p:blipFill>
        <p:spPr>
          <a:xfrm>
            <a:off x="142920" y="1143000"/>
            <a:ext cx="2928960" cy="5506920"/>
          </a:xfrm>
          <a:prstGeom prst="rect">
            <a:avLst/>
          </a:prstGeom>
          <a:ln w="0">
            <a:noFill/>
          </a:ln>
        </p:spPr>
      </p:pic>
      <p:sp>
        <p:nvSpPr>
          <p:cNvPr id="377" name="TextBox 5"/>
          <p:cNvSpPr/>
          <p:nvPr/>
        </p:nvSpPr>
        <p:spPr>
          <a:xfrm>
            <a:off x="3143160" y="1000080"/>
            <a:ext cx="60008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entury Gothic"/>
              </a:rPr>
              <a:t>Ембріональні стовбурові клітинні лінії (ЕС клітинні лінії) — це культури клітин, що походять від тканин епібласту (внутрішньої клітинної маси бластоцисти). Бластоциста — це ранній ембріон (приблизно 4 — 5 день ембріону людини); містить від 50 до 150 клітин. ЕС клітини є плюрипотентними, вони дають початок усім трьом шарам ембріону: ектодермі, ендодермі та мезодермі. Іншими словами, вони можуть перетворитися на усі типи клітин дорослого організму (тобто більше 200 типів клітин) під дією необхідних стимулів. ЕС клітини не можуть утворити екстра-ембріональні (позаембріональні) оболонки чи плаценту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8" name="TextBox 6"/>
          <p:cNvSpPr/>
          <p:nvPr/>
        </p:nvSpPr>
        <p:spPr>
          <a:xfrm>
            <a:off x="3143160" y="5214960"/>
            <a:ext cx="557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Century Gothic"/>
              </a:rPr>
              <a:t>Ембріональні стовбурові клітини людини. Нагорі (А): недиференційовані. Унизу (В): Нейрони — дочірні клітини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Заголовок 1" descr=""/>
          <p:cNvPicPr/>
          <p:nvPr/>
        </p:nvPicPr>
        <p:blipFill>
          <a:blip r:embed="rId1"/>
          <a:stretch/>
        </p:blipFill>
        <p:spPr>
          <a:xfrm>
            <a:off x="493560" y="-433440"/>
            <a:ext cx="8242560" cy="1408320"/>
          </a:xfrm>
          <a:prstGeom prst="rect">
            <a:avLst/>
          </a:prstGeom>
          <a:ln w="0">
            <a:noFill/>
          </a:ln>
        </p:spPr>
      </p:pic>
      <p:pic>
        <p:nvPicPr>
          <p:cNvPr id="380" name="Содержимое 3" descr="200px-Stem_cell_division_and_differentiation.svg.png"/>
          <p:cNvPicPr/>
          <p:nvPr/>
        </p:nvPicPr>
        <p:blipFill>
          <a:blip r:embed="rId2"/>
          <a:stretch/>
        </p:blipFill>
        <p:spPr>
          <a:xfrm>
            <a:off x="214200" y="1000080"/>
            <a:ext cx="2820960" cy="5643720"/>
          </a:xfrm>
          <a:prstGeom prst="rect">
            <a:avLst/>
          </a:prstGeom>
          <a:ln w="0">
            <a:noFill/>
          </a:ln>
        </p:spPr>
      </p:pic>
      <p:sp>
        <p:nvSpPr>
          <p:cNvPr id="381" name="TextBox 4"/>
          <p:cNvSpPr/>
          <p:nvPr/>
        </p:nvSpPr>
        <p:spPr>
          <a:xfrm>
            <a:off x="3000240" y="571680"/>
            <a:ext cx="61437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Для того, щоб самовідтворюватися і перетворюватися в інші типи клітин, стовбурові клітини розмножуються двома різними шляхами. Симетричний поділ, коли обидві дочірні клітини стовбурові, і асиметричний поділ, коли одна дочірня клітина стовбурова, а інша — клітина-попередник для інших типів клітин. Клітина-попередник має менше можливостей для самовідтворення, ніж стовбурова клітина. Клітина-попередник проходить декілька етапів поділу клітини перед тим, як остаточно диференціюватися у зрілу клітину. Цілком імовірно, що різниця на молекулярному рівні між симетричним та асиметричним поділом полягає у розподілі між дочірніми клітинами білкового рецептору, що знаходиться на цитоплазматичній мембрані. Проте цей механізм ще не достатньо досліджений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TextBox 5"/>
          <p:cNvSpPr/>
          <p:nvPr/>
        </p:nvSpPr>
        <p:spPr>
          <a:xfrm>
            <a:off x="3071880" y="5288040"/>
            <a:ext cx="57150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00"/>
                </a:solidFill>
                <a:latin typeface="Century Gothic"/>
              </a:rPr>
              <a:t>Поділ та дифференціація стовбурових клітин. </a:t>
            </a:r>
            <a:r>
              <a:rPr b="0" lang="en-US" sz="1500" spc="-1" strike="noStrike">
                <a:solidFill>
                  <a:srgbClr val="ffff00"/>
                </a:solidFill>
                <a:latin typeface="Century Gothic"/>
              </a:rPr>
              <a:t>A — </a:t>
            </a:r>
            <a:r>
              <a:rPr b="0" lang="ru-RU" sz="1500" spc="-1" strike="noStrike">
                <a:solidFill>
                  <a:srgbClr val="ffff00"/>
                </a:solidFill>
                <a:latin typeface="Century Gothic"/>
              </a:rPr>
              <a:t>стовбурові клітини; </a:t>
            </a:r>
            <a:r>
              <a:rPr b="0" lang="en-US" sz="1500" spc="-1" strike="noStrike">
                <a:solidFill>
                  <a:srgbClr val="ffff00"/>
                </a:solidFill>
                <a:latin typeface="Century Gothic"/>
              </a:rPr>
              <a:t>B — </a:t>
            </a:r>
            <a:r>
              <a:rPr b="0" lang="ru-RU" sz="1500" spc="-1" strike="noStrike">
                <a:solidFill>
                  <a:srgbClr val="ffff00"/>
                </a:solidFill>
                <a:latin typeface="Century Gothic"/>
              </a:rPr>
              <a:t>клітина-попередник; </a:t>
            </a:r>
            <a:r>
              <a:rPr b="0" lang="en-US" sz="1500" spc="-1" strike="noStrike">
                <a:solidFill>
                  <a:srgbClr val="ffff00"/>
                </a:solidFill>
                <a:latin typeface="Century Gothic"/>
              </a:rPr>
              <a:t>C — </a:t>
            </a:r>
            <a:r>
              <a:rPr b="0" lang="ru-RU" sz="1500" spc="-1" strike="noStrike">
                <a:solidFill>
                  <a:srgbClr val="ffff00"/>
                </a:solidFill>
                <a:latin typeface="Century Gothic"/>
              </a:rPr>
              <a:t>дифференційована клітина; 1 — симетричний поділ стовбурових клітин; 2 — асиметричний поділ стовбурових клітин; 3 — поділ клітини-попередника; 4 — кінцева (термінальна) дифференціація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Заголовок 1" descr=""/>
          <p:cNvPicPr/>
          <p:nvPr/>
        </p:nvPicPr>
        <p:blipFill>
          <a:blip r:embed="rId1"/>
          <a:stretch/>
        </p:blipFill>
        <p:spPr>
          <a:xfrm>
            <a:off x="353880" y="-231840"/>
            <a:ext cx="8240760" cy="135432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-360" y="1071360"/>
            <a:ext cx="600084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3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Century Gothic"/>
              </a:rPr>
              <a:t>— </a:t>
            </a:r>
            <a:r>
              <a:rPr b="0" lang="ru-RU" sz="1400" spc="-1" strike="noStrike">
                <a:solidFill>
                  <a:srgbClr val="ffff00"/>
                </a:solidFill>
                <a:latin typeface="Century Gothic"/>
              </a:rPr>
              <a:t>це недифференційовані клітини, що розповсюджені по всьому тілу. Вони розмножуються і заміщують клітини, що померли, та відновлюють пошкоджені тканини тіла. Ці клітини відносяться до соматичних (від грецького слова </a:t>
            </a:r>
            <a:r>
              <a:rPr b="0" lang="el-GR" sz="1400" spc="-1" strike="noStrike">
                <a:solidFill>
                  <a:srgbClr val="ffff00"/>
                </a:solidFill>
                <a:latin typeface="Century Gothic"/>
              </a:rPr>
              <a:t>Σωματικ</a:t>
            </a:r>
            <a:r>
              <a:rPr b="0" lang="en-US" sz="1400" spc="-1" strike="noStrike">
                <a:solidFill>
                  <a:srgbClr val="ffff00"/>
                </a:solidFill>
                <a:latin typeface="Century Gothic"/>
              </a:rPr>
              <a:t>ó</a:t>
            </a:r>
            <a:r>
              <a:rPr b="0" lang="el-GR" sz="1400" spc="-1" strike="noStrike">
                <a:solidFill>
                  <a:srgbClr val="ffff00"/>
                </a:solidFill>
                <a:latin typeface="Century Gothic"/>
              </a:rPr>
              <a:t>ς, </a:t>
            </a:r>
            <a:r>
              <a:rPr b="0" lang="ru-RU" sz="1400" spc="-1" strike="noStrike">
                <a:solidFill>
                  <a:srgbClr val="ffff00"/>
                </a:solidFill>
                <a:latin typeface="Century Gothic"/>
              </a:rPr>
              <a:t>тобто тіло) стовбурових клітин; вони знаходяться у тілах як дітей, так і дорослих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Century Gothic"/>
              </a:rPr>
              <a:t>Основні дослідження стовбурових клітин дорослого організму пов'язані з визначенням їхньої здібності до необмеженого самовідтворення та їхнього потенціалу дифференціюватися. Багато клітинних ліній, що звуться стовбуровими клітинами дорослого організму, краще було б визначити як клітини-попередники, бо вони мають обмежені здібності до дифференціювання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Century Gothic"/>
              </a:rPr>
              <a:t>Уживання стовбурових клітин дорослого організму у дослідженнях та в медицині не викликає такі етичні питання, як уживання ембріональних стовбурових клітин. Одержання стовбурових клітин дорослого організму не пов'язане зі знищенням ембріону. Стовбурові клітини дорослого організму виділяють з тканин дорослих. Такі дослідження здебільшого проводилися із клітинами людини та модельних тварин — миші й пацюка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5" name="Рисунок 3" descr="Колонии клеток трофобластной стволовой (ТС) линии M. rossiaemeridionalis на фидерном слое первичных эмбриональных фибробластов мыши. a - увел. об.х10, ок.х4 b - увел. об.х2.5, ок.х4.jpg"/>
          <p:cNvPicPr/>
          <p:nvPr/>
        </p:nvPicPr>
        <p:blipFill>
          <a:blip r:embed="rId2"/>
          <a:stretch/>
        </p:blipFill>
        <p:spPr>
          <a:xfrm>
            <a:off x="6000840" y="571680"/>
            <a:ext cx="2928960" cy="5475240"/>
          </a:xfrm>
          <a:prstGeom prst="rect">
            <a:avLst/>
          </a:prstGeom>
          <a:ln w="0">
            <a:noFill/>
          </a:ln>
        </p:spPr>
      </p:pic>
      <p:sp>
        <p:nvSpPr>
          <p:cNvPr id="386" name="TextBox 4"/>
          <p:cNvSpPr/>
          <p:nvPr/>
        </p:nvSpPr>
        <p:spPr>
          <a:xfrm>
            <a:off x="5286240" y="6072120"/>
            <a:ext cx="38577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entury Gothic"/>
              </a:rPr>
              <a:t>Колонии клеток трофобластной стволовой (ТС) линии M. rossiaemeridionalis на фидерном слое первичных эмбриональных фибробластов мыши. a - увел.: об.х10, ок.х4 b - увел.: об.х2.5, ок.х4</a:t>
            </a: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Содержимое 3" descr="300px-Mouse_embryonic_stem_cells.jpg"/>
          <p:cNvPicPr/>
          <p:nvPr/>
        </p:nvPicPr>
        <p:blipFill>
          <a:blip r:embed="rId1"/>
          <a:stretch/>
        </p:blipFill>
        <p:spPr>
          <a:xfrm>
            <a:off x="1357200" y="142920"/>
            <a:ext cx="6429600" cy="5443560"/>
          </a:xfrm>
          <a:prstGeom prst="rect">
            <a:avLst/>
          </a:prstGeom>
          <a:ln w="0">
            <a:noFill/>
          </a:ln>
        </p:spPr>
      </p:pic>
      <p:sp>
        <p:nvSpPr>
          <p:cNvPr id="388" name="TextBox 5"/>
          <p:cNvSpPr/>
          <p:nvPr/>
        </p:nvSpPr>
        <p:spPr>
          <a:xfrm>
            <a:off x="214200" y="5786280"/>
            <a:ext cx="857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entury Gothic"/>
              </a:rPr>
              <a:t>Ембріональні стовбурові клітини миші із флюоресцентним маркером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Содержимое 3" descr="9-3.jpg"/>
          <p:cNvPicPr/>
          <p:nvPr/>
        </p:nvPicPr>
        <p:blipFill>
          <a:blip r:embed="rId1"/>
          <a:stretch/>
        </p:blipFill>
        <p:spPr>
          <a:xfrm>
            <a:off x="642960" y="7920"/>
            <a:ext cx="79297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Заголовок 1" descr=""/>
          <p:cNvPicPr/>
          <p:nvPr/>
        </p:nvPicPr>
        <p:blipFill>
          <a:blip r:embed="rId1"/>
          <a:stretch/>
        </p:blipFill>
        <p:spPr>
          <a:xfrm>
            <a:off x="420840" y="-6480"/>
            <a:ext cx="8242200" cy="11527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285480" y="928800"/>
            <a:ext cx="8643960" cy="55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Дослідники у галузі медицини впевнені, що стовбурові клітини мають потенціал змінити зовнішній вигляд людських хвороб. Існує величезна кількість лікувальних методів, що опираються на стовбурові клітини. Проте більшість з них використовується досить рідко, бо це здебільшого експериментальні методи, до того ж вони не завжди ефективні. Медики-дослідники уважають, що стовбурові клітини можна використовувати для лікування онкозахворювань, хвороби Паркінсона, пошкоджень спинного мозку, м'язів, тощо. Тим часом досі ще не визначеною є суспільна та наукова позиція щодо етичного аспекту вживання стовбурових клітин у медицині.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Проте стовбурові клітини вже досить успішно використовуються у наукових дослідженнях, і далеко не всі вчені розділяють думку, що єдиною метою цих досліджень є клітинна терапія. Вони вважають, що дослідження стовбурових клітин є досить цінним і саме по собі.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Сьогодні в Україні дозволено проведення клінічних випробувань (Наказ МОЗ України № 630 «Про проведення клінічних випробувань стовбурових клітин», 2008 р.) з лікування наступних патологій із застосуванням стовбурових клітин: панкреонекроз, цироз печінки, гепатити, опікова хвороба, цукровий діабет </a:t>
            </a: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II </a:t>
            </a: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типу, розсіяний склероз, критична ішемія нижніх кінцівок. Першим, хто отримав право на проведення клінічних випробувань в галузі застосування стовбурових клітин в Україні, став Інститут клітинної терапії. За допомогою стовбурових клітин пуповинної крові вже успішно проведено лікування десятків пацієнтів з цими захворюваннями.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Заголовок 1" descr=""/>
          <p:cNvPicPr/>
          <p:nvPr/>
        </p:nvPicPr>
        <p:blipFill>
          <a:blip r:embed="rId1"/>
          <a:stretch/>
        </p:blipFill>
        <p:spPr>
          <a:xfrm>
            <a:off x="420840" y="-6480"/>
            <a:ext cx="8242200" cy="14144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7200" y="121392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6496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Century Gothic"/>
              </a:rPr>
              <a:t>Гістотехнології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26496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00"/>
                </a:solidFill>
                <a:latin typeface="Century Gothic"/>
              </a:rPr>
              <a:t>Основні напрямки створення нових технологій на основі культивування клітин і тканин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indent="26496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entury Gothic"/>
              </a:rPr>
              <a:t>Стовбурові клітини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26496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entury Gothic"/>
              </a:rPr>
              <a:t>Властивості стовбурових клітин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26496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entury Gothic"/>
              </a:rPr>
              <a:t>Визначення потенціалу стовбурових клітин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26496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entury Gothic"/>
              </a:rPr>
              <a:t>Ембріональні стовбурові клітини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26496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entury Gothic"/>
              </a:rPr>
              <a:t>Стовбурові клітини дорослого організму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26496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entury Gothic"/>
              </a:rPr>
              <a:t>Поділ стовбурових клітин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26496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entury Gothic"/>
              </a:rPr>
              <a:t>Використання у медицині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142920" y="142920"/>
            <a:ext cx="87868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80" indent="3445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ffff00"/>
                </a:solidFill>
                <a:latin typeface="Century Gothic"/>
              </a:rPr>
              <a:t>Тканинна інженерія займається вирощуванням культури тканин та створенням штучних органів.</a:t>
            </a:r>
            <a:br>
              <a:rPr sz="2700"/>
            </a:br>
            <a:r>
              <a:rPr b="0" lang="uk-UA" sz="2700" spc="-1" strike="noStrike">
                <a:solidFill>
                  <a:srgbClr val="ffff00"/>
                </a:solidFill>
                <a:latin typeface="Century Gothic"/>
              </a:rPr>
              <a:t>Спочатку відбирають донорський клітинний матеріал, виділяють тканинно-специфічні клітини, потім культивують їх. </a:t>
            </a:r>
            <a:br>
              <a:rPr sz="2700"/>
            </a:br>
            <a:r>
              <a:rPr b="0" lang="uk-UA" sz="2700" spc="-1" strike="noStrike">
                <a:solidFill>
                  <a:srgbClr val="ffff00"/>
                </a:solidFill>
                <a:latin typeface="Century Gothic"/>
              </a:rPr>
              <a:t>Клітини отриманої культури наносять на матрицю(виготовлена з різних біомаеріалів), після чого починається їх культивація.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7" name="Рисунок 5" descr=""/>
          <p:cNvPicPr/>
          <p:nvPr/>
        </p:nvPicPr>
        <p:blipFill>
          <a:blip r:embed="rId1"/>
          <a:stretch/>
        </p:blipFill>
        <p:spPr>
          <a:xfrm>
            <a:off x="642960" y="3214800"/>
            <a:ext cx="3357720" cy="342900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6" descr=""/>
          <p:cNvPicPr/>
          <p:nvPr/>
        </p:nvPicPr>
        <p:blipFill>
          <a:blip r:embed="rId2"/>
          <a:stretch/>
        </p:blipFill>
        <p:spPr>
          <a:xfrm>
            <a:off x="4786200" y="3143160"/>
            <a:ext cx="350064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Содержимое 3" descr="224a.jpg"/>
          <p:cNvPicPr/>
          <p:nvPr/>
        </p:nvPicPr>
        <p:blipFill>
          <a:blip r:embed="rId1"/>
          <a:stretch/>
        </p:blipFill>
        <p:spPr>
          <a:xfrm>
            <a:off x="4429080" y="214200"/>
            <a:ext cx="4448160" cy="6578640"/>
          </a:xfrm>
          <a:prstGeom prst="rect">
            <a:avLst/>
          </a:prstGeom>
          <a:ln w="0">
            <a:noFill/>
          </a:ln>
        </p:spPr>
      </p:pic>
      <p:sp>
        <p:nvSpPr>
          <p:cNvPr id="360" name="TextBox 4"/>
          <p:cNvSpPr/>
          <p:nvPr/>
        </p:nvSpPr>
        <p:spPr>
          <a:xfrm>
            <a:off x="285840" y="1500120"/>
            <a:ext cx="4000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00"/>
                </a:solidFill>
                <a:latin typeface="Century Gothic"/>
              </a:rPr>
              <a:t>Європейські вчені вивчають можливість утворення штучних сухожиль і зв’язок  з матеріалу, який використовує павук для будівництва своєї пувутини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Заголовок 1" descr=""/>
          <p:cNvPicPr/>
          <p:nvPr/>
        </p:nvPicPr>
        <p:blipFill>
          <a:blip r:embed="rId1"/>
          <a:stretch/>
        </p:blipFill>
        <p:spPr>
          <a:xfrm>
            <a:off x="244440" y="-30240"/>
            <a:ext cx="8448840" cy="18288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213840" y="1882440"/>
            <a:ext cx="8643960" cy="48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76040"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Century Gothic"/>
              </a:rPr>
              <a:t>Перше — </a:t>
            </a:r>
            <a:r>
              <a:rPr b="0" lang="uk-UA" sz="2000" spc="-1" strike="noStrike">
                <a:solidFill>
                  <a:srgbClr val="92d050"/>
                </a:solidFill>
                <a:latin typeface="Century Gothic"/>
              </a:rPr>
              <a:t>отримання промисловим шляхом цінних біологічно активних ре­човин. Так отримані мутантні клітинні лінії раувольфії змінної — продуценту індольних алкалоїдів, які містять у 10 разів більше цінного для медицини анти-ритмічного алкалоїду — аймаліну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176040"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2d050"/>
                </a:solidFill>
                <a:latin typeface="Century Gothic"/>
              </a:rPr>
              <a:t>Друге </a:t>
            </a:r>
            <a:r>
              <a:rPr b="0" lang="ru-RU" sz="2000" spc="-1" strike="noStrike">
                <a:solidFill>
                  <a:srgbClr val="92d050"/>
                </a:solidFill>
                <a:latin typeface="Century Gothic"/>
              </a:rPr>
              <a:t>— </a:t>
            </a:r>
            <a:r>
              <a:rPr b="0" lang="uk-UA" sz="2000" spc="-1" strike="noStrike">
                <a:solidFill>
                  <a:srgbClr val="92d050"/>
                </a:solidFill>
                <a:latin typeface="Century Gothic"/>
              </a:rPr>
              <a:t>використання тканинних і клітинних культур для швидкого кло-нального мікророзмноження та оздоровлення рослини. Мікроклональне роз­множення добре ведеться з картоплею, капустою, часником, томатами, цукро­вим буряком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176040"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2d050"/>
                </a:solidFill>
                <a:latin typeface="Century Gothic"/>
              </a:rPr>
              <a:t>Третю групу становлять технології, пов'язані з генетичними маніпуляціями на тканинах, клітинах, ізольованих протопластах. Тканинна інженерія подає на­дії на подолання чоловічого й жіночого безпліддя та розв'язання інших проблем, пов'язаних з функціональною діяльністю репродуктивної системи в людей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176040">
              <a:lnSpc>
                <a:spcPct val="80000"/>
              </a:lnSpc>
              <a:spcBef>
                <a:spcPts val="20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entury Gothic"/>
            </a:endParaRPr>
          </a:p>
          <a:p>
            <a:pPr indent="176040">
              <a:lnSpc>
                <a:spcPct val="80000"/>
              </a:lnSpc>
              <a:spcBef>
                <a:spcPts val="20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entury Gothic"/>
            </a:endParaRPr>
          </a:p>
          <a:p>
            <a:pPr indent="176040">
              <a:lnSpc>
                <a:spcPct val="80000"/>
              </a:lnSpc>
              <a:spcBef>
                <a:spcPts val="20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entury Gothic"/>
            </a:endParaRPr>
          </a:p>
          <a:p>
            <a:pPr indent="176040">
              <a:lnSpc>
                <a:spcPct val="80000"/>
              </a:lnSpc>
              <a:spcBef>
                <a:spcPts val="20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Содержимое 3" descr="04%20Pluripotent%20Stem%20Cells.jpg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Заголовок 1" descr=""/>
          <p:cNvPicPr/>
          <p:nvPr/>
        </p:nvPicPr>
        <p:blipFill>
          <a:blip r:embed="rId1"/>
          <a:stretch/>
        </p:blipFill>
        <p:spPr>
          <a:xfrm>
            <a:off x="19080" y="96840"/>
            <a:ext cx="9131400" cy="1281240"/>
          </a:xfrm>
          <a:prstGeom prst="rect">
            <a:avLst/>
          </a:prstGeom>
          <a:ln w="0">
            <a:noFill/>
          </a:ln>
        </p:spPr>
      </p:pic>
      <p:pic>
        <p:nvPicPr>
          <p:cNvPr id="365" name="Содержимое 3" descr="42-21808928_cell_600.jpg"/>
          <p:cNvPicPr/>
          <p:nvPr/>
        </p:nvPicPr>
        <p:blipFill>
          <a:blip r:embed="rId2"/>
          <a:stretch/>
        </p:blipFill>
        <p:spPr>
          <a:xfrm>
            <a:off x="1428840" y="1643040"/>
            <a:ext cx="6267240" cy="4000680"/>
          </a:xfrm>
          <a:prstGeom prst="rect">
            <a:avLst/>
          </a:prstGeom>
          <a:ln w="0">
            <a:noFill/>
          </a:ln>
        </p:spPr>
      </p:pic>
      <p:sp>
        <p:nvSpPr>
          <p:cNvPr id="366" name="TextBox 4"/>
          <p:cNvSpPr/>
          <p:nvPr/>
        </p:nvSpPr>
        <p:spPr>
          <a:xfrm>
            <a:off x="642960" y="592920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entury Gothic"/>
              </a:rPr>
              <a:t>Стовбурові клітини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142920" y="285840"/>
            <a:ext cx="8858160" cy="65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80" indent="3445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entury Gothic"/>
              </a:rPr>
              <a:t>Медики вперше зуміли продемонструвати повноцінну штучну тканину людських органів - кишечника - отриману за допомогою технології стовбурових клітин, яка знайде застосування як в лабораторних дослідженнях, так і в медичних цілях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19080" indent="3445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entury Gothic"/>
              </a:rPr>
              <a:t>Про це повідомляється в статті дослідників, опублікованій в журналі </a:t>
            </a:r>
            <a:r>
              <a:rPr b="0" lang="en-US" sz="2600" spc="-1" strike="noStrike">
                <a:solidFill>
                  <a:srgbClr val="ffff00"/>
                </a:solidFill>
                <a:latin typeface="Century Gothic"/>
              </a:rPr>
              <a:t>Nature. "</a:t>
            </a:r>
            <a:r>
              <a:rPr b="0" lang="ru-RU" sz="2600" spc="-1" strike="noStrike">
                <a:solidFill>
                  <a:srgbClr val="ffff00"/>
                </a:solidFill>
                <a:latin typeface="Century Gothic"/>
              </a:rPr>
              <a:t>Це перша робота, яка показала, що індуковані плюрипотентні стовбурові клітини в пробірці можуть бути перетворені в тканину людського організму з тривимірною структурою і складом тканини кишечнику", - сказав Джеймс Уеллс, провідний дослідник з Медичного центру Дитячої лікарні Цинцинатті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19080" indent="3445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entury Gothic"/>
              </a:rPr>
              <a:t>"Ми сподіваємося, що наша робота дасть надію людям, що страждають такими хворобами, як некротизуючий ентероколіт, синдром короткого кишечника, запальними захворюваннями цього органу та іншими хворобами", - додав учений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420840" y="-6480"/>
            <a:ext cx="8242200" cy="14144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214200" y="1000080"/>
            <a:ext cx="8715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ffc000"/>
                </a:solidFill>
                <a:latin typeface="Century Gothic"/>
              </a:rPr>
              <a:t>Стовбурові клітини сьогодні актуальна тема ними намагаються лікувати самі різноманітні захворювання і дивлячись на повідомлення в пресі, вони творять чудеса. «Здатні перетворюватися в різні тканини, вони самі знаходять «слабкі місця», відновлюючи тканини судин, залоз, м'язів, нервів» або «розрівнюють зморшки». Одним словом, в сучасну медицину – раціональну, аналітичну, розділено на багато гілок – спеціальностей знову повернувся давній образ панацеї. Незрозуміло чому стовбурові  клітини ще не вилікували всі на світі хвороби і не витіснили із обороту всі ліки. Що ж насправді уявляють собою ці чудо клітини?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0" name="Рисунок 5" descr="011.jpg"/>
          <p:cNvPicPr/>
          <p:nvPr/>
        </p:nvPicPr>
        <p:blipFill>
          <a:blip r:embed="rId2"/>
          <a:stretch/>
        </p:blipFill>
        <p:spPr>
          <a:xfrm>
            <a:off x="1714680" y="304812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13:50:53Z</dcterms:created>
  <dc:creator>Zver</dc:creator>
  <dc:description/>
  <dc:language>en-US</dc:language>
  <cp:lastModifiedBy>Admin</cp:lastModifiedBy>
  <dcterms:modified xsi:type="dcterms:W3CDTF">2011-03-02T10:05:06Z</dcterms:modified>
  <cp:revision>2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412000000000001024140</vt:lpwstr>
  </property>
</Properties>
</file>