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9.png" ContentType="image/png"/>
  <Override PartName="/ppt/media/image8.jpeg" ContentType="image/jpeg"/>
  <Override PartName="/ppt/media/image10.jpeg" ContentType="image/jpeg"/>
  <Override PartName="/ppt/media/image7.png" ContentType="image/png"/>
  <Override PartName="/ppt/media/image22.jpeg" ContentType="image/jpeg"/>
  <Override PartName="/ppt/media/image6.jpeg" ContentType="image/jpeg"/>
  <Override PartName="/ppt/media/image5.jpeg" ContentType="image/jpeg"/>
  <Override PartName="/ppt/media/image23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8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4.jpeg" ContentType="image/jpeg"/>
  <Override PartName="/ppt/media/image15.png" ContentType="image/png"/>
  <Override PartName="/ppt/media/image14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b75b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B213D-B472-4EE3-A4DD-C1A220A55C5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5B799-E39E-406C-ADDC-4908E593F0B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501F-3441-46DB-87F3-CD81B89CE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C7D3-8B60-4857-96AD-8A01E0CB5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78C3-AAC5-4C0A-BEF4-78753EE1B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6D0D-1438-4ADE-84C7-99D2846FD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7B413-46C7-46CB-BFD3-BD2696B8D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6BC69-6984-48E8-84B0-39F3B2C2C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814E6-CB15-45AE-A385-731EF789A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8C54D-9592-4B16-85EE-BB36FF238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042C0-9897-4621-9452-A586BB7EA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D8223-5B30-43FB-91E5-722C78316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27E43-71E7-4DED-A11A-2DF3B1FAF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8B28-0EE8-4295-BDAC-30A979699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CCDE9-81F9-4078-856A-5452E5884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DE9D4-59D4-4DDB-8845-606098DD4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505C4-3656-42B3-9E67-729A88590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CFDB1-9DC6-4DAD-8784-95BDDD18A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1C61E-84EF-4619-AA09-56AF61D43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F6EB8-ABD2-4128-9714-6E68CFE9D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091E2-71C8-4A45-AD9E-C4A8FAB81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C428B-21AA-489A-BD09-F935BC06C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83B95-DF72-4BF4-839C-44023FB33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968FB-23FA-4551-A941-3A3D3616B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1AAD-DEF8-4A62-957A-CAAA23D19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36E10-2114-47E4-8D26-7E56807F7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690AE-0162-4149-B369-D00DABDFE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D29CC-BA4B-448C-AEFE-4AF1D8F3A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336A2-DB2F-4115-B5F2-8AA87D696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CC2FF-4FA0-47C2-B85F-53153F01B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43993-DB1A-44E5-AFEE-A0CF7D698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6300F-B856-4871-A9D3-32B24BA7B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B5E5E-9390-4836-97FA-F9F546928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88BEE-DA06-4A98-B0D3-B1D3F68BD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A1505-8038-4BA8-8C28-4791037EA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CF1B-695E-4379-B4B8-42FBBF889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EB07A-620E-412F-AE14-9F9F04F8F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ACAAE-6AD6-490B-9AAE-0C9AEA27D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8A7067-B4BB-437D-8229-49C6B37CA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0B25C-9861-4985-96C7-B42D2F9BE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45CED-3D4B-4015-98D5-03600C3AF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D5510-E341-4423-A1B8-A669D6DF0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A424D-3245-42DC-968C-75E420613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D1107-CFC9-46BD-9C4C-E6552E500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315F9-506C-426A-9FA0-B5B41BFF2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F3C599-4811-4EB9-832A-6403AB767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F53A-67F9-4E00-A438-3E1FEDCFA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6D7CBB-0D9B-4948-A3E2-590E67FD4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037201-BBEE-4292-9788-03C0DAC15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0EF67B-43B1-443E-A727-3D4283FD4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69739B-9957-45C3-A3FC-641F4348B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393DBA-78AB-4B54-B7CC-FA1AE48D0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2092FB-7570-4051-8FA2-44E07E10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473F28-90E4-4BCC-BDA8-86B4FCF63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ECC669-C3EC-4FDF-A08E-A077992A2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747712-8C48-4FB1-85F3-ED2F67121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79DFD2-DBF0-4254-9006-B1852E551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1220-4025-4A06-BE74-0E1631980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D031C0-0966-4C47-818F-F87560033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6474FE-16F6-43D7-83F3-61C76AE91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FAEC13-A608-4F4A-91C9-98D422555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C7EEC0-E8AB-4828-B262-BED6CE530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96BB7F-EA12-4906-9E1F-94B2489C6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C4F332-F333-48F0-9047-FBCC6A5CE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86BF62-B8D9-450F-98CB-511B38176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E0DF18-57FD-4A74-AC63-4082CB680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5DC135-8B12-4169-822E-F3CBD693F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3151C6-C42C-46AC-9F46-D43E75128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EA8A-04EF-48CF-8C4C-D7922B456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E6640E-41D7-470E-8540-157A354C7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1791C2-50A8-4CC8-B211-5960C0A06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FC1C60-D069-4D7F-9CAC-211657C06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B9F04A-D806-4E53-98C7-6FF6AB67C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BB1D8E-AAC9-4584-98DE-A98798193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90BBC3-027D-459A-AFE9-407847358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5394B9-F732-4F65-A290-1BF059182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14FE29-73EA-482B-950F-0A98711DB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043095-856B-40E0-98F6-849A3BA88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C717A4-D6D1-4DB6-A2C6-74D9A0087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CAC8-929C-4DE0-A022-961BE0081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C1A53D-0C6E-4BC7-A00C-3C65151F1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A53A4E-CE73-4D77-950D-24D14ECC4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9800C8-2773-4C9D-A53A-2DC474995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4D6471-69C0-4534-A63A-9D4D9C643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0D4CFA-05B5-409C-A263-67A1A1DAD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C99AEC-24C3-41A1-B0C9-CF281F213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476EFE-2BBB-4A79-B9C0-E85E3E7B6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BBEBB1-4489-4712-8E72-81EBDC3A7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24DF5D-7E40-4C4C-BBEB-A6D4CF5B7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97D71C-F776-4CBE-ADD2-938CC3FA2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CA09-0B7D-44C7-82EA-B31B6A54C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64DDAE-8D7F-4E65-B66D-4F3C13692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FB10CD-4304-46A3-9F30-F4664077B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88495C-E14F-47E1-908B-2EBBBB937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1AF2CD-92DB-49D0-8E47-0920F700C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4BEB11-3ED7-4B4D-89A3-274076416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2203D8-10B5-4265-98DE-DAA191CCF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D4E97F-0FE8-4707-B3E7-C11871200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2411"/>
            </a:gs>
            <a:gs pos="100000">
              <a:srgbClr val="9171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beec9">
                  <a:alpha val="1176"/>
                </a:srgbClr>
              </a:gs>
              <a:gs pos="100000">
                <a:srgbClr val="fbeec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cb6b4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4be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b75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a22e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a2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a2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bf8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9825B-E518-4365-8AA2-169BC6994B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2411"/>
            </a:gs>
            <a:gs pos="100000">
              <a:srgbClr val="9171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beec9">
                  <a:alpha val="1176"/>
                </a:srgbClr>
              </a:gs>
              <a:gs pos="100000">
                <a:srgbClr val="fbeec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cb6b4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4be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Равнобедренный треугольник 6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ac6300"/>
              </a:gs>
              <a:gs pos="100000">
                <a:srgbClr val="ffc16b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b75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a22e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a2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a2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bf8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F07FD-DAA6-4FC4-9FAE-5B6D79EFB414}" type="slidenum"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2411"/>
            </a:gs>
            <a:gs pos="100000">
              <a:srgbClr val="9171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beec9">
                  <a:alpha val="1176"/>
                </a:srgbClr>
              </a:gs>
              <a:gs pos="100000">
                <a:srgbClr val="fbeec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cb6b4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4be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b75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a22e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a2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a2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bf8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9CBB9-C134-475F-AFA7-EA62EC475B3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8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beec9">
                  <a:alpha val="1176"/>
                </a:srgbClr>
              </a:gs>
              <a:gs pos="100000">
                <a:srgbClr val="fbeec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Равнобедренный треугольник 7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ac6300"/>
              </a:gs>
              <a:gs pos="100000">
                <a:srgbClr val="ffc16b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Прямая соединительная линия 10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4be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Прямая соединительная линия 9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cb6b4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b75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a22e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a2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a2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bf8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A8BCE-8024-40CD-A150-EC37C5E3CDF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2411"/>
            </a:gs>
            <a:gs pos="100000">
              <a:srgbClr val="9171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beec9">
                  <a:alpha val="1176"/>
                </a:srgbClr>
              </a:gs>
              <a:gs pos="100000">
                <a:srgbClr val="fbeec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cb6b4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4be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b75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a22e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a2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a2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bf8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27082-F68C-4280-BA96-5C27507F933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2411"/>
            </a:gs>
            <a:gs pos="100000">
              <a:srgbClr val="9171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b75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a22e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a2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a2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bf8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ED492-7135-4FDF-816A-7D74B2073B7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2411"/>
            </a:gs>
            <a:gs pos="100000">
              <a:srgbClr val="9171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b75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a22e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a2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a2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bf8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FFE91-54C4-4DEB-ACD5-C96113DB4857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b75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b75b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a22e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a2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a2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bf8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A8143-6A12-4E0D-B30A-E241DB99DC22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2411"/>
            </a:gs>
            <a:gs pos="100000">
              <a:srgbClr val="9171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Заголовок 1" descr=""/>
          <p:cNvPicPr/>
          <p:nvPr/>
        </p:nvPicPr>
        <p:blipFill>
          <a:blip r:embed="rId1"/>
          <a:stretch/>
        </p:blipFill>
        <p:spPr>
          <a:xfrm>
            <a:off x="-6480" y="768240"/>
            <a:ext cx="9156960" cy="1481400"/>
          </a:xfrm>
          <a:prstGeom prst="rect">
            <a:avLst/>
          </a:prstGeom>
          <a:ln w="0">
            <a:noFill/>
          </a:ln>
        </p:spPr>
      </p:pic>
      <p:pic>
        <p:nvPicPr>
          <p:cNvPr id="353" name="Рисунок 5" descr="default.jpeg"/>
          <p:cNvPicPr/>
          <p:nvPr/>
        </p:nvPicPr>
        <p:blipFill>
          <a:blip r:embed="rId2"/>
          <a:stretch/>
        </p:blipFill>
        <p:spPr>
          <a:xfrm>
            <a:off x="1285920" y="2286000"/>
            <a:ext cx="635796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2411"/>
            </a:gs>
            <a:gs pos="100000">
              <a:srgbClr val="9171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Заголовок 1" descr=""/>
          <p:cNvPicPr/>
          <p:nvPr/>
        </p:nvPicPr>
        <p:blipFill>
          <a:blip r:embed="rId1"/>
          <a:stretch/>
        </p:blipFill>
        <p:spPr>
          <a:xfrm>
            <a:off x="450720" y="49320"/>
            <a:ext cx="8242560" cy="135252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 txBox="1"/>
          <p:nvPr/>
        </p:nvSpPr>
        <p:spPr>
          <a:xfrm>
            <a:off x="285840" y="1499760"/>
            <a:ext cx="850104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00"/>
                </a:solidFill>
                <a:latin typeface="Century Gothic"/>
              </a:rPr>
              <a:t>Потенціал стовбурових клітин — це можливість їхнього перетворення на дифференційовані типи клітин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00"/>
                </a:solidFill>
                <a:latin typeface="Century Gothic"/>
              </a:rPr>
              <a:t>Тотипотентні стовбурові клітини отримують унаслідок злиття сперматозоїду з яйцеклітиною. Клітини, що утворюються внаслідок декількох перших поділів заплідненої яйцеклітини теж тотипотентні. Ці клітини можуть перетворитися на ембріональні та екстраембріональні (поза-ембріональні) типи клітин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00"/>
                </a:solidFill>
                <a:latin typeface="Century Gothic"/>
              </a:rPr>
              <a:t>Плюрипотентні стовбурові клітини походять від тотипотентних клітин і можуть утворити клітини трьох зародкових шарів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00"/>
                </a:solidFill>
                <a:latin typeface="Century Gothic"/>
              </a:rPr>
              <a:t>Мультипотентні стовбурові клітини можуть утворювати лише близькі типи клітин (наприклад, гематопоетичні стовбурові клітини утворюють червоні кров'яні тільця, білі кров'яні тільця, тромбоцити, тощо)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00"/>
                </a:solidFill>
                <a:latin typeface="Century Gothic"/>
              </a:rPr>
              <a:t>Уніпотентні стовбурові клітини можуть перетворитися лише на один тип клітин, але мають здатність до самовідтворення, що відрізняє їх від «не стовбурових» клітин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2411"/>
            </a:gs>
            <a:gs pos="100000">
              <a:srgbClr val="9171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Содержимое 3" descr="250px-Stem_cells_diagram_russia.png"/>
          <p:cNvPicPr/>
          <p:nvPr/>
        </p:nvPicPr>
        <p:blipFill>
          <a:blip r:embed="rId1"/>
          <a:stretch/>
        </p:blipFill>
        <p:spPr>
          <a:xfrm>
            <a:off x="1500120" y="142920"/>
            <a:ext cx="5643720" cy="5146560"/>
          </a:xfrm>
          <a:prstGeom prst="rect">
            <a:avLst/>
          </a:prstGeom>
          <a:ln w="0">
            <a:noFill/>
          </a:ln>
        </p:spPr>
      </p:pic>
      <p:sp>
        <p:nvSpPr>
          <p:cNvPr id="374" name="TextBox 4"/>
          <p:cNvSpPr/>
          <p:nvPr/>
        </p:nvSpPr>
        <p:spPr>
          <a:xfrm>
            <a:off x="142920" y="5286240"/>
            <a:ext cx="90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Плюрипотентні ембріональні стовбурові клітини походять з маси клітин усередені бластоцисти. Стовбурові клітини можуть дати початок будь-якій тканині тіла, крім плаценти. Тільки клітини морули є тотипотентними; вони можуть дати початок усім тканинам тіла, у тому числі і плаценті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2411"/>
            </a:gs>
            <a:gs pos="100000">
              <a:srgbClr val="9171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Заголовок 1" descr=""/>
          <p:cNvPicPr/>
          <p:nvPr/>
        </p:nvPicPr>
        <p:blipFill>
          <a:blip r:embed="rId1"/>
          <a:stretch/>
        </p:blipFill>
        <p:spPr>
          <a:xfrm>
            <a:off x="-262080" y="-6480"/>
            <a:ext cx="9522000" cy="1414440"/>
          </a:xfrm>
          <a:prstGeom prst="rect">
            <a:avLst/>
          </a:prstGeom>
          <a:ln w="0">
            <a:noFill/>
          </a:ln>
        </p:spPr>
      </p:pic>
      <p:pic>
        <p:nvPicPr>
          <p:cNvPr id="376" name="Содержимое 3" descr="150px-Human_embryonic_stem_cells.png"/>
          <p:cNvPicPr/>
          <p:nvPr/>
        </p:nvPicPr>
        <p:blipFill>
          <a:blip r:embed="rId2"/>
          <a:stretch/>
        </p:blipFill>
        <p:spPr>
          <a:xfrm>
            <a:off x="142920" y="1143000"/>
            <a:ext cx="2928960" cy="5506920"/>
          </a:xfrm>
          <a:prstGeom prst="rect">
            <a:avLst/>
          </a:prstGeom>
          <a:ln w="0">
            <a:noFill/>
          </a:ln>
        </p:spPr>
      </p:pic>
      <p:sp>
        <p:nvSpPr>
          <p:cNvPr id="377" name="TextBox 5"/>
          <p:cNvSpPr/>
          <p:nvPr/>
        </p:nvSpPr>
        <p:spPr>
          <a:xfrm>
            <a:off x="3143160" y="1000080"/>
            <a:ext cx="60008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Century Gothic"/>
              </a:rPr>
              <a:t>Ембріональні стовбурові клітинні лінії (ЕС клітинні лінії) — це культури клітин, що походять від тканин епібласту (внутрішньої клітинної маси бластоцисти). Бластоциста — це ранній ембріон (приблизно 4 — 5 день ембріону людини); містить від 50 до 150 клітин. ЕС клітини є плюрипотентними, вони дають початок усім трьом шарам ембріону: ектодермі, ендодермі та мезодермі. Іншими словами, вони можуть перетворитися на усі типи клітин дорослого організму (тобто більше 200 типів клітин) під дією необхідних стимулів. ЕС клітини не можуть утворити екстра-ембріональні (позаембріональні) оболонки чи плаценту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8" name="TextBox 6"/>
          <p:cNvSpPr/>
          <p:nvPr/>
        </p:nvSpPr>
        <p:spPr>
          <a:xfrm>
            <a:off x="3143160" y="5214960"/>
            <a:ext cx="5572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00"/>
                </a:solidFill>
                <a:latin typeface="Century Gothic"/>
              </a:rPr>
              <a:t>Ембріональні стовбурові клітини людини. Нагорі (А): недиференційовані. Унизу (В): Нейрони — дочірні клітини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2411"/>
            </a:gs>
            <a:gs pos="100000">
              <a:srgbClr val="9171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Заголовок 1" descr=""/>
          <p:cNvPicPr/>
          <p:nvPr/>
        </p:nvPicPr>
        <p:blipFill>
          <a:blip r:embed="rId1"/>
          <a:stretch/>
        </p:blipFill>
        <p:spPr>
          <a:xfrm>
            <a:off x="493560" y="-433440"/>
            <a:ext cx="8242560" cy="1408320"/>
          </a:xfrm>
          <a:prstGeom prst="rect">
            <a:avLst/>
          </a:prstGeom>
          <a:ln w="0">
            <a:noFill/>
          </a:ln>
        </p:spPr>
      </p:pic>
      <p:pic>
        <p:nvPicPr>
          <p:cNvPr id="380" name="Содержимое 3" descr="200px-Stem_cell_division_and_differentiation.svg.png"/>
          <p:cNvPicPr/>
          <p:nvPr/>
        </p:nvPicPr>
        <p:blipFill>
          <a:blip r:embed="rId2"/>
          <a:stretch/>
        </p:blipFill>
        <p:spPr>
          <a:xfrm>
            <a:off x="214200" y="1000080"/>
            <a:ext cx="2820960" cy="5643720"/>
          </a:xfrm>
          <a:prstGeom prst="rect">
            <a:avLst/>
          </a:prstGeom>
          <a:ln w="0">
            <a:noFill/>
          </a:ln>
        </p:spPr>
      </p:pic>
      <p:sp>
        <p:nvSpPr>
          <p:cNvPr id="381" name="TextBox 4"/>
          <p:cNvSpPr/>
          <p:nvPr/>
        </p:nvSpPr>
        <p:spPr>
          <a:xfrm>
            <a:off x="3000240" y="571680"/>
            <a:ext cx="61437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Для того, щоб самовідтворюватися і перетворюватися в інші типи клітин, стовбурові клітини розмножуються двома різними шляхами. Симетричний поділ, коли обидві дочірні клітини стовбурові, і асиметричний поділ, коли одна дочірня клітина стовбурова, а інша — клітина-попередник для інших типів клітин. Клітина-попередник має менше можливостей для самовідтворення, ніж стовбурова клітина. Клітина-попередник проходить декілька етапів поділу клітини перед тим, як остаточно диференціюватися у зрілу клітину. Цілком імовірно, що різниця на молекулярному рівні між симетричним та асиметричним поділом полягає у розподілі між дочірніми клітинами білкового рецептору, що знаходиться на цитоплазматичній мембрані. Проте цей механізм ще не достатньо досліджений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2" name="TextBox 5"/>
          <p:cNvSpPr/>
          <p:nvPr/>
        </p:nvSpPr>
        <p:spPr>
          <a:xfrm>
            <a:off x="3071880" y="5288040"/>
            <a:ext cx="571500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00"/>
                </a:solidFill>
                <a:latin typeface="Century Gothic"/>
              </a:rPr>
              <a:t>Поділ та дифференціація стовбурових клітин. </a:t>
            </a:r>
            <a:r>
              <a:rPr b="0" lang="en-US" sz="1500" spc="-1" strike="noStrike">
                <a:solidFill>
                  <a:srgbClr val="ffff00"/>
                </a:solidFill>
                <a:latin typeface="Century Gothic"/>
              </a:rPr>
              <a:t>A — </a:t>
            </a:r>
            <a:r>
              <a:rPr b="0" lang="ru-RU" sz="1500" spc="-1" strike="noStrike">
                <a:solidFill>
                  <a:srgbClr val="ffff00"/>
                </a:solidFill>
                <a:latin typeface="Century Gothic"/>
              </a:rPr>
              <a:t>стовбурові клітини; </a:t>
            </a:r>
            <a:r>
              <a:rPr b="0" lang="en-US" sz="1500" spc="-1" strike="noStrike">
                <a:solidFill>
                  <a:srgbClr val="ffff00"/>
                </a:solidFill>
                <a:latin typeface="Century Gothic"/>
              </a:rPr>
              <a:t>B — </a:t>
            </a:r>
            <a:r>
              <a:rPr b="0" lang="ru-RU" sz="1500" spc="-1" strike="noStrike">
                <a:solidFill>
                  <a:srgbClr val="ffff00"/>
                </a:solidFill>
                <a:latin typeface="Century Gothic"/>
              </a:rPr>
              <a:t>клітина-попередник; </a:t>
            </a:r>
            <a:r>
              <a:rPr b="0" lang="en-US" sz="1500" spc="-1" strike="noStrike">
                <a:solidFill>
                  <a:srgbClr val="ffff00"/>
                </a:solidFill>
                <a:latin typeface="Century Gothic"/>
              </a:rPr>
              <a:t>C — </a:t>
            </a:r>
            <a:r>
              <a:rPr b="0" lang="ru-RU" sz="1500" spc="-1" strike="noStrike">
                <a:solidFill>
                  <a:srgbClr val="ffff00"/>
                </a:solidFill>
                <a:latin typeface="Century Gothic"/>
              </a:rPr>
              <a:t>дифференційована клітина; 1 — симетричний поділ стовбурових клітин; 2 — асиметричний поділ стовбурових клітин; 3 — поділ клітини-попередника; 4 — кінцева (термінальна) дифференціація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2411"/>
            </a:gs>
            <a:gs pos="100000">
              <a:srgbClr val="9171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Заголовок 1" descr=""/>
          <p:cNvPicPr/>
          <p:nvPr/>
        </p:nvPicPr>
        <p:blipFill>
          <a:blip r:embed="rId1"/>
          <a:stretch/>
        </p:blipFill>
        <p:spPr>
          <a:xfrm>
            <a:off x="353880" y="-231840"/>
            <a:ext cx="8240760" cy="135432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 txBox="1"/>
          <p:nvPr/>
        </p:nvSpPr>
        <p:spPr>
          <a:xfrm>
            <a:off x="-360" y="1071360"/>
            <a:ext cx="600084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349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Century Gothic"/>
              </a:rPr>
              <a:t>— </a:t>
            </a:r>
            <a:r>
              <a:rPr b="0" lang="ru-RU" sz="1400" spc="-1" strike="noStrike">
                <a:solidFill>
                  <a:srgbClr val="ffff00"/>
                </a:solidFill>
                <a:latin typeface="Century Gothic"/>
              </a:rPr>
              <a:t>це недифференційовані клітини, що розповсюджені по всьому тілу. Вони розмножуються і заміщують клітини, що померли, та відновлюють пошкоджені тканини тіла. Ці клітини відносяться до соматичних (від грецького слова </a:t>
            </a:r>
            <a:r>
              <a:rPr b="0" lang="el-GR" sz="1400" spc="-1" strike="noStrike">
                <a:solidFill>
                  <a:srgbClr val="ffff00"/>
                </a:solidFill>
                <a:latin typeface="Century Gothic"/>
              </a:rPr>
              <a:t>Σωματικ</a:t>
            </a:r>
            <a:r>
              <a:rPr b="0" lang="en-US" sz="1400" spc="-1" strike="noStrike">
                <a:solidFill>
                  <a:srgbClr val="ffff00"/>
                </a:solidFill>
                <a:latin typeface="Century Gothic"/>
              </a:rPr>
              <a:t>ó</a:t>
            </a:r>
            <a:r>
              <a:rPr b="0" lang="el-GR" sz="1400" spc="-1" strike="noStrike">
                <a:solidFill>
                  <a:srgbClr val="ffff00"/>
                </a:solidFill>
                <a:latin typeface="Century Gothic"/>
              </a:rPr>
              <a:t>ς, </a:t>
            </a:r>
            <a:r>
              <a:rPr b="0" lang="ru-RU" sz="1400" spc="-1" strike="noStrike">
                <a:solidFill>
                  <a:srgbClr val="ffff00"/>
                </a:solidFill>
                <a:latin typeface="Century Gothic"/>
              </a:rPr>
              <a:t>тобто тіло) стовбурових клітин; вони знаходяться у тілах як дітей, так і дорослих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Century Gothic"/>
              </a:rPr>
              <a:t>Основні дослідження стовбурових клітин дорослого організму пов'язані з визначенням їхньої здібності до необмеженого самовідтворення та їхнього потенціалу дифференціюватися. Багато клітинних ліній, що звуться стовбуровими клітинами дорослого організму, краще було б визначити як клітини-попередники, бо вони мають обмежені здібності до дифференціювання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Century Gothic"/>
              </a:rPr>
              <a:t>Уживання стовбурових клітин дорослого організму у дослідженнях та в медицині не викликає такі етичні питання, як уживання ембріональних стовбурових клітин. Одержання стовбурових клітин дорослого організму не пов'язане зі знищенням ембріону. Стовбурові клітини дорослого організму виділяють з тканин дорослих. Такі дослідження здебільшого проводилися із клітинами людини та модельних тварин — миші й пацюка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85" name="Рисунок 3" descr="Колонии клеток трофобластной стволовой (ТС) линии M. rossiaemeridionalis на фидерном слое первичных эмбриональных фибробластов мыши. a - увел. об.х10, ок.х4 b - увел. об.х2.5, ок.х4.jpg"/>
          <p:cNvPicPr/>
          <p:nvPr/>
        </p:nvPicPr>
        <p:blipFill>
          <a:blip r:embed="rId2"/>
          <a:stretch/>
        </p:blipFill>
        <p:spPr>
          <a:xfrm>
            <a:off x="6000840" y="571680"/>
            <a:ext cx="2928960" cy="5475240"/>
          </a:xfrm>
          <a:prstGeom prst="rect">
            <a:avLst/>
          </a:prstGeom>
          <a:ln w="0">
            <a:noFill/>
          </a:ln>
        </p:spPr>
      </p:pic>
      <p:sp>
        <p:nvSpPr>
          <p:cNvPr id="386" name="TextBox 4"/>
          <p:cNvSpPr/>
          <p:nvPr/>
        </p:nvSpPr>
        <p:spPr>
          <a:xfrm>
            <a:off x="5286240" y="6072120"/>
            <a:ext cx="385776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entury Gothic"/>
              </a:rPr>
              <a:t>Колонии клеток трофобластной стволовой (ТС) линии M. rossiaemeridionalis на фидерном слое первичных эмбриональных фибробластов мыши. a - увел.: об.х10, ок.х4 b - увел.: об.х2.5, ок.х4</a:t>
            </a:r>
            <a:endParaRPr b="0" lang="en-US" sz="11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2411"/>
            </a:gs>
            <a:gs pos="100000">
              <a:srgbClr val="9171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Содержимое 3" descr="300px-Mouse_embryonic_stem_cells.jpg"/>
          <p:cNvPicPr/>
          <p:nvPr/>
        </p:nvPicPr>
        <p:blipFill>
          <a:blip r:embed="rId1"/>
          <a:stretch/>
        </p:blipFill>
        <p:spPr>
          <a:xfrm>
            <a:off x="1357200" y="142920"/>
            <a:ext cx="6429600" cy="5443560"/>
          </a:xfrm>
          <a:prstGeom prst="rect">
            <a:avLst/>
          </a:prstGeom>
          <a:ln w="0">
            <a:noFill/>
          </a:ln>
        </p:spPr>
      </p:pic>
      <p:sp>
        <p:nvSpPr>
          <p:cNvPr id="388" name="TextBox 5"/>
          <p:cNvSpPr/>
          <p:nvPr/>
        </p:nvSpPr>
        <p:spPr>
          <a:xfrm>
            <a:off x="214200" y="5786280"/>
            <a:ext cx="857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Century Gothic"/>
              </a:rPr>
              <a:t>Ембріональні стовбурові клітини миші із флюоресцентним маркером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2411"/>
            </a:gs>
            <a:gs pos="100000">
              <a:srgbClr val="9171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Содержимое 3" descr="9-3.jpg"/>
          <p:cNvPicPr/>
          <p:nvPr/>
        </p:nvPicPr>
        <p:blipFill>
          <a:blip r:embed="rId1"/>
          <a:stretch/>
        </p:blipFill>
        <p:spPr>
          <a:xfrm>
            <a:off x="642960" y="7920"/>
            <a:ext cx="792972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2411"/>
            </a:gs>
            <a:gs pos="100000">
              <a:srgbClr val="9171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Заголовок 1" descr=""/>
          <p:cNvPicPr/>
          <p:nvPr/>
        </p:nvPicPr>
        <p:blipFill>
          <a:blip r:embed="rId1"/>
          <a:stretch/>
        </p:blipFill>
        <p:spPr>
          <a:xfrm>
            <a:off x="420840" y="-6480"/>
            <a:ext cx="8242200" cy="11527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285480" y="928800"/>
            <a:ext cx="8643960" cy="55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Дослідники у галузі медицини впевнені, що стовбурові клітини мають потенціал змінити зовнішній вигляд людських хвороб. Існує величезна кількість лікувальних методів, що опираються на стовбурові клітини. Проте більшість з них використовується досить рідко, бо це здебільшого експериментальні методи, до того ж вони не завжди ефективні. Медики-дослідники уважають, що стовбурові клітини можна використовувати для лікування онкозахворювань, хвороби Паркінсона, пошкоджень спинного мозку, м'язів, тощо. Тим часом досі ще не визначеною є суспільна та наукова позиція щодо етичного аспекту вживання стовбурових клітин у медицині.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Проте стовбурові клітини вже досить успішно використовуються у наукових дослідженнях, і далеко не всі вчені розділяють думку, що єдиною метою цих досліджень є клітинна терапія. Вони вважають, що дослідження стовбурових клітин є досить цінним і саме по собі.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Сьогодні в Україні дозволено проведення клінічних випробувань (Наказ МОЗ України № 630 «Про проведення клінічних випробувань стовбурових клітин», 2008 р.) з лікування наступних патологій із застосуванням стовбурових клітин: панкреонекроз, цироз печінки, гепатити, опікова хвороба, цукровий діабет </a:t>
            </a:r>
            <a:r>
              <a:rPr b="0" lang="en-US" sz="1700" spc="-1" strike="noStrike">
                <a:solidFill>
                  <a:srgbClr val="ffffff"/>
                </a:solidFill>
                <a:latin typeface="Century Gothic"/>
              </a:rPr>
              <a:t>II </a:t>
            </a: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типу, розсіяний склероз, критична ішемія нижніх кінцівок. Першим, хто отримав право на проведення клінічних випробувань в галузі застосування стовбурових клітин в Україні, став Інститут клітинної терапії. За допомогою стовбурових клітин пуповинної крові вже успішно проведено лікування десятків пацієнтів з цими захворюваннями.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2411"/>
            </a:gs>
            <a:gs pos="100000">
              <a:srgbClr val="9171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Заголовок 1" descr=""/>
          <p:cNvPicPr/>
          <p:nvPr/>
        </p:nvPicPr>
        <p:blipFill>
          <a:blip r:embed="rId1"/>
          <a:stretch/>
        </p:blipFill>
        <p:spPr>
          <a:xfrm>
            <a:off x="420840" y="-6480"/>
            <a:ext cx="8242200" cy="141444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 txBox="1"/>
          <p:nvPr/>
        </p:nvSpPr>
        <p:spPr>
          <a:xfrm>
            <a:off x="457200" y="121392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6496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00"/>
                </a:solidFill>
                <a:latin typeface="Century Gothic"/>
              </a:rPr>
              <a:t>Гістотехнології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indent="26496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00"/>
                </a:solidFill>
                <a:latin typeface="Century Gothic"/>
              </a:rPr>
              <a:t>Основні напрямки створення нових технологій на основі культивування клітин і тканин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indent="26496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entury Gothic"/>
              </a:rPr>
              <a:t>Стовбурові клітини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indent="26496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entury Gothic"/>
              </a:rPr>
              <a:t>Властивості стовбурових клітин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indent="26496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entury Gothic"/>
              </a:rPr>
              <a:t>Визначення потенціалу стовбурових клітин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indent="26496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entury Gothic"/>
              </a:rPr>
              <a:t>Ембріональні стовбурові клітини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indent="26496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entury Gothic"/>
              </a:rPr>
              <a:t>Стовбурові клітини дорослого організму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indent="26496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entury Gothic"/>
              </a:rPr>
              <a:t>Поділ стовбурових клітин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indent="26496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entury Gothic"/>
              </a:rPr>
              <a:t>Використання у медицині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2411"/>
            </a:gs>
            <a:gs pos="100000">
              <a:srgbClr val="9171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142920" y="142920"/>
            <a:ext cx="878688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80" indent="34452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ffff00"/>
                </a:solidFill>
                <a:latin typeface="Century Gothic"/>
              </a:rPr>
              <a:t>Тканинна інженерія займається вирощуванням культури тканин та створенням штучних органів.</a:t>
            </a:r>
            <a:br>
              <a:rPr sz="2700"/>
            </a:br>
            <a:r>
              <a:rPr b="0" lang="uk-UA" sz="2700" spc="-1" strike="noStrike">
                <a:solidFill>
                  <a:srgbClr val="ffff00"/>
                </a:solidFill>
                <a:latin typeface="Century Gothic"/>
              </a:rPr>
              <a:t>Спочатку відбирають донорський клітинний матеріал, виділяють тканинно-специфічні клітини, потім культивують їх. </a:t>
            </a:r>
            <a:br>
              <a:rPr sz="2700"/>
            </a:br>
            <a:r>
              <a:rPr b="0" lang="uk-UA" sz="2700" spc="-1" strike="noStrike">
                <a:solidFill>
                  <a:srgbClr val="ffff00"/>
                </a:solidFill>
                <a:latin typeface="Century Gothic"/>
              </a:rPr>
              <a:t>Клітини отриманої культури наносять на матрицю(виготовлена з різних біомаеріалів), після чого починається їх культивація.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7" name="Рисунок 5" descr=""/>
          <p:cNvPicPr/>
          <p:nvPr/>
        </p:nvPicPr>
        <p:blipFill>
          <a:blip r:embed="rId1"/>
          <a:stretch/>
        </p:blipFill>
        <p:spPr>
          <a:xfrm>
            <a:off x="642960" y="3214800"/>
            <a:ext cx="3357720" cy="3429000"/>
          </a:xfrm>
          <a:prstGeom prst="rect">
            <a:avLst/>
          </a:prstGeom>
          <a:ln w="0">
            <a:noFill/>
          </a:ln>
        </p:spPr>
      </p:pic>
      <p:pic>
        <p:nvPicPr>
          <p:cNvPr id="358" name="Рисунок 6" descr=""/>
          <p:cNvPicPr/>
          <p:nvPr/>
        </p:nvPicPr>
        <p:blipFill>
          <a:blip r:embed="rId2"/>
          <a:stretch/>
        </p:blipFill>
        <p:spPr>
          <a:xfrm>
            <a:off x="4786200" y="3143160"/>
            <a:ext cx="350064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2411"/>
            </a:gs>
            <a:gs pos="100000">
              <a:srgbClr val="9171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Содержимое 3" descr="224a.jpg"/>
          <p:cNvPicPr/>
          <p:nvPr/>
        </p:nvPicPr>
        <p:blipFill>
          <a:blip r:embed="rId1"/>
          <a:stretch/>
        </p:blipFill>
        <p:spPr>
          <a:xfrm>
            <a:off x="4429080" y="214200"/>
            <a:ext cx="4448160" cy="6578640"/>
          </a:xfrm>
          <a:prstGeom prst="rect">
            <a:avLst/>
          </a:prstGeom>
          <a:ln w="0">
            <a:noFill/>
          </a:ln>
        </p:spPr>
      </p:pic>
      <p:sp>
        <p:nvSpPr>
          <p:cNvPr id="360" name="TextBox 4"/>
          <p:cNvSpPr/>
          <p:nvPr/>
        </p:nvSpPr>
        <p:spPr>
          <a:xfrm>
            <a:off x="285840" y="1500120"/>
            <a:ext cx="4000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00"/>
                </a:solidFill>
                <a:latin typeface="Century Gothic"/>
              </a:rPr>
              <a:t>Європейські вчені вивчають можливість утворення штучних сухожиль і зв’язок  з матеріалу, який використовує павук для будівництва своєї пувутини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2411"/>
            </a:gs>
            <a:gs pos="100000">
              <a:srgbClr val="9171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Заголовок 1" descr=""/>
          <p:cNvPicPr/>
          <p:nvPr/>
        </p:nvPicPr>
        <p:blipFill>
          <a:blip r:embed="rId1"/>
          <a:stretch/>
        </p:blipFill>
        <p:spPr>
          <a:xfrm>
            <a:off x="244440" y="-30240"/>
            <a:ext cx="8448840" cy="182880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 txBox="1"/>
          <p:nvPr/>
        </p:nvSpPr>
        <p:spPr>
          <a:xfrm>
            <a:off x="213840" y="1882440"/>
            <a:ext cx="8643960" cy="48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176040"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2d050"/>
                </a:solidFill>
                <a:latin typeface="Century Gothic"/>
              </a:rPr>
              <a:t>Перше — </a:t>
            </a:r>
            <a:r>
              <a:rPr b="0" lang="uk-UA" sz="2000" spc="-1" strike="noStrike">
                <a:solidFill>
                  <a:srgbClr val="92d050"/>
                </a:solidFill>
                <a:latin typeface="Century Gothic"/>
              </a:rPr>
              <a:t>отримання промисловим шляхом цінних біологічно активних ре­човин. Так отримані мутантні клітинні лінії раувольфії змінної — продуценту індольних алкалоїдів, які містять у 10 разів більше цінного для медицини анти-ритмічного алкалоїду — аймаліну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176040"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2d050"/>
                </a:solidFill>
                <a:latin typeface="Century Gothic"/>
              </a:rPr>
              <a:t>Друге </a:t>
            </a:r>
            <a:r>
              <a:rPr b="0" lang="ru-RU" sz="2000" spc="-1" strike="noStrike">
                <a:solidFill>
                  <a:srgbClr val="92d050"/>
                </a:solidFill>
                <a:latin typeface="Century Gothic"/>
              </a:rPr>
              <a:t>— </a:t>
            </a:r>
            <a:r>
              <a:rPr b="0" lang="uk-UA" sz="2000" spc="-1" strike="noStrike">
                <a:solidFill>
                  <a:srgbClr val="92d050"/>
                </a:solidFill>
                <a:latin typeface="Century Gothic"/>
              </a:rPr>
              <a:t>використання тканинних і клітинних культур для швидкого кло-нального мікророзмноження та оздоровлення рослини. Мікроклональне роз­множення добре ведеться з картоплею, капустою, часником, томатами, цукро­вим буряком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176040"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92d050"/>
                </a:solidFill>
                <a:latin typeface="Century Gothic"/>
              </a:rPr>
              <a:t>Третю групу становлять технології, пов'язані з генетичними маніпуляціями на тканинах, клітинах, ізольованих протопластах. Тканинна інженерія подає на­дії на подолання чоловічого й жіночого безпліддя та розв'язання інших проблем, пов'язаних з функціональною діяльністю репродуктивної системи в людей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176040">
              <a:lnSpc>
                <a:spcPct val="80000"/>
              </a:lnSpc>
              <a:spcBef>
                <a:spcPts val="201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entury Gothic"/>
            </a:endParaRPr>
          </a:p>
          <a:p>
            <a:pPr indent="176040">
              <a:lnSpc>
                <a:spcPct val="80000"/>
              </a:lnSpc>
              <a:spcBef>
                <a:spcPts val="201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entury Gothic"/>
            </a:endParaRPr>
          </a:p>
          <a:p>
            <a:pPr indent="176040">
              <a:lnSpc>
                <a:spcPct val="80000"/>
              </a:lnSpc>
              <a:spcBef>
                <a:spcPts val="201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entury Gothic"/>
            </a:endParaRPr>
          </a:p>
          <a:p>
            <a:pPr indent="176040">
              <a:lnSpc>
                <a:spcPct val="80000"/>
              </a:lnSpc>
              <a:spcBef>
                <a:spcPts val="201"/>
              </a:spcBef>
              <a:buClr>
                <a:srgbClr val="f0a22e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2411"/>
            </a:gs>
            <a:gs pos="100000">
              <a:srgbClr val="9171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Содержимое 3" descr="04%20Pluripotent%20Stem%20Cells.jpg"/>
          <p:cNvPicPr/>
          <p:nvPr/>
        </p:nvPicPr>
        <p:blipFill>
          <a:blip r:embed="rId1"/>
          <a:stretch/>
        </p:blipFill>
        <p:spPr>
          <a:xfrm>
            <a:off x="0" y="28584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2411"/>
            </a:gs>
            <a:gs pos="100000">
              <a:srgbClr val="9171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Заголовок 1" descr=""/>
          <p:cNvPicPr/>
          <p:nvPr/>
        </p:nvPicPr>
        <p:blipFill>
          <a:blip r:embed="rId1"/>
          <a:stretch/>
        </p:blipFill>
        <p:spPr>
          <a:xfrm>
            <a:off x="19080" y="96840"/>
            <a:ext cx="9131400" cy="1281240"/>
          </a:xfrm>
          <a:prstGeom prst="rect">
            <a:avLst/>
          </a:prstGeom>
          <a:ln w="0">
            <a:noFill/>
          </a:ln>
        </p:spPr>
      </p:pic>
      <p:pic>
        <p:nvPicPr>
          <p:cNvPr id="365" name="Содержимое 3" descr="42-21808928_cell_600.jpg"/>
          <p:cNvPicPr/>
          <p:nvPr/>
        </p:nvPicPr>
        <p:blipFill>
          <a:blip r:embed="rId2"/>
          <a:stretch/>
        </p:blipFill>
        <p:spPr>
          <a:xfrm>
            <a:off x="1428840" y="1643040"/>
            <a:ext cx="6267240" cy="4000680"/>
          </a:xfrm>
          <a:prstGeom prst="rect">
            <a:avLst/>
          </a:prstGeom>
          <a:ln w="0">
            <a:noFill/>
          </a:ln>
        </p:spPr>
      </p:pic>
      <p:sp>
        <p:nvSpPr>
          <p:cNvPr id="366" name="TextBox 4"/>
          <p:cNvSpPr/>
          <p:nvPr/>
        </p:nvSpPr>
        <p:spPr>
          <a:xfrm>
            <a:off x="642960" y="592920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entury Gothic"/>
              </a:rPr>
              <a:t>Стовбурові клітини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2411"/>
            </a:gs>
            <a:gs pos="100000">
              <a:srgbClr val="9171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142920" y="285840"/>
            <a:ext cx="8858160" cy="65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80" indent="3445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Century Gothic"/>
              </a:rPr>
              <a:t>Медики вперше зуміли продемонструвати повноцінну штучну тканину людських органів - кишечника - отриману за допомогою технології стовбурових клітин, яка знайде застосування як в лабораторних дослідженнях, так і в медичних цілях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19080" indent="3445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Century Gothic"/>
              </a:rPr>
              <a:t>Про це повідомляється в статті дослідників, опублікованій в журналі </a:t>
            </a:r>
            <a:r>
              <a:rPr b="0" lang="en-US" sz="2600" spc="-1" strike="noStrike">
                <a:solidFill>
                  <a:srgbClr val="ffff00"/>
                </a:solidFill>
                <a:latin typeface="Century Gothic"/>
              </a:rPr>
              <a:t>Nature. "</a:t>
            </a:r>
            <a:r>
              <a:rPr b="0" lang="ru-RU" sz="2600" spc="-1" strike="noStrike">
                <a:solidFill>
                  <a:srgbClr val="ffff00"/>
                </a:solidFill>
                <a:latin typeface="Century Gothic"/>
              </a:rPr>
              <a:t>Це перша робота, яка показала, що індуковані плюрипотентні стовбурові клітини в пробірці можуть бути перетворені в тканину людського організму з тривимірною структурою і складом тканини кишечнику", - сказав Джеймс Уеллс, провідний дослідник з Медичного центру Дитячої лікарні Цинцинатті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19080" indent="3445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Century Gothic"/>
              </a:rPr>
              <a:t>"Ми сподіваємося, що наша робота дасть надію людям, що страждають такими хворобами, як некротизуючий ентероколіт, синдром короткого кишечника, запальними захворюваннями цього органу та іншими хворобами", - додав учений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2411"/>
            </a:gs>
            <a:gs pos="100000">
              <a:srgbClr val="9171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Заголовок 1" descr=""/>
          <p:cNvPicPr/>
          <p:nvPr/>
        </p:nvPicPr>
        <p:blipFill>
          <a:blip r:embed="rId1"/>
          <a:stretch/>
        </p:blipFill>
        <p:spPr>
          <a:xfrm>
            <a:off x="420840" y="-6480"/>
            <a:ext cx="8242200" cy="14144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 txBox="1"/>
          <p:nvPr/>
        </p:nvSpPr>
        <p:spPr>
          <a:xfrm>
            <a:off x="214200" y="1000080"/>
            <a:ext cx="8715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ffc000"/>
                </a:solidFill>
                <a:latin typeface="Century Gothic"/>
              </a:rPr>
              <a:t>Стовбурові клітини сьогодні актуальна тема ними намагаються лікувати самі різноманітні захворювання і дивлячись на повідомлення в пресі, вони творять чудеса. «Здатні перетворюватися в різні тканини, вони самі знаходять «слабкі місця», відновлюючи тканини судин, залоз, м'язів, нервів» або «розрівнюють зморшки». Одним словом, в сучасну медицину – раціональну, аналітичну, розділено на багато гілок – спеціальностей знову повернувся давній образ панацеї. Незрозуміло чому стовбурові  клітини ще не вилікували всі на світі хвороби і не витіснили із обороту всі ліки. Що ж насправді уявляють собою ці чудо клітини?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70" name="Рисунок 5" descr="011.jpg"/>
          <p:cNvPicPr/>
          <p:nvPr/>
        </p:nvPicPr>
        <p:blipFill>
          <a:blip r:embed="rId2"/>
          <a:stretch/>
        </p:blipFill>
        <p:spPr>
          <a:xfrm>
            <a:off x="1714680" y="3048120"/>
            <a:ext cx="5715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7T13:50:53Z</dcterms:created>
  <dc:creator>Zver</dc:creator>
  <dc:description/>
  <dc:language>en-US</dc:language>
  <cp:lastModifiedBy>Admin</cp:lastModifiedBy>
  <dcterms:modified xsi:type="dcterms:W3CDTF">2011-03-02T10:05:06Z</dcterms:modified>
  <cp:revision>2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412000000000001024140</vt:lpwstr>
  </property>
</Properties>
</file>