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wmf" ContentType="image/x-wmf"/>
  <Override PartName="/ppt/media/image16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9.jpeg" ContentType="image/jpeg"/>
  <Override PartName="/ppt/media/image32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37.png" ContentType="image/png"/>
  <Override PartName="/ppt/media/image39.gif" ContentType="image/gif"/>
  <Override PartName="/ppt/media/image40.jpeg" ContentType="image/jpe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14D6-B9E6-418F-B37D-E541577333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098-535E-4489-8D40-50DC9215DA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399-F102-447B-A1BC-63B28901D8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FE6-805B-4CB9-B63A-1C1A7695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B9E-154B-4E95-9B0C-6D947C2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305-E55E-446E-AF75-8F4A7297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5E4-8C1B-4F83-8751-2DF7E14B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783D8-345B-4C44-BE99-8ECCB236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C16DC-D591-4B5C-BAA2-61B5542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4EBD7-C276-4608-AC34-1C287111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D3FDA-A6D4-49DE-9293-FBE4A327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40C10-1B74-40F2-9E29-785EC37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CFD1E-5301-4299-9F7A-38DDA558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707EB-5A28-4C39-B458-71B2048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8FC-5BF7-47EE-A2BD-ABA7098B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3A6C3-8A8F-412A-80D4-ED9CE7A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7A09-355C-44F6-B288-6CE27F7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5529-26A0-4998-B50A-263DB153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025F9-4E0D-4894-B365-21CE9DAD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4E568-8AEA-4368-AC3B-40C59304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C5719-8C07-4906-A672-CE4F9FED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F341A-1BF2-4141-9379-CDCF8DB9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A1DD9-B425-4E96-9820-A16940B0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DA33A-FDA3-4C7D-AFA0-D38C85C4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5E0C4-8DDB-45D9-91CA-57F4506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EDB-D362-45A4-BFFA-4D1BDB50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D1652-F618-479A-9789-F0F3D8F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6FCDD-89A6-42A2-9E5B-E6D0773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702A-A962-473C-AD2E-7FB6CCE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0F992-F3D5-4398-9658-87D60E7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DD555-A70B-44B8-A756-6DFA949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935F4-E3A6-4612-A09C-AF89ABDA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77D50-C999-41FC-9845-8CB80BB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24FCB-E3AB-471E-9BCD-CE795F75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47123-B982-44CC-83CA-B4FBF6C6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4B9A6-5709-4468-B69A-9A5C53B4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CF3-8311-48BC-AD5F-23519221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D5E13-1623-446E-B7C0-64F2427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ABEB7-4C0E-4889-BFA3-7CE87FF7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BB300-A3BC-491E-8DF7-8EF5DA8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F301E-B45C-4110-9C5F-111EDFB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F7DD7-72E0-48E3-A8DD-E0C951DF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FBE2A-904E-4515-8B35-DFB521D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8CC56-B4E2-494F-9CB1-31E21DF0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213A9-3422-431D-86E5-36BA00B7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AAE73-A3D3-407E-9402-496D34F7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EABC0-FC46-4949-8711-2603E17D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E16-BFCB-427E-9506-77B1BDCA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4FE76-6B32-45EB-AC31-7B2ACDEC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C8FB4-9E02-4540-B79E-A20E9A5C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E4B3D-1CD4-483D-B1D8-BF4184A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B67B0-3F24-4407-9DD5-4824CD5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B5999-46DB-4CEE-8FC9-6C1022AA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8DC95-FC1D-45AC-967C-F6F39EB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DD976-CBAC-4152-97FA-3A4A8C7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AF386-02D8-4ECA-837C-4F3081E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A424D-32DB-4D6B-BE56-CE9A710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7004F-B290-4B9B-93B0-1A42B089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91A-2879-444D-912A-107A1D99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6E5D8-EC54-4B55-97AA-501F94B6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686EC-0DAE-4883-86DD-D75F7891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C48EE-C918-4971-AA9A-0010CBB6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1204C-8E36-4095-913D-7D3436CC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7E293-8096-4396-9EE7-1848C08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DA14F-24F0-43C4-8E4C-002C03FD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5B962-6707-4BF4-9B43-D34B04FF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CA10B-951D-44CF-9364-57BA8EC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5E793-7B3B-46D0-9623-36A7387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E6279-AB93-4E05-B367-4727B9A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74C-CC65-4BA5-9C28-3119D62F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55169-F6EC-4AD5-9B23-C43E24D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DAAE2-324D-45FB-99EF-2011668B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5568F-6DF9-4321-80A1-0DA48B88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B22-308A-4CD9-816B-881051AD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D4B-2B19-4FFC-ADA7-2FB7614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AC36-3198-4D0E-8BF6-C37307978FD1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9E3-ED91-486D-8CF4-B0D11BDB272D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976-FC78-4EEF-B456-79D3D7CCA886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A2DE-B5A0-4F52-822A-6E5A2AED99F1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926-FFE1-4FF9-8A15-13A562A6F44E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1A84-B4DB-4817-B4B8-2F9258AA633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7.gif"/><Relationship Id="rId3" Type="http://schemas.openxmlformats.org/officeDocument/2006/relationships/hyperlink" Target="file:///D:/&#1057;&#1091;&#1087;&#1091;&#1090;&#1085;&#1080;&#1082;&#1080;%20-%20&#1082;&#1086;&#1087;&#1080;&#1103;.pptx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40.jpeg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5.png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41.png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http://oboi.kards.qip.ru/images/wallpaper/b1/92/103089_1024_768.jpg"/>
          <p:cNvPicPr/>
          <p:nvPr/>
        </p:nvPicPr>
        <p:blipFill>
          <a:blip r:embed="rId1"/>
          <a:srcRect l="0" t="0" r="-9219" b="37"/>
          <a:stretch/>
        </p:blipFill>
        <p:spPr>
          <a:xfrm>
            <a:off x="-15840" y="0"/>
            <a:ext cx="9991800" cy="701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Raechka\Desktop\Штучні супутники Землі.jpg"/>
          <p:cNvPicPr/>
          <p:nvPr/>
        </p:nvPicPr>
        <p:blipFill>
          <a:blip r:embed="rId2"/>
          <a:srcRect l="0" t="0" r="-91" b="178"/>
          <a:stretch/>
        </p:blipFill>
        <p:spPr>
          <a:xfrm>
            <a:off x="3402000" y="1731960"/>
            <a:ext cx="3156120" cy="2077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5" descr=""/>
          <p:cNvPicPr/>
          <p:nvPr/>
        </p:nvPicPr>
        <p:blipFill>
          <a:blip r:embed="rId3"/>
          <a:stretch/>
        </p:blipFill>
        <p:spPr>
          <a:xfrm>
            <a:off x="201600" y="2743200"/>
            <a:ext cx="9240840" cy="2840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trendclub.ru/moderupload/images/Boeng3.jpg"/>
          <p:cNvPicPr/>
          <p:nvPr/>
        </p:nvPicPr>
        <p:blipFill>
          <a:blip r:embed="rId4"/>
          <a:stretch/>
        </p:blipFill>
        <p:spPr>
          <a:xfrm>
            <a:off x="-324000" y="-747720"/>
            <a:ext cx="372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19 0.1375 L -0.13038 0.32199 C -0.08611 0.3625 -0.02135 0.38402 0.04757 0.38402 C 0.12518 0.38402 0.18733 0.3625 0.23125 0.32199 L 0.4415 0.1375 E">
                                      <p:cBhvr>
                                        <p:cTn id="6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128520"/>
            <a:ext cx="7431120" cy="5686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00280" y="4437000"/>
            <a:ext cx="358596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2" name="Picture 2" descr="C:\Documents and Settings\dddd\Рабочий стол\и с з\RR5111-0162R.gif"/>
          <p:cNvPicPr/>
          <p:nvPr/>
        </p:nvPicPr>
        <p:blipFill>
          <a:blip r:embed="rId3"/>
          <a:stretch/>
        </p:blipFill>
        <p:spPr>
          <a:xfrm>
            <a:off x="5796000" y="392580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-42840"/>
            <a:ext cx="8169120" cy="1847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406440" y="2637000"/>
            <a:ext cx="730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12 квітня 1961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. 4 жовтня 1957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. 15 квітня 1963 року</a:t>
            </a:r>
            <a:br>
              <a:rPr sz="3600"/>
            </a:b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28 березня 1965 рок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826920" y="3753000"/>
            <a:ext cx="4143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7" name="Picture 2" descr="C:\Documents and Settings\dddd\Рабочий стол\и с з\main.jpg"/>
          <p:cNvPicPr/>
          <p:nvPr/>
        </p:nvPicPr>
        <p:blipFill>
          <a:blip r:embed="rId3"/>
          <a:stretch/>
        </p:blipFill>
        <p:spPr>
          <a:xfrm>
            <a:off x="5986440" y="278928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11в"/>
          <p:cNvPicPr/>
          <p:nvPr/>
        </p:nvPicPr>
        <p:blipFill>
          <a:blip r:embed="rId1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2" descr=""/>
          <p:cNvPicPr/>
          <p:nvPr/>
        </p:nvPicPr>
        <p:blipFill>
          <a:blip r:embed="rId2"/>
          <a:stretch/>
        </p:blipFill>
        <p:spPr>
          <a:xfrm>
            <a:off x="743040" y="152280"/>
            <a:ext cx="8480160" cy="3713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dddd\Рабочий стол\Новая папка\Korolev.jpg"/>
          <p:cNvPicPr/>
          <p:nvPr/>
        </p:nvPicPr>
        <p:blipFill>
          <a:blip r:embed="rId3"/>
          <a:stretch/>
        </p:blipFill>
        <p:spPr>
          <a:xfrm>
            <a:off x="6588000" y="3363840"/>
            <a:ext cx="2124360" cy="3357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7"/>
          <p:cNvSpPr/>
          <p:nvPr/>
        </p:nvSpPr>
        <p:spPr>
          <a:xfrm>
            <a:off x="880920" y="306864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2" name="Picture 2" descr="http://pozdravish.ru/wp-content/uploads/2011/09/korolev_2.jpg"/>
          <p:cNvPicPr/>
          <p:nvPr/>
        </p:nvPicPr>
        <p:blipFill>
          <a:blip r:embed="rId4"/>
          <a:stretch/>
        </p:blipFill>
        <p:spPr>
          <a:xfrm>
            <a:off x="93600" y="3778200"/>
            <a:ext cx="4532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39680"/>
            <a:ext cx="8650440" cy="261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3"/>
          <p:cNvSpPr/>
          <p:nvPr/>
        </p:nvSpPr>
        <p:spPr>
          <a:xfrm>
            <a:off x="774720" y="3068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А.  4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В.  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.  8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.  6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6" name="Picture 2" descr="http://www.princeigor.net/spaw/images/misc/NAVSTAR-orb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881440"/>
            <a:ext cx="2857680" cy="27144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539640" y="3573360"/>
            <a:ext cx="37450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5342040" y="60930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а презентація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2182320" y="285264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Учнівський  фільм-проект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ndara"/>
              </a:rPr>
              <a:t>« Розвиток космонавтики «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Users\Raechka\Pictures\k\627643102.jpg"/>
          <p:cNvPicPr/>
          <p:nvPr/>
        </p:nvPicPr>
        <p:blipFill>
          <a:blip r:embed="rId1"/>
          <a:stretch/>
        </p:blipFill>
        <p:spPr>
          <a:xfrm>
            <a:off x="3276720" y="5595840"/>
            <a:ext cx="633240" cy="604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http://st.gdefon.ru/wallpapers_original/wallpapers/3794_planeta_zemlya_siyanie_1280x1024_(www.GdeFon.ru)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993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Raechka\Pictures\k\627643102.jpg"/>
          <p:cNvPicPr/>
          <p:nvPr/>
        </p:nvPicPr>
        <p:blipFill>
          <a:blip r:embed="rId3"/>
          <a:stretch/>
        </p:blipFill>
        <p:spPr>
          <a:xfrm>
            <a:off x="6353280" y="61498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http://st.gdefon.ru/wallpapers_original/wallpapers/3794_planeta_zemlya_siyanie_1280x1024_(www.GdeFon.ru).jpg"/>
          <p:cNvPicPr/>
          <p:nvPr/>
        </p:nvPicPr>
        <p:blipFill>
          <a:blip r:embed="rId4"/>
          <a:stretch/>
        </p:blipFill>
        <p:spPr>
          <a:xfrm>
            <a:off x="-184320" y="0"/>
            <a:ext cx="7975800" cy="6100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Raechka\Pictures\k\627643102.jpg"/>
          <p:cNvPicPr/>
          <p:nvPr/>
        </p:nvPicPr>
        <p:blipFill>
          <a:blip r:embed="rId5"/>
          <a:stretch/>
        </p:blipFill>
        <p:spPr>
          <a:xfrm>
            <a:off x="1093680" y="581976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Raechka\Pictures\k\627643102.jpg"/>
          <p:cNvPicPr/>
          <p:nvPr/>
        </p:nvPicPr>
        <p:blipFill>
          <a:blip r:embed="rId6"/>
          <a:stretch/>
        </p:blipFill>
        <p:spPr>
          <a:xfrm>
            <a:off x="7954920" y="260280"/>
            <a:ext cx="636480" cy="6080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http://trendclub.ru/moderupload/images/Boeng3.jpg"/>
          <p:cNvPicPr/>
          <p:nvPr/>
        </p:nvPicPr>
        <p:blipFill>
          <a:blip r:embed="rId7"/>
          <a:stretch/>
        </p:blipFill>
        <p:spPr>
          <a:xfrm>
            <a:off x="3492360" y="-301680"/>
            <a:ext cx="2141640" cy="1712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Users\Raechka\Pictures\k\627643102.jpg"/>
          <p:cNvPicPr/>
          <p:nvPr/>
        </p:nvPicPr>
        <p:blipFill>
          <a:blip r:embed="rId8"/>
          <a:stretch/>
        </p:blipFill>
        <p:spPr>
          <a:xfrm>
            <a:off x="8250120" y="5867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C:\Users\Raechka\Pictures\k\627643102.jpg"/>
          <p:cNvPicPr/>
          <p:nvPr/>
        </p:nvPicPr>
        <p:blipFill>
          <a:blip r:embed="rId9"/>
          <a:stretch/>
        </p:blipFill>
        <p:spPr>
          <a:xfrm>
            <a:off x="6580080" y="531036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Raechka\Pictures\k\627643102.jpg"/>
          <p:cNvPicPr/>
          <p:nvPr/>
        </p:nvPicPr>
        <p:blipFill>
          <a:blip r:embed="rId10"/>
          <a:stretch/>
        </p:blipFill>
        <p:spPr>
          <a:xfrm>
            <a:off x="7524720" y="274464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Raechka\Pictures\k\627643102.jpg"/>
          <p:cNvPicPr/>
          <p:nvPr/>
        </p:nvPicPr>
        <p:blipFill>
          <a:blip r:embed="rId11"/>
          <a:stretch/>
        </p:blipFill>
        <p:spPr>
          <a:xfrm>
            <a:off x="2496960" y="3032280"/>
            <a:ext cx="212760" cy="3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Raechka\Pictures\k\627643102.jpg"/>
          <p:cNvPicPr/>
          <p:nvPr/>
        </p:nvPicPr>
        <p:blipFill>
          <a:blip r:embed="rId12"/>
          <a:stretch/>
        </p:blipFill>
        <p:spPr>
          <a:xfrm>
            <a:off x="1433520" y="716040"/>
            <a:ext cx="317520" cy="304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Users\Raechka\Pictures\k\627643102.jpg"/>
          <p:cNvPicPr/>
          <p:nvPr/>
        </p:nvPicPr>
        <p:blipFill>
          <a:blip r:embed="rId13"/>
          <a:stretch/>
        </p:blipFill>
        <p:spPr>
          <a:xfrm>
            <a:off x="6846840" y="1173240"/>
            <a:ext cx="317520" cy="3031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" descr=""/>
          <p:cNvPicPr/>
          <p:nvPr/>
        </p:nvPicPr>
        <p:blipFill>
          <a:blip r:embed="rId14"/>
          <a:stretch/>
        </p:blipFill>
        <p:spPr>
          <a:xfrm>
            <a:off x="1590840" y="1305000"/>
            <a:ext cx="8534160" cy="66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C:\Users\Raechka\Pictures\k\627643102.jpg"/>
          <p:cNvPicPr/>
          <p:nvPr/>
        </p:nvPicPr>
        <p:blipFill>
          <a:blip r:embed="rId15"/>
          <a:stretch/>
        </p:blipFill>
        <p:spPr>
          <a:xfrm>
            <a:off x="395280" y="241200"/>
            <a:ext cx="317520" cy="303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Raechka\Pictures\k\627643102.jpg"/>
          <p:cNvPicPr/>
          <p:nvPr/>
        </p:nvPicPr>
        <p:blipFill>
          <a:blip r:embed="rId16"/>
          <a:stretch/>
        </p:blipFill>
        <p:spPr>
          <a:xfrm>
            <a:off x="7365960" y="1442880"/>
            <a:ext cx="317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986 0.02012 C 0.10573 0.02012 0.25694 0.16301 0.25694 0.33966 C 0.25694 0.51654 0.10573 0.65989 -0.07986 0.65989 C -0.2658 0.65989 -0.41632 0.51654 -0.41632 0.33966 C -0.41632 0.16301 -0.2658 0.02012 -0.07986 0.02012 Z">
                                      <p:cBhvr>
                                        <p:cTn id="134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4748040"/>
            <a:ext cx="10022040" cy="2109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Users\Raechka\Desktop\Штучні супутники Землі. Розвиток космонавтики\90592575_full1277666382.jpg"/>
          <p:cNvPicPr/>
          <p:nvPr/>
        </p:nvPicPr>
        <p:blipFill>
          <a:blip r:embed="rId2"/>
          <a:stretch/>
        </p:blipFill>
        <p:spPr>
          <a:xfrm>
            <a:off x="1332000" y="476280"/>
            <a:ext cx="6095880" cy="39816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8101440" y="6367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ndara"/>
              </a:rPr>
              <a:t>фільм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0" name="Gagarin.mp4" descr=""/>
          <p:cNvPicPr/>
          <p:nvPr/>
        </p:nvPicPr>
        <p:blipFill>
          <a:blip r:embed="rId3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1" name="Gagarin.mp4" descr=""/>
          <p:cNvPicPr/>
          <p:nvPr/>
        </p:nvPicPr>
        <p:blipFill>
          <a:blip r:embed="rId4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2" name="Gagarin.mp4" descr=""/>
          <p:cNvPicPr/>
          <p:nvPr/>
        </p:nvPicPr>
        <p:blipFill>
          <a:blip r:embed="rId5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3" name="Gagarin.mp4" descr=""/>
          <p:cNvPicPr/>
          <p:nvPr/>
        </p:nvPicPr>
        <p:blipFill>
          <a:blip r:embed="rId6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thumbnailCAMMSS3Z.jpg"/>
          <p:cNvPicPr/>
          <p:nvPr/>
        </p:nvPicPr>
        <p:blipFill>
          <a:blip r:embed="rId1"/>
          <a:stretch/>
        </p:blipFill>
        <p:spPr>
          <a:xfrm>
            <a:off x="4686480" y="276120"/>
            <a:ext cx="4195440" cy="42483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узел 2"/>
          <p:cNvSpPr/>
          <p:nvPr/>
        </p:nvSpPr>
        <p:spPr>
          <a:xfrm>
            <a:off x="6910560" y="322200"/>
            <a:ext cx="160200" cy="182520"/>
          </a:xfrm>
          <a:prstGeom prst="flowChartConnector">
            <a:avLst/>
          </a:prstGeom>
          <a:solidFill>
            <a:srgbClr val="00b05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Блок-схема: узел 7"/>
          <p:cNvSpPr/>
          <p:nvPr/>
        </p:nvSpPr>
        <p:spPr>
          <a:xfrm>
            <a:off x="6900840" y="276120"/>
            <a:ext cx="160200" cy="181080"/>
          </a:xfrm>
          <a:prstGeom prst="flowChartConnector">
            <a:avLst/>
          </a:prstGeom>
          <a:solidFill>
            <a:srgbClr val="7030a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Блок-схема: узел 9"/>
          <p:cNvSpPr/>
          <p:nvPr/>
        </p:nvSpPr>
        <p:spPr>
          <a:xfrm>
            <a:off x="6931080" y="249120"/>
            <a:ext cx="1620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9200" y="1325520"/>
            <a:ext cx="21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 m  g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9680" y="132552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824040" y="2104920"/>
            <a:ext cx="1906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m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Picture 16" descr="A229EA42"/>
          <p:cNvPicPr/>
          <p:nvPr/>
        </p:nvPicPr>
        <p:blipFill>
          <a:blip r:embed="rId2"/>
          <a:srcRect l="17239" t="50000" r="58334" b="42580"/>
          <a:stretch/>
        </p:blipFill>
        <p:spPr>
          <a:xfrm>
            <a:off x="39600" y="4456080"/>
            <a:ext cx="2779920" cy="982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5733F27F"/>
          <p:cNvPicPr/>
          <p:nvPr/>
        </p:nvPicPr>
        <p:blipFill>
          <a:blip r:embed="rId3"/>
          <a:srcRect l="0" t="0" r="279" b="170"/>
          <a:stretch/>
        </p:blipFill>
        <p:spPr>
          <a:xfrm>
            <a:off x="3027240" y="1249200"/>
            <a:ext cx="1332000" cy="79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A229EA42"/>
          <p:cNvPicPr/>
          <p:nvPr/>
        </p:nvPicPr>
        <p:blipFill>
          <a:blip r:embed="rId4"/>
          <a:srcRect l="17239" t="50000" r="30223" b="42580"/>
          <a:stretch/>
        </p:blipFill>
        <p:spPr>
          <a:xfrm>
            <a:off x="39600" y="4464000"/>
            <a:ext cx="5684760" cy="982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A229EA42"/>
          <p:cNvPicPr/>
          <p:nvPr/>
        </p:nvPicPr>
        <p:blipFill>
          <a:blip r:embed="rId5"/>
          <a:srcRect l="58024" t="29186" r="13727" b="59459"/>
          <a:stretch/>
        </p:blipFill>
        <p:spPr>
          <a:xfrm>
            <a:off x="536400" y="2924280"/>
            <a:ext cx="2664000" cy="12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5733F27F"/>
          <p:cNvPicPr/>
          <p:nvPr/>
        </p:nvPicPr>
        <p:blipFill>
          <a:blip r:embed="rId6"/>
          <a:srcRect l="0" t="0" r="42466" b="170"/>
          <a:stretch/>
        </p:blipFill>
        <p:spPr>
          <a:xfrm>
            <a:off x="3027240" y="1249200"/>
            <a:ext cx="770040" cy="7988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1"/>
          <p:cNvSpPr/>
          <p:nvPr/>
        </p:nvSpPr>
        <p:spPr>
          <a:xfrm>
            <a:off x="795240" y="2104920"/>
            <a:ext cx="89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9" name="TextBox 33" descr=""/>
          <p:cNvPicPr/>
          <p:nvPr/>
        </p:nvPicPr>
        <p:blipFill>
          <a:blip r:embed="rId7"/>
          <a:stretch/>
        </p:blipFill>
        <p:spPr>
          <a:xfrm>
            <a:off x="133200" y="-79200"/>
            <a:ext cx="5230800" cy="16826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6" descr=""/>
          <p:cNvPicPr/>
          <p:nvPr/>
        </p:nvPicPr>
        <p:blipFill>
          <a:blip r:embed="rId8"/>
          <a:stretch/>
        </p:blipFill>
        <p:spPr>
          <a:xfrm>
            <a:off x="-49320" y="5376960"/>
            <a:ext cx="90536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1019 L 0.075 0.03819 C 0.08628 0.04953 0.09618 0.07037 0.10295 0.09282 C 0.11076 0.11759 0.11146 0.14236 0.10764 0.16111 L 0.09149 0.25023 E">
                                      <p:cBhvr>
                                        <p:cTn id="27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1828 L 0.11528 0.10347 C 0.13316 0.13033 0.1434 0.17153 0.14462 0.21227 C 0.14288 0.2588 0.13489 0.29584 0.1158 0.32292 L 0.03142 0.44931 E">
                                      <p:cBhvr>
                                        <p:cTn id="3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01921 C 0.04288 -0.02269 0.16736 0.0706 0.19844 0.22801 C 0.22917 0.38472 0.15295 0.54722 0.03142 0.58889 C -0.09062 0.63078 -0.21354 0.5368 -0.24375 0.37963 C -0.27431 0.22199 -0.20069 0.06157 -0.0783 0.01921 Z">
                                      <p:cBhvr>
                                        <p:cTn id="35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9"/>
          <p:cNvSpPr/>
          <p:nvPr/>
        </p:nvSpPr>
        <p:spPr>
          <a:xfrm>
            <a:off x="1338120" y="0"/>
            <a:ext cx="6481800" cy="5084640"/>
          </a:xfrm>
          <a:prstGeom prst="rect">
            <a:avLst/>
          </a:prstGeom>
          <a:solidFill>
            <a:srgbClr val="ffffff"/>
          </a:solidFill>
          <a:ln w="38520">
            <a:solidFill>
              <a:srgbClr val="7c9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2" name="Picture 2" descr="C:\Users\Raechka\Desktop\Штучні супутники Землі. Розвиток космонавтики\ris27.gif"/>
          <p:cNvPicPr/>
          <p:nvPr/>
        </p:nvPicPr>
        <p:blipFill>
          <a:blip r:embed="rId1"/>
          <a:stretch/>
        </p:blipFill>
        <p:spPr>
          <a:xfrm>
            <a:off x="1687680" y="22320"/>
            <a:ext cx="5948280" cy="504036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8" descr=""/>
          <p:cNvPicPr/>
          <p:nvPr/>
        </p:nvPicPr>
        <p:blipFill>
          <a:blip r:embed="rId2"/>
          <a:stretch/>
        </p:blipFill>
        <p:spPr>
          <a:xfrm>
            <a:off x="85680" y="5035680"/>
            <a:ext cx="9113760" cy="1743120"/>
          </a:xfrm>
          <a:prstGeom prst="rect">
            <a:avLst/>
          </a:prstGeom>
          <a:ln w="0">
            <a:noFill/>
          </a:ln>
        </p:spPr>
      </p:pic>
      <p:sp>
        <p:nvSpPr>
          <p:cNvPr id="284" name="Блок-схема: узел 14"/>
          <p:cNvSpPr/>
          <p:nvPr/>
        </p:nvSpPr>
        <p:spPr>
          <a:xfrm>
            <a:off x="4140360" y="692280"/>
            <a:ext cx="1602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419 C 0.03732 -0.05208 0.06805 -0.02685 0.07604 0.01482 C 0.08472 0.05741 0.06667 0.09954 0.03715 0.10972 C 0.00781 0.1206 -0.0224 0.09329 -0.03073 0.05185 C -0.03872 0.00949 -0.02153 -0.03194 0.00816 -0.0419 Z">
                                      <p:cBhvr>
                                        <p:cTn id="74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extBox 1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56620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Объект 3" descr=""/>
          <p:cNvPicPr/>
          <p:nvPr/>
        </p:nvPicPr>
        <p:blipFill>
          <a:blip r:embed="rId2"/>
          <a:stretch/>
        </p:blipFill>
        <p:spPr>
          <a:xfrm>
            <a:off x="463680" y="1360440"/>
            <a:ext cx="2303280" cy="10335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4"/>
          <p:cNvSpPr/>
          <p:nvPr/>
        </p:nvSpPr>
        <p:spPr>
          <a:xfrm>
            <a:off x="3198960" y="1773360"/>
            <a:ext cx="2282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r>
              <a:rPr b="0" lang="en-US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8" name="Объект 5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162240" cy="12650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2559240" y="3068640"/>
            <a:ext cx="415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0" name="Объект 7" descr=""/>
          <p:cNvPicPr/>
          <p:nvPr/>
        </p:nvPicPr>
        <p:blipFill>
          <a:blip r:embed="rId4"/>
          <a:stretch/>
        </p:blipFill>
        <p:spPr>
          <a:xfrm>
            <a:off x="2530440" y="4724280"/>
            <a:ext cx="324000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8"/>
          <p:cNvSpPr/>
          <p:nvPr/>
        </p:nvSpPr>
        <p:spPr>
          <a:xfrm>
            <a:off x="2556000" y="5084640"/>
            <a:ext cx="50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2" name="TextBox 9" descr=""/>
          <p:cNvPicPr/>
          <p:nvPr/>
        </p:nvPicPr>
        <p:blipFill>
          <a:blip r:embed="rId5"/>
          <a:stretch/>
        </p:blipFill>
        <p:spPr>
          <a:xfrm>
            <a:off x="6126120" y="1238400"/>
            <a:ext cx="21891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324000" y="1112760"/>
            <a:ext cx="8712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ку швидкість повинен мати штучний 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упутник ,який обертається  навколо Землі  по коловій орбіті на висоті, що дорівнює: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1f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П</a:t>
            </a:r>
            <a:r>
              <a:rPr b="0" lang="uk-UA" sz="4000" spc="-1" strike="noStrike">
                <a:solidFill>
                  <a:srgbClr val="1f1f1f"/>
                </a:solidFill>
                <a:latin typeface="Candara"/>
              </a:rPr>
              <a:t>’</a:t>
            </a:r>
            <a:r>
              <a:rPr b="1" lang="uk-UA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ятнадцяти радіусам Земл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4" name="TextBox 1" descr=""/>
          <p:cNvPicPr/>
          <p:nvPr/>
        </p:nvPicPr>
        <p:blipFill>
          <a:blip r:embed="rId1"/>
          <a:stretch/>
        </p:blipFill>
        <p:spPr>
          <a:xfrm>
            <a:off x="2828880" y="6480"/>
            <a:ext cx="28954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dddd\Рабочий стол\и с з\main.jpg"/>
          <p:cNvPicPr/>
          <p:nvPr/>
        </p:nvPicPr>
        <p:blipFill>
          <a:blip r:embed="rId1"/>
          <a:stretch/>
        </p:blipFill>
        <p:spPr>
          <a:xfrm>
            <a:off x="2021040" y="119700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" descr=""/>
          <p:cNvPicPr/>
          <p:nvPr/>
        </p:nvPicPr>
        <p:blipFill>
          <a:blip r:embed="rId2"/>
          <a:stretch/>
        </p:blipFill>
        <p:spPr>
          <a:xfrm>
            <a:off x="-536400" y="-317520"/>
            <a:ext cx="9882000" cy="727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11в"/>
          <p:cNvPicPr/>
          <p:nvPr/>
        </p:nvPicPr>
        <p:blipFill>
          <a:blip r:embed="rId3"/>
          <a:stretch/>
        </p:blipFill>
        <p:spPr>
          <a:xfrm>
            <a:off x="500040" y="262080"/>
            <a:ext cx="1352520" cy="31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Raechka\Pictures\shkola animat\анимации шкеола\школа-2.gif"/>
          <p:cNvPicPr/>
          <p:nvPr/>
        </p:nvPicPr>
        <p:blipFill>
          <a:blip r:embed="rId4"/>
          <a:stretch/>
        </p:blipFill>
        <p:spPr>
          <a:xfrm>
            <a:off x="6572160" y="4102200"/>
            <a:ext cx="19195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52280"/>
            <a:ext cx="8845560" cy="2298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4" descr=""/>
          <p:cNvPicPr/>
          <p:nvPr/>
        </p:nvPicPr>
        <p:blipFill>
          <a:blip r:embed="rId3"/>
          <a:stretch/>
        </p:blipFill>
        <p:spPr>
          <a:xfrm>
            <a:off x="566640" y="2736720"/>
            <a:ext cx="4724640" cy="2646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thumbnailCAMMSS3Z.jpg"/>
          <p:cNvPicPr/>
          <p:nvPr/>
        </p:nvPicPr>
        <p:blipFill>
          <a:blip r:embed="rId4"/>
          <a:stretch/>
        </p:blipFill>
        <p:spPr>
          <a:xfrm>
            <a:off x="5003640" y="2565360"/>
            <a:ext cx="3745080" cy="37911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7"/>
          <p:cNvSpPr/>
          <p:nvPr/>
        </p:nvSpPr>
        <p:spPr>
          <a:xfrm>
            <a:off x="555480" y="4797360"/>
            <a:ext cx="40165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-36360"/>
            <a:ext cx="8748720" cy="184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900000" y="2684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 1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 11,2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7,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9,3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7" name="Picture 2" descr="ris26"/>
          <p:cNvPicPr/>
          <p:nvPr/>
        </p:nvPicPr>
        <p:blipFill>
          <a:blip r:embed="rId3"/>
          <a:stretch/>
        </p:blipFill>
        <p:spPr>
          <a:xfrm>
            <a:off x="5867280" y="2276640"/>
            <a:ext cx="2727360" cy="312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7"/>
          <p:cNvSpPr/>
          <p:nvPr/>
        </p:nvSpPr>
        <p:spPr>
          <a:xfrm>
            <a:off x="900000" y="4329000"/>
            <a:ext cx="3862440" cy="46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3:18:45Z</dcterms:created>
  <dc:creator>Раечка</dc:creator>
  <dc:description/>
  <dc:language>en-US</dc:language>
  <cp:lastModifiedBy>UserPC</cp:lastModifiedBy>
  <dcterms:modified xsi:type="dcterms:W3CDTF">2012-12-02T18:47:46Z</dcterms:modified>
  <cp:revision>9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140</vt:lpwstr>
  </property>
</Properties>
</file>