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wmf" ContentType="image/x-wmf"/>
  <Override PartName="/ppt/media/image18.wmf" ContentType="image/x-wmf"/>
  <Override PartName="/ppt/media/image2.jpeg" ContentType="image/jpeg"/>
  <Override PartName="/ppt/media/image20.png" ContentType="image/png"/>
  <Override PartName="/ppt/media/image36.jpeg" ContentType="image/jpeg"/>
  <Override PartName="/ppt/media/image17.wmf" ContentType="image/x-wmf"/>
  <Override PartName="/ppt/media/image16.png" ContentType="image/png"/>
  <Override PartName="/ppt/media/image8.jpeg" ContentType="image/jpeg"/>
  <Override PartName="/ppt/media/image30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2.png" ContentType="image/png"/>
  <Override PartName="/ppt/media/image9.jpeg" ContentType="image/jpeg"/>
  <Override PartName="/ppt/media/image32.png" ContentType="image/png"/>
  <Override PartName="/ppt/media/image22.jpeg" ContentType="image/jpeg"/>
  <Override PartName="/ppt/media/image27.gif" ContentType="image/gif"/>
  <Override PartName="/ppt/media/image13.png" ContentType="image/png"/>
  <Override PartName="/ppt/media/image37.png" ContentType="image/png"/>
  <Override PartName="/ppt/media/image39.gif" ContentType="image/gif"/>
  <Override PartName="/ppt/media/image40.jpeg" ContentType="image/jpeg"/>
  <Override PartName="/ppt/media/image41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84AF-9135-423E-80CD-56223BB21D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C075-7CC6-4D0B-9858-10F9D662D95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1B9F-D1E3-48F0-9D6F-4EE666A0489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704-BC9E-4A1E-9C7F-5BB20C39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1667-37D1-46F8-B948-AC030DE9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B62A-A1F7-4D2D-AC98-AF4843BE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B46-7A4C-4913-A8E2-A00579B3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DA8DE-FC85-4F31-8765-B614AE8C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BFFA9-6BFD-4D38-8195-3A64A630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AA21E-2279-456E-A739-49661831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F6ED3-B208-4C43-8407-3FE0BF69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8DD13-FAA5-4F0D-9EC1-3ACA15C7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FB7BD-9D0D-4E2D-AF6F-9F630A66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FE2AC-6DE3-4C0C-B334-4FDF8723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4BF-309A-4A84-8446-943A7C0B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D3AC8-A7FF-4480-AEB7-6D4AA805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7FBE5-A46B-4128-A512-6322A5CD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07DC4-3941-4651-A92A-8933C002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E2511-670D-4197-8229-08F36692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A1723-3097-4B07-A98A-9AE00DD4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29E68-8EAF-4353-9724-D7AA48FE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9754E-2497-454D-B40C-A0D3B04B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DA164-903F-4DF4-A775-D1157A09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0B7C7-2A3C-4F4C-B82F-CFF777EE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5A106-E4F5-4C99-8972-4A33A2B0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C15-65EA-4D5A-A214-24729049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697B5-7B9D-41AF-B738-3430ECFD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D5976-AEAC-48FC-BAE2-46F69923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8ED71-94DF-4E1E-9019-2910A53D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BB440-5627-487C-AB46-45223DC1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E97DC-BA93-46AC-AF1B-80841FC4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ACD64-3123-4A0F-B719-57F929D0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0CAA3-302A-481B-BCB4-FF3A5297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E50DD8-022F-4E48-9A72-06D3D939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D9AD8-CDE4-4B64-8501-DBA37EE3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41C5FC-66C7-440C-822F-022B8E37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0D81-6AF9-4C99-B66F-ED8E34C4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04546-8D32-47BE-8EAE-40519827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D31134-D647-4349-B270-34D0CACB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8C7A0E-A72F-4019-8E7F-D274C95B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0FBFB5-3386-426D-B421-1749984F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5280BA-8568-474C-AAEF-0BFD0651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89B936-1132-443C-B403-B67523B1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41DC57-AEAF-41A6-9F5B-7EBD9F12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21FD0C-6647-49F7-8334-F8630FB4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B27EFD-2F4B-4FF4-B573-725D6D5E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C8DE64-1407-47D0-A630-6AE58C8D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BB13-8279-4DC3-983D-36B59856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9942DF-282A-422E-A644-606B6BF6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8F41A8-6AD0-4017-B73B-213696AD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0A27B-A1E7-4307-AB49-F7300E20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F5548-F990-4B74-B3B1-66784DA2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E3F6F-5C91-4306-B4FE-1F8F938E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0B3AEE-51E2-4E85-AAB7-5AC51542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7F8CB-7410-46F4-B4CC-81E5FF0E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BB4FB3-DCD6-43C8-9DB5-3C244C84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157705-0211-4899-93F3-D2DE4485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3EE8FC-D994-4E57-9E82-D2BA4761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5D12-5003-46E2-A685-DDB732B5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335B4-2762-4460-A182-794AFE56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149667-4CBB-4EE1-A52D-18AAF864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B054F7-2C4B-446C-B1B8-6A7F2345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F53CE7-BCAB-4A58-86DF-819239C4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C3E1EF-702A-4D64-B25B-78D515E5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6E232-5D84-4650-B92F-DEC45C92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871D59-F84F-4820-B3C3-A8411D0D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2AD4FA-E61D-4AE4-84AD-9E70F5A1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F8001-AA1C-4849-B74D-EAA9E264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2870E0-119F-4CFC-95D3-93E7C068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009-76D1-4D34-A577-2BCA44DC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BDEAE3-F311-41AB-8921-008A6F64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C029A6-D167-4BC0-A70B-52B4D15E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E6DDAE-4731-4332-8978-5EE983C5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655-15F5-4CEE-A61C-F75CCA59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5CA4-6AE0-40BC-B777-8C0D5BE5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63C4-B01B-4CD6-9106-747CC7EE0576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FAA5-22F2-49A4-A4F2-8D02B24A96A2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8FFD-BEB6-4A49-8F97-2F732068D218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B642-868D-421B-99FB-C6DDA6E9E1EC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C56A-0431-4458-93B9-143C3AE0CC1B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781D-FC59-49BA-8C37-1BA5A8CBFBC5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7.gi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7.gi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7.gif"/><Relationship Id="rId3" Type="http://schemas.openxmlformats.org/officeDocument/2006/relationships/hyperlink" Target="file:///D:/&#1057;&#1091;&#1087;&#1091;&#1090;&#1085;&#1080;&#1082;&#1080;%20-%20&#1082;&#1086;&#1087;&#1080;&#1103;.pptx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image" Target="../media/image39.gif"/><Relationship Id="rId4" Type="http://schemas.openxmlformats.org/officeDocument/2006/relationships/image" Target="../media/image40.jpeg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5.png"/><Relationship Id="rId8" Type="http://schemas.openxmlformats.org/officeDocument/2006/relationships/image" Target="../media/image39.gif"/><Relationship Id="rId9" Type="http://schemas.openxmlformats.org/officeDocument/2006/relationships/image" Target="../media/image39.gif"/><Relationship Id="rId10" Type="http://schemas.openxmlformats.org/officeDocument/2006/relationships/image" Target="../media/image39.gif"/><Relationship Id="rId11" Type="http://schemas.openxmlformats.org/officeDocument/2006/relationships/image" Target="../media/image39.gif"/><Relationship Id="rId12" Type="http://schemas.openxmlformats.org/officeDocument/2006/relationships/image" Target="../media/image39.gif"/><Relationship Id="rId13" Type="http://schemas.openxmlformats.org/officeDocument/2006/relationships/image" Target="../media/image39.gif"/><Relationship Id="rId14" Type="http://schemas.openxmlformats.org/officeDocument/2006/relationships/image" Target="../media/image41.png"/><Relationship Id="rId15" Type="http://schemas.openxmlformats.org/officeDocument/2006/relationships/image" Target="../media/image39.gif"/><Relationship Id="rId16" Type="http://schemas.openxmlformats.org/officeDocument/2006/relationships/image" Target="../media/image39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gi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http://oboi.kards.qip.ru/images/wallpaper/b1/92/103089_1024_768.jpg"/>
          <p:cNvPicPr/>
          <p:nvPr/>
        </p:nvPicPr>
        <p:blipFill>
          <a:blip r:embed="rId1"/>
          <a:srcRect l="0" t="0" r="-9219" b="37"/>
          <a:stretch/>
        </p:blipFill>
        <p:spPr>
          <a:xfrm>
            <a:off x="-15840" y="0"/>
            <a:ext cx="9991800" cy="7016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Raechka\Desktop\Штучні супутники Землі.jpg"/>
          <p:cNvPicPr/>
          <p:nvPr/>
        </p:nvPicPr>
        <p:blipFill>
          <a:blip r:embed="rId2"/>
          <a:srcRect l="0" t="0" r="-91" b="178"/>
          <a:stretch/>
        </p:blipFill>
        <p:spPr>
          <a:xfrm>
            <a:off x="3402000" y="1731960"/>
            <a:ext cx="3156120" cy="207792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5" descr=""/>
          <p:cNvPicPr/>
          <p:nvPr/>
        </p:nvPicPr>
        <p:blipFill>
          <a:blip r:embed="rId3"/>
          <a:stretch/>
        </p:blipFill>
        <p:spPr>
          <a:xfrm>
            <a:off x="201600" y="2743200"/>
            <a:ext cx="9240840" cy="2840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http://trendclub.ru/moderupload/images/Boeng3.jpg"/>
          <p:cNvPicPr/>
          <p:nvPr/>
        </p:nvPicPr>
        <p:blipFill>
          <a:blip r:embed="rId4"/>
          <a:stretch/>
        </p:blipFill>
        <p:spPr>
          <a:xfrm>
            <a:off x="-324000" y="-747720"/>
            <a:ext cx="3726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19 0.1375 L -0.13038 0.32199 C -0.08611 0.3625 -0.02135 0.38402 0.04757 0.38402 C 0.12518 0.38402 0.18733 0.3625 0.23125 0.32199 L 0.4415 0.1375 E">
                                      <p:cBhvr>
                                        <p:cTn id="6" dur="5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Прямоугольник 1" descr=""/>
          <p:cNvPicPr/>
          <p:nvPr/>
        </p:nvPicPr>
        <p:blipFill>
          <a:blip r:embed="rId1"/>
          <a:stretch/>
        </p:blipFill>
        <p:spPr>
          <a:xfrm>
            <a:off x="669960" y="128520"/>
            <a:ext cx="7431120" cy="5686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17"/>
          <p:cNvSpPr/>
          <p:nvPr/>
        </p:nvSpPr>
        <p:spPr>
          <a:xfrm>
            <a:off x="800280" y="4437000"/>
            <a:ext cx="3585960" cy="46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12" name="Picture 2" descr="C:\Documents and Settings\dddd\Рабочий стол\и с з\RR5111-0162R.gif"/>
          <p:cNvPicPr/>
          <p:nvPr/>
        </p:nvPicPr>
        <p:blipFill>
          <a:blip r:embed="rId3"/>
          <a:stretch/>
        </p:blipFill>
        <p:spPr>
          <a:xfrm>
            <a:off x="5796000" y="3925800"/>
            <a:ext cx="31287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Прямоугольник 1" descr=""/>
          <p:cNvPicPr/>
          <p:nvPr/>
        </p:nvPicPr>
        <p:blipFill>
          <a:blip r:embed="rId1"/>
          <a:stretch/>
        </p:blipFill>
        <p:spPr>
          <a:xfrm>
            <a:off x="762120" y="-42840"/>
            <a:ext cx="8169120" cy="1847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3"/>
          <p:cNvSpPr/>
          <p:nvPr/>
        </p:nvSpPr>
        <p:spPr>
          <a:xfrm>
            <a:off x="406440" y="2637000"/>
            <a:ext cx="730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А. 12 квітня 1961 року</a:t>
            </a:r>
            <a:br>
              <a:rPr sz="3600"/>
            </a:br>
            <a:r>
              <a:rPr b="1" lang="uk-UA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В. 4 жовтня 1957 року</a:t>
            </a:r>
            <a:br>
              <a:rPr sz="3600"/>
            </a:br>
            <a:r>
              <a:rPr b="1" lang="uk-UA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. 15 квітня 1963 року</a:t>
            </a:r>
            <a:br>
              <a:rPr sz="3600"/>
            </a:b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D</a:t>
            </a:r>
            <a:r>
              <a:rPr b="1" lang="uk-UA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. 28 березня 1965 року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6" name="Rectangle 17"/>
          <p:cNvSpPr/>
          <p:nvPr/>
        </p:nvSpPr>
        <p:spPr>
          <a:xfrm>
            <a:off x="826920" y="3753000"/>
            <a:ext cx="414360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17" name="Picture 2" descr="C:\Documents and Settings\dddd\Рабочий стол\и с з\main.jpg"/>
          <p:cNvPicPr/>
          <p:nvPr/>
        </p:nvPicPr>
        <p:blipFill>
          <a:blip r:embed="rId3"/>
          <a:stretch/>
        </p:blipFill>
        <p:spPr>
          <a:xfrm>
            <a:off x="5986440" y="2789280"/>
            <a:ext cx="284472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11в"/>
          <p:cNvPicPr/>
          <p:nvPr/>
        </p:nvPicPr>
        <p:blipFill>
          <a:blip r:embed="rId1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pic>
        <p:nvPicPr>
          <p:cNvPr id="319" name="TextBox 2" descr=""/>
          <p:cNvPicPr/>
          <p:nvPr/>
        </p:nvPicPr>
        <p:blipFill>
          <a:blip r:embed="rId2"/>
          <a:stretch/>
        </p:blipFill>
        <p:spPr>
          <a:xfrm>
            <a:off x="743040" y="152280"/>
            <a:ext cx="8480160" cy="37134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C:\Documents and Settings\dddd\Рабочий стол\Новая папка\Korolev.jpg"/>
          <p:cNvPicPr/>
          <p:nvPr/>
        </p:nvPicPr>
        <p:blipFill>
          <a:blip r:embed="rId3"/>
          <a:stretch/>
        </p:blipFill>
        <p:spPr>
          <a:xfrm>
            <a:off x="6588000" y="3363840"/>
            <a:ext cx="2124360" cy="33577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7"/>
          <p:cNvSpPr/>
          <p:nvPr/>
        </p:nvSpPr>
        <p:spPr>
          <a:xfrm>
            <a:off x="880920" y="3068640"/>
            <a:ext cx="37450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22" name="Picture 2" descr="http://pozdravish.ru/wp-content/uploads/2011/09/korolev_2.jpg"/>
          <p:cNvPicPr/>
          <p:nvPr/>
        </p:nvPicPr>
        <p:blipFill>
          <a:blip r:embed="rId4"/>
          <a:stretch/>
        </p:blipFill>
        <p:spPr>
          <a:xfrm>
            <a:off x="93600" y="3778200"/>
            <a:ext cx="45324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Прямоугольник 1" descr=""/>
          <p:cNvPicPr/>
          <p:nvPr/>
        </p:nvPicPr>
        <p:blipFill>
          <a:blip r:embed="rId1"/>
          <a:stretch/>
        </p:blipFill>
        <p:spPr>
          <a:xfrm>
            <a:off x="554040" y="139680"/>
            <a:ext cx="8650440" cy="261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3"/>
          <p:cNvSpPr/>
          <p:nvPr/>
        </p:nvSpPr>
        <p:spPr>
          <a:xfrm>
            <a:off x="774720" y="3068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А.  4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В.  9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С.  8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D</a:t>
            </a: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.  6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26" name="Picture 2" descr="http://www.princeigor.net/spaw/images/misc/NAVSTAR-orbi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881440"/>
            <a:ext cx="2857680" cy="27144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7"/>
          <p:cNvSpPr/>
          <p:nvPr/>
        </p:nvSpPr>
        <p:spPr>
          <a:xfrm>
            <a:off x="539640" y="3573360"/>
            <a:ext cx="37450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5342040" y="60930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ndara"/>
              </a:rPr>
              <a:t>Учнівська презентація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2"/>
          <p:cNvSpPr/>
          <p:nvPr/>
        </p:nvSpPr>
        <p:spPr>
          <a:xfrm>
            <a:off x="2182320" y="285264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ndara"/>
              </a:rPr>
              <a:t>Учнівський  фільм-проект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ndara"/>
              </a:rPr>
              <a:t>« Розвиток космонавтики «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C:\Users\Raechka\Pictures\k\627643102.jpg"/>
          <p:cNvPicPr/>
          <p:nvPr/>
        </p:nvPicPr>
        <p:blipFill>
          <a:blip r:embed="rId1"/>
          <a:stretch/>
        </p:blipFill>
        <p:spPr>
          <a:xfrm>
            <a:off x="3276720" y="5595840"/>
            <a:ext cx="633240" cy="604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http://st.gdefon.ru/wallpapers_original/wallpapers/3794_planeta_zemlya_siyanie_1280x1024_(www.GdeFon.ru).jp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993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C:\Users\Raechka\Pictures\k\627643102.jpg"/>
          <p:cNvPicPr/>
          <p:nvPr/>
        </p:nvPicPr>
        <p:blipFill>
          <a:blip r:embed="rId3"/>
          <a:stretch/>
        </p:blipFill>
        <p:spPr>
          <a:xfrm>
            <a:off x="6353280" y="6149880"/>
            <a:ext cx="533160" cy="509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http://st.gdefon.ru/wallpapers_original/wallpapers/3794_planeta_zemlya_siyanie_1280x1024_(www.GdeFon.ru).jpg"/>
          <p:cNvPicPr/>
          <p:nvPr/>
        </p:nvPicPr>
        <p:blipFill>
          <a:blip r:embed="rId4"/>
          <a:stretch/>
        </p:blipFill>
        <p:spPr>
          <a:xfrm>
            <a:off x="-184320" y="0"/>
            <a:ext cx="7975800" cy="6100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C:\Users\Raechka\Pictures\k\627643102.jpg"/>
          <p:cNvPicPr/>
          <p:nvPr/>
        </p:nvPicPr>
        <p:blipFill>
          <a:blip r:embed="rId5"/>
          <a:stretch/>
        </p:blipFill>
        <p:spPr>
          <a:xfrm>
            <a:off x="1093680" y="5819760"/>
            <a:ext cx="533520" cy="5097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C:\Users\Raechka\Pictures\k\627643102.jpg"/>
          <p:cNvPicPr/>
          <p:nvPr/>
        </p:nvPicPr>
        <p:blipFill>
          <a:blip r:embed="rId6"/>
          <a:stretch/>
        </p:blipFill>
        <p:spPr>
          <a:xfrm>
            <a:off x="7954920" y="260280"/>
            <a:ext cx="636480" cy="6080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http://trendclub.ru/moderupload/images/Boeng3.jpg"/>
          <p:cNvPicPr/>
          <p:nvPr/>
        </p:nvPicPr>
        <p:blipFill>
          <a:blip r:embed="rId7"/>
          <a:stretch/>
        </p:blipFill>
        <p:spPr>
          <a:xfrm>
            <a:off x="3492360" y="-301680"/>
            <a:ext cx="2141640" cy="1712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C:\Users\Raechka\Pictures\k\627643102.jpg"/>
          <p:cNvPicPr/>
          <p:nvPr/>
        </p:nvPicPr>
        <p:blipFill>
          <a:blip r:embed="rId8"/>
          <a:stretch/>
        </p:blipFill>
        <p:spPr>
          <a:xfrm>
            <a:off x="8250120" y="5867280"/>
            <a:ext cx="533520" cy="5097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C:\Users\Raechka\Pictures\k\627643102.jpg"/>
          <p:cNvPicPr/>
          <p:nvPr/>
        </p:nvPicPr>
        <p:blipFill>
          <a:blip r:embed="rId9"/>
          <a:stretch/>
        </p:blipFill>
        <p:spPr>
          <a:xfrm>
            <a:off x="6580080" y="5310360"/>
            <a:ext cx="533520" cy="509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C:\Users\Raechka\Pictures\k\627643102.jpg"/>
          <p:cNvPicPr/>
          <p:nvPr/>
        </p:nvPicPr>
        <p:blipFill>
          <a:blip r:embed="rId10"/>
          <a:stretch/>
        </p:blipFill>
        <p:spPr>
          <a:xfrm>
            <a:off x="7524720" y="2744640"/>
            <a:ext cx="533520" cy="509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C:\Users\Raechka\Pictures\k\627643102.jpg"/>
          <p:cNvPicPr/>
          <p:nvPr/>
        </p:nvPicPr>
        <p:blipFill>
          <a:blip r:embed="rId11"/>
          <a:stretch/>
        </p:blipFill>
        <p:spPr>
          <a:xfrm>
            <a:off x="2496960" y="3032280"/>
            <a:ext cx="212760" cy="360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C:\Users\Raechka\Pictures\k\627643102.jpg"/>
          <p:cNvPicPr/>
          <p:nvPr/>
        </p:nvPicPr>
        <p:blipFill>
          <a:blip r:embed="rId12"/>
          <a:stretch/>
        </p:blipFill>
        <p:spPr>
          <a:xfrm>
            <a:off x="1433520" y="716040"/>
            <a:ext cx="317520" cy="304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C:\Users\Raechka\Pictures\k\627643102.jpg"/>
          <p:cNvPicPr/>
          <p:nvPr/>
        </p:nvPicPr>
        <p:blipFill>
          <a:blip r:embed="rId13"/>
          <a:stretch/>
        </p:blipFill>
        <p:spPr>
          <a:xfrm>
            <a:off x="6846840" y="1173240"/>
            <a:ext cx="317520" cy="30312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3" descr=""/>
          <p:cNvPicPr/>
          <p:nvPr/>
        </p:nvPicPr>
        <p:blipFill>
          <a:blip r:embed="rId14"/>
          <a:stretch/>
        </p:blipFill>
        <p:spPr>
          <a:xfrm>
            <a:off x="1590840" y="1305000"/>
            <a:ext cx="8534160" cy="6600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C:\Users\Raechka\Pictures\k\627643102.jpg"/>
          <p:cNvPicPr/>
          <p:nvPr/>
        </p:nvPicPr>
        <p:blipFill>
          <a:blip r:embed="rId15"/>
          <a:stretch/>
        </p:blipFill>
        <p:spPr>
          <a:xfrm>
            <a:off x="395280" y="241200"/>
            <a:ext cx="317520" cy="303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Raechka\Pictures\k\627643102.jpg"/>
          <p:cNvPicPr/>
          <p:nvPr/>
        </p:nvPicPr>
        <p:blipFill>
          <a:blip r:embed="rId16"/>
          <a:stretch/>
        </p:blipFill>
        <p:spPr>
          <a:xfrm>
            <a:off x="7365960" y="1442880"/>
            <a:ext cx="317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7986 0.02012 C 0.10573 0.02012 0.25694 0.16301 0.25694 0.33966 C 0.25694 0.51654 0.10573 0.65989 -0.07986 0.65989 C -0.2658 0.65989 -0.41632 0.51654 -0.41632 0.33966 C -0.41632 0.16301 -0.2658 0.02012 -0.07986 0.02012 Z">
                                      <p:cBhvr>
                                        <p:cTn id="134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Прямоугольник 1" descr=""/>
          <p:cNvPicPr/>
          <p:nvPr/>
        </p:nvPicPr>
        <p:blipFill>
          <a:blip r:embed="rId1"/>
          <a:stretch/>
        </p:blipFill>
        <p:spPr>
          <a:xfrm>
            <a:off x="55440" y="4748040"/>
            <a:ext cx="10022040" cy="2109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Users\Raechka\Desktop\Штучні супутники Землі. Розвиток космонавтики\90592575_full1277666382.jpg"/>
          <p:cNvPicPr/>
          <p:nvPr/>
        </p:nvPicPr>
        <p:blipFill>
          <a:blip r:embed="rId2"/>
          <a:stretch/>
        </p:blipFill>
        <p:spPr>
          <a:xfrm>
            <a:off x="1332000" y="476280"/>
            <a:ext cx="6095880" cy="39816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8101440" y="636732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ndara"/>
              </a:rPr>
              <a:t>фільм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0" name="Gagarin.mp4" descr=""/>
          <p:cNvPicPr/>
          <p:nvPr/>
        </p:nvPicPr>
        <p:blipFill>
          <a:blip r:embed="rId3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  <p:pic>
        <p:nvPicPr>
          <p:cNvPr id="261" name="Gagarin.mp4" descr=""/>
          <p:cNvPicPr/>
          <p:nvPr/>
        </p:nvPicPr>
        <p:blipFill>
          <a:blip r:embed="rId4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  <p:pic>
        <p:nvPicPr>
          <p:cNvPr id="262" name="Gagarin.mp4" descr=""/>
          <p:cNvPicPr/>
          <p:nvPr/>
        </p:nvPicPr>
        <p:blipFill>
          <a:blip r:embed="rId5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  <p:pic>
        <p:nvPicPr>
          <p:cNvPr id="263" name="Gagarin.mp4" descr=""/>
          <p:cNvPicPr/>
          <p:nvPr/>
        </p:nvPicPr>
        <p:blipFill>
          <a:blip r:embed="rId6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" descr="thumbnailCAMMSS3Z.jpg"/>
          <p:cNvPicPr/>
          <p:nvPr/>
        </p:nvPicPr>
        <p:blipFill>
          <a:blip r:embed="rId1"/>
          <a:stretch/>
        </p:blipFill>
        <p:spPr>
          <a:xfrm>
            <a:off x="4686480" y="276120"/>
            <a:ext cx="4195440" cy="4248360"/>
          </a:xfrm>
          <a:prstGeom prst="rect">
            <a:avLst/>
          </a:prstGeom>
          <a:ln w="0">
            <a:noFill/>
          </a:ln>
        </p:spPr>
      </p:pic>
      <p:sp>
        <p:nvSpPr>
          <p:cNvPr id="265" name="Блок-схема: узел 2"/>
          <p:cNvSpPr/>
          <p:nvPr/>
        </p:nvSpPr>
        <p:spPr>
          <a:xfrm>
            <a:off x="6910560" y="322200"/>
            <a:ext cx="160200" cy="182520"/>
          </a:xfrm>
          <a:prstGeom prst="flowChartConnector">
            <a:avLst/>
          </a:prstGeom>
          <a:solidFill>
            <a:srgbClr val="00b050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Блок-схема: узел 7"/>
          <p:cNvSpPr/>
          <p:nvPr/>
        </p:nvSpPr>
        <p:spPr>
          <a:xfrm>
            <a:off x="6900840" y="276120"/>
            <a:ext cx="160200" cy="181080"/>
          </a:xfrm>
          <a:prstGeom prst="flowChartConnector">
            <a:avLst/>
          </a:prstGeom>
          <a:solidFill>
            <a:srgbClr val="7030a0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7" name="Блок-схема: узел 9"/>
          <p:cNvSpPr/>
          <p:nvPr/>
        </p:nvSpPr>
        <p:spPr>
          <a:xfrm>
            <a:off x="6931080" y="249120"/>
            <a:ext cx="162000" cy="182520"/>
          </a:xfrm>
          <a:prstGeom prst="flowChartConnector">
            <a:avLst/>
          </a:prstGeom>
          <a:solidFill>
            <a:srgbClr val="ff0000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79200" y="1325520"/>
            <a:ext cx="219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</a:t>
            </a:r>
            <a:r>
              <a:rPr b="1" lang="ru-RU" sz="18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тяж</a:t>
            </a: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= m  g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Прямоугольник 20"/>
          <p:cNvSpPr/>
          <p:nvPr/>
        </p:nvSpPr>
        <p:spPr>
          <a:xfrm>
            <a:off x="49680" y="1325520"/>
            <a:ext cx="123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</a:t>
            </a:r>
            <a:r>
              <a:rPr b="1" lang="ru-RU" sz="18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тяж</a:t>
            </a: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2" name="Прямоугольник 17"/>
          <p:cNvSpPr/>
          <p:nvPr/>
        </p:nvSpPr>
        <p:spPr>
          <a:xfrm>
            <a:off x="824040" y="2104920"/>
            <a:ext cx="1906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 = m</a:t>
            </a: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a</a:t>
            </a:r>
            <a:r>
              <a:rPr b="1" lang="ru-RU" sz="18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73" name="Picture 16" descr="A229EA42"/>
          <p:cNvPicPr/>
          <p:nvPr/>
        </p:nvPicPr>
        <p:blipFill>
          <a:blip r:embed="rId2"/>
          <a:srcRect l="17239" t="50000" r="58334" b="42580"/>
          <a:stretch/>
        </p:blipFill>
        <p:spPr>
          <a:xfrm>
            <a:off x="39600" y="4456080"/>
            <a:ext cx="2779920" cy="982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5733F27F"/>
          <p:cNvPicPr/>
          <p:nvPr/>
        </p:nvPicPr>
        <p:blipFill>
          <a:blip r:embed="rId3"/>
          <a:srcRect l="0" t="0" r="279" b="170"/>
          <a:stretch/>
        </p:blipFill>
        <p:spPr>
          <a:xfrm>
            <a:off x="3027240" y="1249200"/>
            <a:ext cx="1332000" cy="798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A229EA42"/>
          <p:cNvPicPr/>
          <p:nvPr/>
        </p:nvPicPr>
        <p:blipFill>
          <a:blip r:embed="rId4"/>
          <a:srcRect l="17239" t="50000" r="30223" b="42580"/>
          <a:stretch/>
        </p:blipFill>
        <p:spPr>
          <a:xfrm>
            <a:off x="39600" y="4464000"/>
            <a:ext cx="5684760" cy="9828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A229EA42"/>
          <p:cNvPicPr/>
          <p:nvPr/>
        </p:nvPicPr>
        <p:blipFill>
          <a:blip r:embed="rId5"/>
          <a:srcRect l="58024" t="29186" r="13727" b="59459"/>
          <a:stretch/>
        </p:blipFill>
        <p:spPr>
          <a:xfrm>
            <a:off x="536400" y="2924280"/>
            <a:ext cx="2664000" cy="1243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5733F27F"/>
          <p:cNvPicPr/>
          <p:nvPr/>
        </p:nvPicPr>
        <p:blipFill>
          <a:blip r:embed="rId6"/>
          <a:srcRect l="0" t="0" r="42466" b="170"/>
          <a:stretch/>
        </p:blipFill>
        <p:spPr>
          <a:xfrm>
            <a:off x="3027240" y="1249200"/>
            <a:ext cx="770040" cy="79884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31"/>
          <p:cNvSpPr/>
          <p:nvPr/>
        </p:nvSpPr>
        <p:spPr>
          <a:xfrm>
            <a:off x="795240" y="2104920"/>
            <a:ext cx="898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 =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79" name="TextBox 33" descr=""/>
          <p:cNvPicPr/>
          <p:nvPr/>
        </p:nvPicPr>
        <p:blipFill>
          <a:blip r:embed="rId7"/>
          <a:stretch/>
        </p:blipFill>
        <p:spPr>
          <a:xfrm>
            <a:off x="133200" y="-79200"/>
            <a:ext cx="5230800" cy="168264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оугольник 36" descr=""/>
          <p:cNvPicPr/>
          <p:nvPr/>
        </p:nvPicPr>
        <p:blipFill>
          <a:blip r:embed="rId8"/>
          <a:stretch/>
        </p:blipFill>
        <p:spPr>
          <a:xfrm>
            <a:off x="-49320" y="5376960"/>
            <a:ext cx="905364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-0.01019 L 0.075 0.03819 C 0.08628 0.04953 0.09618 0.07037 0.10295 0.09282 C 0.11076 0.11759 0.11146 0.14236 0.10764 0.16111 L 0.09149 0.25023 E">
                                      <p:cBhvr>
                                        <p:cTn id="27" dur="3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2 -0.01828 L 0.11528 0.10347 C 0.13316 0.13033 0.1434 0.17153 0.14462 0.21227 C 0.14288 0.2588 0.13489 0.29584 0.1158 0.32292 L 0.03142 0.44931 E">
                                      <p:cBhvr>
                                        <p:cTn id="31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3 0.01921 C 0.04288 -0.02269 0.16736 0.0706 0.19844 0.22801 C 0.22917 0.38472 0.15295 0.54722 0.03142 0.58889 C -0.09062 0.63078 -0.21354 0.5368 -0.24375 0.37963 C -0.27431 0.22199 -0.20069 0.06157 -0.0783 0.01921 Z">
                                      <p:cBhvr>
                                        <p:cTn id="35" dur="3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9"/>
          <p:cNvSpPr/>
          <p:nvPr/>
        </p:nvSpPr>
        <p:spPr>
          <a:xfrm>
            <a:off x="1338120" y="0"/>
            <a:ext cx="6481800" cy="5084640"/>
          </a:xfrm>
          <a:prstGeom prst="rect">
            <a:avLst/>
          </a:prstGeom>
          <a:solidFill>
            <a:srgbClr val="ffffff"/>
          </a:solidFill>
          <a:ln w="38520">
            <a:solidFill>
              <a:srgbClr val="7c9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2" name="Picture 2" descr="C:\Users\Raechka\Desktop\Штучні супутники Землі. Розвиток космонавтики\ris27.gif"/>
          <p:cNvPicPr/>
          <p:nvPr/>
        </p:nvPicPr>
        <p:blipFill>
          <a:blip r:embed="rId1"/>
          <a:stretch/>
        </p:blipFill>
        <p:spPr>
          <a:xfrm>
            <a:off x="1687680" y="22320"/>
            <a:ext cx="5948280" cy="5040360"/>
          </a:xfrm>
          <a:prstGeom prst="rect">
            <a:avLst/>
          </a:prstGeom>
          <a:ln w="0">
            <a:noFill/>
          </a:ln>
        </p:spPr>
      </p:pic>
      <p:pic>
        <p:nvPicPr>
          <p:cNvPr id="283" name="TextBox 8" descr=""/>
          <p:cNvPicPr/>
          <p:nvPr/>
        </p:nvPicPr>
        <p:blipFill>
          <a:blip r:embed="rId2"/>
          <a:stretch/>
        </p:blipFill>
        <p:spPr>
          <a:xfrm>
            <a:off x="85680" y="5035680"/>
            <a:ext cx="9113760" cy="1743120"/>
          </a:xfrm>
          <a:prstGeom prst="rect">
            <a:avLst/>
          </a:prstGeom>
          <a:ln w="0">
            <a:noFill/>
          </a:ln>
        </p:spPr>
      </p:pic>
      <p:sp>
        <p:nvSpPr>
          <p:cNvPr id="284" name="Блок-схема: узел 14"/>
          <p:cNvSpPr/>
          <p:nvPr/>
        </p:nvSpPr>
        <p:spPr>
          <a:xfrm>
            <a:off x="4140360" y="692280"/>
            <a:ext cx="160200" cy="182520"/>
          </a:xfrm>
          <a:prstGeom prst="flowChartConnector">
            <a:avLst/>
          </a:prstGeom>
          <a:solidFill>
            <a:srgbClr val="ff0000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-0.0419 C 0.03732 -0.05208 0.06805 -0.02685 0.07604 0.01482 C 0.08472 0.05741 0.06667 0.09954 0.03715 0.10972 C 0.00781 0.1206 -0.0224 0.09329 -0.03073 0.05185 C -0.03872 0.00949 -0.02153 -0.03194 0.00816 -0.0419 Z">
                                      <p:cBhvr>
                                        <p:cTn id="74" dur="3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extBox 1" descr=""/>
          <p:cNvPicPr/>
          <p:nvPr/>
        </p:nvPicPr>
        <p:blipFill>
          <a:blip r:embed="rId1"/>
          <a:stretch/>
        </p:blipFill>
        <p:spPr>
          <a:xfrm>
            <a:off x="249120" y="133200"/>
            <a:ext cx="8566200" cy="1073160"/>
          </a:xfrm>
          <a:prstGeom prst="rect">
            <a:avLst/>
          </a:prstGeom>
          <a:ln w="0">
            <a:noFill/>
          </a:ln>
        </p:spPr>
      </p:pic>
      <p:pic>
        <p:nvPicPr>
          <p:cNvPr id="286" name="Объект 3" descr=""/>
          <p:cNvPicPr/>
          <p:nvPr/>
        </p:nvPicPr>
        <p:blipFill>
          <a:blip r:embed="rId2"/>
          <a:stretch/>
        </p:blipFill>
        <p:spPr>
          <a:xfrm>
            <a:off x="463680" y="1360440"/>
            <a:ext cx="2303280" cy="103356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4"/>
          <p:cNvSpPr/>
          <p:nvPr/>
        </p:nvSpPr>
        <p:spPr>
          <a:xfrm>
            <a:off x="3198960" y="1773360"/>
            <a:ext cx="22827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 = </a:t>
            </a:r>
            <a:r>
              <a:rPr b="0" lang="en-US" sz="4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m</a:t>
            </a:r>
            <a:r>
              <a:rPr b="0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8" name="Объект 5" descr=""/>
          <p:cNvPicPr/>
          <p:nvPr/>
        </p:nvPicPr>
        <p:blipFill>
          <a:blip r:embed="rId3"/>
          <a:stretch/>
        </p:blipFill>
        <p:spPr>
          <a:xfrm>
            <a:off x="2556000" y="3048120"/>
            <a:ext cx="3162240" cy="12650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6"/>
          <p:cNvSpPr/>
          <p:nvPr/>
        </p:nvSpPr>
        <p:spPr>
          <a:xfrm>
            <a:off x="2559240" y="3068640"/>
            <a:ext cx="415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1f1f"/>
                </a:solidFill>
                <a:latin typeface="Symbol"/>
                <a:ea typeface="Symbol"/>
              </a:rPr>
              <a:t>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0" name="Объект 7" descr=""/>
          <p:cNvPicPr/>
          <p:nvPr/>
        </p:nvPicPr>
        <p:blipFill>
          <a:blip r:embed="rId4"/>
          <a:stretch/>
        </p:blipFill>
        <p:spPr>
          <a:xfrm>
            <a:off x="2530440" y="4724280"/>
            <a:ext cx="3240000" cy="1735200"/>
          </a:xfrm>
          <a:prstGeom prst="rect">
            <a:avLst/>
          </a:prstGeom>
          <a:ln w="0">
            <a:noFill/>
          </a:ln>
        </p:spPr>
      </p:pic>
      <p:sp>
        <p:nvSpPr>
          <p:cNvPr id="291" name="TextBox 8"/>
          <p:cNvSpPr/>
          <p:nvPr/>
        </p:nvSpPr>
        <p:spPr>
          <a:xfrm>
            <a:off x="2556000" y="5084640"/>
            <a:ext cx="506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1f1f"/>
                </a:solidFill>
                <a:latin typeface="Symbol"/>
                <a:ea typeface="Symbol"/>
              </a:rPr>
              <a:t>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2" name="TextBox 9" descr=""/>
          <p:cNvPicPr/>
          <p:nvPr/>
        </p:nvPicPr>
        <p:blipFill>
          <a:blip r:embed="rId5"/>
          <a:stretch/>
        </p:blipFill>
        <p:spPr>
          <a:xfrm>
            <a:off x="6126120" y="1238400"/>
            <a:ext cx="218916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2"/>
          <p:cNvSpPr/>
          <p:nvPr/>
        </p:nvSpPr>
        <p:spPr>
          <a:xfrm>
            <a:off x="324000" y="1112760"/>
            <a:ext cx="871200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Яку швидкість повинен мати штучний </a:t>
            </a:r>
            <a:r>
              <a:rPr b="1" lang="uk-UA" sz="4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супутник ,який обертається  навколо Землі  по коловій орбіті на висоті, що дорівнює: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1f1f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П</a:t>
            </a:r>
            <a:r>
              <a:rPr b="0" lang="uk-UA" sz="4000" spc="-1" strike="noStrike">
                <a:solidFill>
                  <a:srgbClr val="1f1f1f"/>
                </a:solidFill>
                <a:latin typeface="Candara"/>
              </a:rPr>
              <a:t>’</a:t>
            </a:r>
            <a:r>
              <a:rPr b="1" lang="uk-UA" sz="4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ятнадцяти радіусам Землі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4" name="TextBox 1" descr=""/>
          <p:cNvPicPr/>
          <p:nvPr/>
        </p:nvPicPr>
        <p:blipFill>
          <a:blip r:embed="rId1"/>
          <a:stretch/>
        </p:blipFill>
        <p:spPr>
          <a:xfrm>
            <a:off x="2828880" y="6480"/>
            <a:ext cx="28954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C:\Documents and Settings\dddd\Рабочий стол\и с з\main.jpg"/>
          <p:cNvPicPr/>
          <p:nvPr/>
        </p:nvPicPr>
        <p:blipFill>
          <a:blip r:embed="rId1"/>
          <a:stretch/>
        </p:blipFill>
        <p:spPr>
          <a:xfrm>
            <a:off x="2021040" y="1197000"/>
            <a:ext cx="4533840" cy="340056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1" descr=""/>
          <p:cNvPicPr/>
          <p:nvPr/>
        </p:nvPicPr>
        <p:blipFill>
          <a:blip r:embed="rId2"/>
          <a:stretch/>
        </p:blipFill>
        <p:spPr>
          <a:xfrm>
            <a:off x="-536400" y="-317520"/>
            <a:ext cx="9882000" cy="7272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11в"/>
          <p:cNvPicPr/>
          <p:nvPr/>
        </p:nvPicPr>
        <p:blipFill>
          <a:blip r:embed="rId3"/>
          <a:stretch/>
        </p:blipFill>
        <p:spPr>
          <a:xfrm>
            <a:off x="500040" y="262080"/>
            <a:ext cx="1352520" cy="3187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C:\Users\Raechka\Pictures\shkola animat\анимации шкеола\школа-2.gif"/>
          <p:cNvPicPr/>
          <p:nvPr/>
        </p:nvPicPr>
        <p:blipFill>
          <a:blip r:embed="rId4"/>
          <a:stretch/>
        </p:blipFill>
        <p:spPr>
          <a:xfrm>
            <a:off x="6572160" y="4102200"/>
            <a:ext cx="191952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152280"/>
            <a:ext cx="8845560" cy="22989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4" descr=""/>
          <p:cNvPicPr/>
          <p:nvPr/>
        </p:nvPicPr>
        <p:blipFill>
          <a:blip r:embed="rId3"/>
          <a:stretch/>
        </p:blipFill>
        <p:spPr>
          <a:xfrm>
            <a:off x="566640" y="2736720"/>
            <a:ext cx="4724640" cy="264636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5" descr="thumbnailCAMMSS3Z.jpg"/>
          <p:cNvPicPr/>
          <p:nvPr/>
        </p:nvPicPr>
        <p:blipFill>
          <a:blip r:embed="rId4"/>
          <a:stretch/>
        </p:blipFill>
        <p:spPr>
          <a:xfrm>
            <a:off x="5003640" y="2565360"/>
            <a:ext cx="3745080" cy="37911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7"/>
          <p:cNvSpPr/>
          <p:nvPr/>
        </p:nvSpPr>
        <p:spPr>
          <a:xfrm>
            <a:off x="555480" y="4797360"/>
            <a:ext cx="40165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Прямоугольник 1" descr=""/>
          <p:cNvPicPr/>
          <p:nvPr/>
        </p:nvPicPr>
        <p:blipFill>
          <a:blip r:embed="rId1"/>
          <a:stretch/>
        </p:blipFill>
        <p:spPr>
          <a:xfrm>
            <a:off x="480960" y="-36360"/>
            <a:ext cx="8748720" cy="1846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3"/>
          <p:cNvSpPr/>
          <p:nvPr/>
        </p:nvSpPr>
        <p:spPr>
          <a:xfrm>
            <a:off x="900000" y="26845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А.  1</a:t>
            </a: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,</a:t>
            </a: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4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B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.  11,2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C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. 7,9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D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. 9,3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07" name="Picture 2" descr="ris26"/>
          <p:cNvPicPr/>
          <p:nvPr/>
        </p:nvPicPr>
        <p:blipFill>
          <a:blip r:embed="rId3"/>
          <a:stretch/>
        </p:blipFill>
        <p:spPr>
          <a:xfrm>
            <a:off x="5867280" y="2276640"/>
            <a:ext cx="2727360" cy="31240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7"/>
          <p:cNvSpPr/>
          <p:nvPr/>
        </p:nvSpPr>
        <p:spPr>
          <a:xfrm>
            <a:off x="900000" y="4329000"/>
            <a:ext cx="3862440" cy="46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23:18:45Z</dcterms:created>
  <dc:creator>Раечка</dc:creator>
  <dc:description/>
  <dc:language>en-US</dc:language>
  <cp:lastModifiedBy>UserPC</cp:lastModifiedBy>
  <dcterms:modified xsi:type="dcterms:W3CDTF">2012-12-02T18:47:46Z</dcterms:modified>
  <cp:revision>9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1f000000000001024140</vt:lpwstr>
  </property>
</Properties>
</file>