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wmf" ContentType="image/x-wmf"/>
  <Override PartName="/ppt/media/image16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9.jpeg" ContentType="image/jpeg"/>
  <Override PartName="/ppt/media/image32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37.png" ContentType="image/png"/>
  <Override PartName="/ppt/media/image39.gif" ContentType="image/gif"/>
  <Override PartName="/ppt/media/image40.jpeg" ContentType="image/jpe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DAE-8424-4E2F-B394-5F18CB5E1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797-86C7-4E74-A259-6287BD0C78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DF2-0564-4E58-AAD7-EBC7A36680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B21-F1B8-4EB8-AFA4-02EF8171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7EA-DEBC-453A-84DD-A9E60EAE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8FD-08F1-4866-A2D4-60CCBA3D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D2F-F44F-4664-B79B-FFB51CEE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ECA5C-6D03-43C1-981A-5C988122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F19F-745B-4012-906B-31E618B0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9ED70-1A88-41E2-AE37-6DD57FDC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17567-F603-47C2-8E60-AE05482C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CF29-BECE-4C83-9353-FAD84C45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583CF-1158-4B77-B847-7BB1EB69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F7B89-475B-4151-91C9-1DB47AE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AEA-542E-463E-A09E-4D1CCD8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57E0E-3114-43C2-92B2-F079AE8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1FEFD-7F03-4728-9697-CCD9FB1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1CA8-A448-424E-86FF-7D2E8DD5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FEB5-6A1D-4EC5-A9F7-FC251C60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A354F-F6BB-4BA0-AA24-ECAC64BD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6C4A9-B547-4A3C-97AF-8BC7D451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326F3-3A19-451F-BD28-342885CA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76128-1678-4D39-B2C0-383521CE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2FB8A-E6B9-465D-AEA2-C33D9889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B7B2A-43CD-4B71-8BD0-472FD21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34D-EC1C-41D0-8645-98F397FC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62838-8D9D-4644-AB97-7154536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3421F-0483-4EF1-B750-3D141B8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DCA6F-B208-452A-9206-819FCEA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C9D9C-D19C-4EEE-BA80-F93604F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057F7-A90C-4E9A-B734-4928D68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82700-A94B-4C57-8B0E-3E418A39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280F9-51B6-4EB2-B41C-12A285D4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E39DB-9DC5-44AC-8BC8-B7699254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E0BFE-3507-4C70-87D3-994A1DEB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2E842-7E4D-44DF-8AE3-20140F33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D66-A194-41E7-B742-043410E6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D9DBD-F592-438B-A223-3341D30E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C012C-3DEC-43FD-8764-64F615A9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4DB2D-18FA-4487-AECA-2E9AB572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C135C-379D-4299-8579-C669832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DBF79-86E8-491C-82CC-A8CB804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27F05-38E7-4785-95EF-0F1E27D0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C2AAF-8792-45D3-88B3-E9E70404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85D16-0155-446A-A4BB-7A87A835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09482-6958-4757-AE31-A34009B5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61AC3-6491-4621-95EE-F74AE26D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249-4B06-4346-8B7D-2C132DC1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BEEF2-7EA8-4BA6-8110-27D4F2A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7A23C-5386-4D76-9373-2CE86F2A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9E41F-09A6-4756-B87E-AB74C791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A205F-E90B-4258-AC4F-492527A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2C88F-C8C5-4264-B5EB-B388DB48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B1B46-ADE0-4FA4-85D3-11769AC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B3D37-DC62-40BA-8031-8CB3324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09078-DDF9-403F-ACFD-78BCF1D6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6945D-523A-49B0-8D37-B262F68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4751D-EA8C-4949-A4CE-3D4076A3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DBA-8177-4F18-92C0-0A63463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08C88-8C01-45A2-8B87-C389352F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FA737-AE81-4CD4-98DD-C5FA16B2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BCDBF-9516-4854-A8D4-79CAC85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7CA30-4D06-4A31-995C-56A8366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A481C-DB43-4838-B0D0-18000ED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7D396-3176-463F-B663-61836DA7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07A47-8609-4B19-B134-2B8642EA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A643F-FB7D-40AE-B728-F93DB8A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CDF99-F422-4BF8-9083-03C0E41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32176-0213-41AE-A31F-3412B1A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583-0191-4E8E-8C98-D780330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7598A-9AF8-4CAF-BDCC-6945C81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4AEB1-31D4-4C65-ABCC-CD7B3926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3589B-C4A9-48D3-8CD6-7277E26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909-EAC4-4C54-9B1A-C27F8D3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5B7-2F11-4278-AD1A-A1FECF1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9290-6EF7-4950-8384-8D2F5B8BDE8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C05B-5015-4135-AACF-9F9F457EDFC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5E32-DB27-4C38-B37A-8D47D7F5F3D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7B71-D2AE-4A9A-9D84-AC3A1568961D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0FA0-80D2-47A5-A095-7B5F38DD66C1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1D54-5BF4-4122-8D24-F70FA8B39DE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7.gif"/><Relationship Id="rId3" Type="http://schemas.openxmlformats.org/officeDocument/2006/relationships/hyperlink" Target="file:///D:/&#1057;&#1091;&#1087;&#1091;&#1090;&#1085;&#1080;&#1082;&#1080;%20-%20&#1082;&#1086;&#1087;&#1080;&#1103;.pptx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40.jpeg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5.png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1.png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http://oboi.kards.qip.ru/images/wallpaper/b1/92/103089_1024_768.jpg"/>
          <p:cNvPicPr/>
          <p:nvPr/>
        </p:nvPicPr>
        <p:blipFill>
          <a:blip r:embed="rId1"/>
          <a:srcRect l="0" t="0" r="-9219" b="37"/>
          <a:stretch/>
        </p:blipFill>
        <p:spPr>
          <a:xfrm>
            <a:off x="-15840" y="0"/>
            <a:ext cx="9991800" cy="701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Raechka\Desktop\Штучні супутники Землі.jpg"/>
          <p:cNvPicPr/>
          <p:nvPr/>
        </p:nvPicPr>
        <p:blipFill>
          <a:blip r:embed="rId2"/>
          <a:srcRect l="0" t="0" r="-91" b="178"/>
          <a:stretch/>
        </p:blipFill>
        <p:spPr>
          <a:xfrm>
            <a:off x="3402000" y="1731960"/>
            <a:ext cx="3156120" cy="2077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5" descr=""/>
          <p:cNvPicPr/>
          <p:nvPr/>
        </p:nvPicPr>
        <p:blipFill>
          <a:blip r:embed="rId3"/>
          <a:stretch/>
        </p:blipFill>
        <p:spPr>
          <a:xfrm>
            <a:off x="201600" y="2743200"/>
            <a:ext cx="9240840" cy="2840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trendclub.ru/moderupload/images/Boeng3.jpg"/>
          <p:cNvPicPr/>
          <p:nvPr/>
        </p:nvPicPr>
        <p:blipFill>
          <a:blip r:embed="rId4"/>
          <a:stretch/>
        </p:blipFill>
        <p:spPr>
          <a:xfrm>
            <a:off x="-324000" y="-747720"/>
            <a:ext cx="372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19 0.1375 L -0.13038 0.32199 C -0.08611 0.3625 -0.02135 0.38402 0.04757 0.38402 C 0.12518 0.38402 0.18733 0.3625 0.23125 0.32199 L 0.4415 0.1375 E">
                                      <p:cBhvr>
                                        <p:cTn id="6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128520"/>
            <a:ext cx="7431120" cy="568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00280" y="4437000"/>
            <a:ext cx="358596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2" name="Picture 2" descr="C:\Documents and Settings\dddd\Рабочий стол\и с з\RR5111-0162R.gif"/>
          <p:cNvPicPr/>
          <p:nvPr/>
        </p:nvPicPr>
        <p:blipFill>
          <a:blip r:embed="rId3"/>
          <a:stretch/>
        </p:blipFill>
        <p:spPr>
          <a:xfrm>
            <a:off x="5796000" y="392580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-42840"/>
            <a:ext cx="8169120" cy="1847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406440" y="2637000"/>
            <a:ext cx="730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12 квітня 1961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. 4 жовтня 1957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. 15 квітня 1963 року</a:t>
            </a:r>
            <a:br>
              <a:rPr sz="3600"/>
            </a:b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28 березня 1965 рок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826920" y="3753000"/>
            <a:ext cx="4143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7" name="Picture 2" descr="C:\Documents and Settings\dddd\Рабочий стол\и с з\main.jpg"/>
          <p:cNvPicPr/>
          <p:nvPr/>
        </p:nvPicPr>
        <p:blipFill>
          <a:blip r:embed="rId3"/>
          <a:stretch/>
        </p:blipFill>
        <p:spPr>
          <a:xfrm>
            <a:off x="5986440" y="278928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11в"/>
          <p:cNvPicPr/>
          <p:nvPr/>
        </p:nvPicPr>
        <p:blipFill>
          <a:blip r:embed="rId1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2" descr=""/>
          <p:cNvPicPr/>
          <p:nvPr/>
        </p:nvPicPr>
        <p:blipFill>
          <a:blip r:embed="rId2"/>
          <a:stretch/>
        </p:blipFill>
        <p:spPr>
          <a:xfrm>
            <a:off x="743040" y="152280"/>
            <a:ext cx="8480160" cy="3713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dddd\Рабочий стол\Новая папка\Korolev.jpg"/>
          <p:cNvPicPr/>
          <p:nvPr/>
        </p:nvPicPr>
        <p:blipFill>
          <a:blip r:embed="rId3"/>
          <a:stretch/>
        </p:blipFill>
        <p:spPr>
          <a:xfrm>
            <a:off x="6588000" y="3363840"/>
            <a:ext cx="2124360" cy="3357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7"/>
          <p:cNvSpPr/>
          <p:nvPr/>
        </p:nvSpPr>
        <p:spPr>
          <a:xfrm>
            <a:off x="880920" y="306864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2" name="Picture 2" descr="http://pozdravish.ru/wp-content/uploads/2011/09/korolev_2.jpg"/>
          <p:cNvPicPr/>
          <p:nvPr/>
        </p:nvPicPr>
        <p:blipFill>
          <a:blip r:embed="rId4"/>
          <a:stretch/>
        </p:blipFill>
        <p:spPr>
          <a:xfrm>
            <a:off x="93600" y="3778200"/>
            <a:ext cx="4532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39680"/>
            <a:ext cx="8650440" cy="261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774720" y="3068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А.  4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В.  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.  8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.  6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6" name="Picture 2" descr="http://www.princeigor.net/spaw/images/misc/NAVSTAR-orb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881440"/>
            <a:ext cx="2857680" cy="27144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539640" y="357336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5342040" y="60930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а презентація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2182320" y="285264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ий  фільм-проект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« Розвиток космонавтики «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Users\Raechka\Pictures\k\627643102.jpg"/>
          <p:cNvPicPr/>
          <p:nvPr/>
        </p:nvPicPr>
        <p:blipFill>
          <a:blip r:embed="rId1"/>
          <a:stretch/>
        </p:blipFill>
        <p:spPr>
          <a:xfrm>
            <a:off x="3276720" y="5595840"/>
            <a:ext cx="633240" cy="604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http://st.gdefon.ru/wallpapers_original/wallpapers/3794_planeta_zemlya_siyanie_1280x1024_(www.GdeFon.ru)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993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Raechka\Pictures\k\627643102.jpg"/>
          <p:cNvPicPr/>
          <p:nvPr/>
        </p:nvPicPr>
        <p:blipFill>
          <a:blip r:embed="rId3"/>
          <a:stretch/>
        </p:blipFill>
        <p:spPr>
          <a:xfrm>
            <a:off x="6353280" y="61498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http://st.gdefon.ru/wallpapers_original/wallpapers/3794_planeta_zemlya_siyanie_1280x1024_(www.GdeFon.ru).jpg"/>
          <p:cNvPicPr/>
          <p:nvPr/>
        </p:nvPicPr>
        <p:blipFill>
          <a:blip r:embed="rId4"/>
          <a:stretch/>
        </p:blipFill>
        <p:spPr>
          <a:xfrm>
            <a:off x="-184320" y="0"/>
            <a:ext cx="7975800" cy="6100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Raechka\Pictures\k\627643102.jpg"/>
          <p:cNvPicPr/>
          <p:nvPr/>
        </p:nvPicPr>
        <p:blipFill>
          <a:blip r:embed="rId5"/>
          <a:stretch/>
        </p:blipFill>
        <p:spPr>
          <a:xfrm>
            <a:off x="1093680" y="581976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Raechka\Pictures\k\627643102.jpg"/>
          <p:cNvPicPr/>
          <p:nvPr/>
        </p:nvPicPr>
        <p:blipFill>
          <a:blip r:embed="rId6"/>
          <a:stretch/>
        </p:blipFill>
        <p:spPr>
          <a:xfrm>
            <a:off x="7954920" y="260280"/>
            <a:ext cx="636480" cy="608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http://trendclub.ru/moderupload/images/Boeng3.jpg"/>
          <p:cNvPicPr/>
          <p:nvPr/>
        </p:nvPicPr>
        <p:blipFill>
          <a:blip r:embed="rId7"/>
          <a:stretch/>
        </p:blipFill>
        <p:spPr>
          <a:xfrm>
            <a:off x="3492360" y="-301680"/>
            <a:ext cx="2141640" cy="1712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Users\Raechka\Pictures\k\627643102.jpg"/>
          <p:cNvPicPr/>
          <p:nvPr/>
        </p:nvPicPr>
        <p:blipFill>
          <a:blip r:embed="rId8"/>
          <a:stretch/>
        </p:blipFill>
        <p:spPr>
          <a:xfrm>
            <a:off x="8250120" y="5867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C:\Users\Raechka\Pictures\k\627643102.jpg"/>
          <p:cNvPicPr/>
          <p:nvPr/>
        </p:nvPicPr>
        <p:blipFill>
          <a:blip r:embed="rId9"/>
          <a:stretch/>
        </p:blipFill>
        <p:spPr>
          <a:xfrm>
            <a:off x="6580080" y="531036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Raechka\Pictures\k\627643102.jpg"/>
          <p:cNvPicPr/>
          <p:nvPr/>
        </p:nvPicPr>
        <p:blipFill>
          <a:blip r:embed="rId10"/>
          <a:stretch/>
        </p:blipFill>
        <p:spPr>
          <a:xfrm>
            <a:off x="7524720" y="274464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Raechka\Pictures\k\627643102.jpg"/>
          <p:cNvPicPr/>
          <p:nvPr/>
        </p:nvPicPr>
        <p:blipFill>
          <a:blip r:embed="rId11"/>
          <a:stretch/>
        </p:blipFill>
        <p:spPr>
          <a:xfrm>
            <a:off x="2496960" y="3032280"/>
            <a:ext cx="212760" cy="3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Raechka\Pictures\k\627643102.jpg"/>
          <p:cNvPicPr/>
          <p:nvPr/>
        </p:nvPicPr>
        <p:blipFill>
          <a:blip r:embed="rId12"/>
          <a:stretch/>
        </p:blipFill>
        <p:spPr>
          <a:xfrm>
            <a:off x="1433520" y="716040"/>
            <a:ext cx="317520" cy="30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Users\Raechka\Pictures\k\627643102.jpg"/>
          <p:cNvPicPr/>
          <p:nvPr/>
        </p:nvPicPr>
        <p:blipFill>
          <a:blip r:embed="rId13"/>
          <a:stretch/>
        </p:blipFill>
        <p:spPr>
          <a:xfrm>
            <a:off x="6846840" y="1173240"/>
            <a:ext cx="317520" cy="3031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" descr=""/>
          <p:cNvPicPr/>
          <p:nvPr/>
        </p:nvPicPr>
        <p:blipFill>
          <a:blip r:embed="rId14"/>
          <a:stretch/>
        </p:blipFill>
        <p:spPr>
          <a:xfrm>
            <a:off x="1590840" y="1305000"/>
            <a:ext cx="8534160" cy="66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Raechka\Pictures\k\627643102.jpg"/>
          <p:cNvPicPr/>
          <p:nvPr/>
        </p:nvPicPr>
        <p:blipFill>
          <a:blip r:embed="rId15"/>
          <a:stretch/>
        </p:blipFill>
        <p:spPr>
          <a:xfrm>
            <a:off x="395280" y="241200"/>
            <a:ext cx="317520" cy="303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Raechka\Pictures\k\627643102.jpg"/>
          <p:cNvPicPr/>
          <p:nvPr/>
        </p:nvPicPr>
        <p:blipFill>
          <a:blip r:embed="rId16"/>
          <a:stretch/>
        </p:blipFill>
        <p:spPr>
          <a:xfrm>
            <a:off x="7365960" y="1442880"/>
            <a:ext cx="317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986 0.02012 C 0.10573 0.02012 0.25694 0.16301 0.25694 0.33966 C 0.25694 0.51654 0.10573 0.65989 -0.07986 0.65989 C -0.2658 0.65989 -0.41632 0.51654 -0.41632 0.33966 C -0.41632 0.16301 -0.2658 0.02012 -0.07986 0.02012 Z">
                                      <p:cBhvr>
                                        <p:cTn id="13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4748040"/>
            <a:ext cx="10022040" cy="2109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Users\Raechka\Desktop\Штучні супутники Землі. Розвиток космонавтики\90592575_full1277666382.jpg"/>
          <p:cNvPicPr/>
          <p:nvPr/>
        </p:nvPicPr>
        <p:blipFill>
          <a:blip r:embed="rId2"/>
          <a:stretch/>
        </p:blipFill>
        <p:spPr>
          <a:xfrm>
            <a:off x="1332000" y="476280"/>
            <a:ext cx="6095880" cy="39816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8101440" y="6367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ndara"/>
              </a:rPr>
              <a:t>фільм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0" name="Gagarin.mp4" descr=""/>
          <p:cNvPicPr/>
          <p:nvPr/>
        </p:nvPicPr>
        <p:blipFill>
          <a:blip r:embed="rId3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1" name="Gagarin.mp4" descr=""/>
          <p:cNvPicPr/>
          <p:nvPr/>
        </p:nvPicPr>
        <p:blipFill>
          <a:blip r:embed="rId4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2" name="Gagarin.mp4" descr=""/>
          <p:cNvPicPr/>
          <p:nvPr/>
        </p:nvPicPr>
        <p:blipFill>
          <a:blip r:embed="rId5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3" name="Gagarin.mp4" descr=""/>
          <p:cNvPicPr/>
          <p:nvPr/>
        </p:nvPicPr>
        <p:blipFill>
          <a:blip r:embed="rId6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thumbnailCAMMSS3Z.jpg"/>
          <p:cNvPicPr/>
          <p:nvPr/>
        </p:nvPicPr>
        <p:blipFill>
          <a:blip r:embed="rId1"/>
          <a:stretch/>
        </p:blipFill>
        <p:spPr>
          <a:xfrm>
            <a:off x="4686480" y="276120"/>
            <a:ext cx="4195440" cy="42483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узел 2"/>
          <p:cNvSpPr/>
          <p:nvPr/>
        </p:nvSpPr>
        <p:spPr>
          <a:xfrm>
            <a:off x="6910560" y="322200"/>
            <a:ext cx="160200" cy="182520"/>
          </a:xfrm>
          <a:prstGeom prst="flowChartConnector">
            <a:avLst/>
          </a:prstGeom>
          <a:solidFill>
            <a:srgbClr val="00b05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Блок-схема: узел 7"/>
          <p:cNvSpPr/>
          <p:nvPr/>
        </p:nvSpPr>
        <p:spPr>
          <a:xfrm>
            <a:off x="6900840" y="276120"/>
            <a:ext cx="160200" cy="181080"/>
          </a:xfrm>
          <a:prstGeom prst="flowChartConnector">
            <a:avLst/>
          </a:prstGeom>
          <a:solidFill>
            <a:srgbClr val="7030a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Блок-схема: узел 9"/>
          <p:cNvSpPr/>
          <p:nvPr/>
        </p:nvSpPr>
        <p:spPr>
          <a:xfrm>
            <a:off x="6931080" y="249120"/>
            <a:ext cx="1620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9200" y="1325520"/>
            <a:ext cx="21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 m  g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9680" y="132552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824040" y="2104920"/>
            <a:ext cx="1906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m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Picture 16" descr="A229EA42"/>
          <p:cNvPicPr/>
          <p:nvPr/>
        </p:nvPicPr>
        <p:blipFill>
          <a:blip r:embed="rId2"/>
          <a:srcRect l="17239" t="50000" r="58334" b="42580"/>
          <a:stretch/>
        </p:blipFill>
        <p:spPr>
          <a:xfrm>
            <a:off x="39600" y="4456080"/>
            <a:ext cx="2779920" cy="982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5733F27F"/>
          <p:cNvPicPr/>
          <p:nvPr/>
        </p:nvPicPr>
        <p:blipFill>
          <a:blip r:embed="rId3"/>
          <a:srcRect l="0" t="0" r="279" b="170"/>
          <a:stretch/>
        </p:blipFill>
        <p:spPr>
          <a:xfrm>
            <a:off x="3027240" y="1249200"/>
            <a:ext cx="1332000" cy="79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A229EA42"/>
          <p:cNvPicPr/>
          <p:nvPr/>
        </p:nvPicPr>
        <p:blipFill>
          <a:blip r:embed="rId4"/>
          <a:srcRect l="17239" t="50000" r="30223" b="42580"/>
          <a:stretch/>
        </p:blipFill>
        <p:spPr>
          <a:xfrm>
            <a:off x="39600" y="4464000"/>
            <a:ext cx="5684760" cy="982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A229EA42"/>
          <p:cNvPicPr/>
          <p:nvPr/>
        </p:nvPicPr>
        <p:blipFill>
          <a:blip r:embed="rId5"/>
          <a:srcRect l="58024" t="29186" r="13727" b="59459"/>
          <a:stretch/>
        </p:blipFill>
        <p:spPr>
          <a:xfrm>
            <a:off x="536400" y="2924280"/>
            <a:ext cx="2664000" cy="12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5733F27F"/>
          <p:cNvPicPr/>
          <p:nvPr/>
        </p:nvPicPr>
        <p:blipFill>
          <a:blip r:embed="rId6"/>
          <a:srcRect l="0" t="0" r="42466" b="170"/>
          <a:stretch/>
        </p:blipFill>
        <p:spPr>
          <a:xfrm>
            <a:off x="3027240" y="1249200"/>
            <a:ext cx="770040" cy="7988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1"/>
          <p:cNvSpPr/>
          <p:nvPr/>
        </p:nvSpPr>
        <p:spPr>
          <a:xfrm>
            <a:off x="795240" y="2104920"/>
            <a:ext cx="89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9" name="TextBox 33" descr=""/>
          <p:cNvPicPr/>
          <p:nvPr/>
        </p:nvPicPr>
        <p:blipFill>
          <a:blip r:embed="rId7"/>
          <a:stretch/>
        </p:blipFill>
        <p:spPr>
          <a:xfrm>
            <a:off x="133200" y="-79200"/>
            <a:ext cx="5230800" cy="16826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6" descr=""/>
          <p:cNvPicPr/>
          <p:nvPr/>
        </p:nvPicPr>
        <p:blipFill>
          <a:blip r:embed="rId8"/>
          <a:stretch/>
        </p:blipFill>
        <p:spPr>
          <a:xfrm>
            <a:off x="-49320" y="5376960"/>
            <a:ext cx="9053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1019 L 0.075 0.03819 C 0.08628 0.04953 0.09618 0.07037 0.10295 0.09282 C 0.11076 0.11759 0.11146 0.14236 0.10764 0.16111 L 0.09149 0.25023 E">
                                      <p:cBhvr>
                                        <p:cTn id="27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1828 L 0.11528 0.10347 C 0.13316 0.13033 0.1434 0.17153 0.14462 0.21227 C 0.14288 0.2588 0.13489 0.29584 0.1158 0.32292 L 0.03142 0.44931 E">
                                      <p:cBhvr>
                                        <p:cTn id="3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01921 C 0.04288 -0.02269 0.16736 0.0706 0.19844 0.22801 C 0.22917 0.38472 0.15295 0.54722 0.03142 0.58889 C -0.09062 0.63078 -0.21354 0.5368 -0.24375 0.37963 C -0.27431 0.22199 -0.20069 0.06157 -0.0783 0.01921 Z">
                                      <p:cBhvr>
                                        <p:cTn id="35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9"/>
          <p:cNvSpPr/>
          <p:nvPr/>
        </p:nvSpPr>
        <p:spPr>
          <a:xfrm>
            <a:off x="1338120" y="0"/>
            <a:ext cx="6481800" cy="5084640"/>
          </a:xfrm>
          <a:prstGeom prst="rect">
            <a:avLst/>
          </a:prstGeom>
          <a:solidFill>
            <a:srgbClr val="ffffff"/>
          </a:solidFill>
          <a:ln w="38520">
            <a:solidFill>
              <a:srgbClr val="7c9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2" name="Picture 2" descr="C:\Users\Raechka\Desktop\Штучні супутники Землі. Розвиток космонавтики\ris27.gif"/>
          <p:cNvPicPr/>
          <p:nvPr/>
        </p:nvPicPr>
        <p:blipFill>
          <a:blip r:embed="rId1"/>
          <a:stretch/>
        </p:blipFill>
        <p:spPr>
          <a:xfrm>
            <a:off x="1687680" y="22320"/>
            <a:ext cx="5948280" cy="504036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8" descr=""/>
          <p:cNvPicPr/>
          <p:nvPr/>
        </p:nvPicPr>
        <p:blipFill>
          <a:blip r:embed="rId2"/>
          <a:stretch/>
        </p:blipFill>
        <p:spPr>
          <a:xfrm>
            <a:off x="85680" y="5035680"/>
            <a:ext cx="9113760" cy="1743120"/>
          </a:xfrm>
          <a:prstGeom prst="rect">
            <a:avLst/>
          </a:prstGeom>
          <a:ln w="0">
            <a:noFill/>
          </a:ln>
        </p:spPr>
      </p:pic>
      <p:sp>
        <p:nvSpPr>
          <p:cNvPr id="284" name="Блок-схема: узел 14"/>
          <p:cNvSpPr/>
          <p:nvPr/>
        </p:nvSpPr>
        <p:spPr>
          <a:xfrm>
            <a:off x="4140360" y="692280"/>
            <a:ext cx="1602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419 C 0.03732 -0.05208 0.06805 -0.02685 0.07604 0.01482 C 0.08472 0.05741 0.06667 0.09954 0.03715 0.10972 C 0.00781 0.1206 -0.0224 0.09329 -0.03073 0.05185 C -0.03872 0.00949 -0.02153 -0.03194 0.00816 -0.0419 Z">
                                      <p:cBhvr>
                                        <p:cTn id="74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extBox 1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56620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Объект 3" descr=""/>
          <p:cNvPicPr/>
          <p:nvPr/>
        </p:nvPicPr>
        <p:blipFill>
          <a:blip r:embed="rId2"/>
          <a:stretch/>
        </p:blipFill>
        <p:spPr>
          <a:xfrm>
            <a:off x="463680" y="1360440"/>
            <a:ext cx="2303280" cy="10335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4"/>
          <p:cNvSpPr/>
          <p:nvPr/>
        </p:nvSpPr>
        <p:spPr>
          <a:xfrm>
            <a:off x="3198960" y="1773360"/>
            <a:ext cx="2282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r>
              <a:rPr b="0" lang="en-US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8" name="Объект 5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162240" cy="12650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2559240" y="3068640"/>
            <a:ext cx="415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0" name="Объект 7" descr=""/>
          <p:cNvPicPr/>
          <p:nvPr/>
        </p:nvPicPr>
        <p:blipFill>
          <a:blip r:embed="rId4"/>
          <a:stretch/>
        </p:blipFill>
        <p:spPr>
          <a:xfrm>
            <a:off x="2530440" y="4724280"/>
            <a:ext cx="324000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8"/>
          <p:cNvSpPr/>
          <p:nvPr/>
        </p:nvSpPr>
        <p:spPr>
          <a:xfrm>
            <a:off x="2556000" y="5084640"/>
            <a:ext cx="50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2" name="TextBox 9" descr=""/>
          <p:cNvPicPr/>
          <p:nvPr/>
        </p:nvPicPr>
        <p:blipFill>
          <a:blip r:embed="rId5"/>
          <a:stretch/>
        </p:blipFill>
        <p:spPr>
          <a:xfrm>
            <a:off x="6126120" y="1238400"/>
            <a:ext cx="21891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324000" y="1112760"/>
            <a:ext cx="8712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ку швидкість повинен мати штучний 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упутник ,який обертається  навколо Землі  по коловій орбіті на висоті, що дорівнює: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1f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П</a:t>
            </a:r>
            <a:r>
              <a:rPr b="0" lang="uk-UA" sz="4000" spc="-1" strike="noStrike">
                <a:solidFill>
                  <a:srgbClr val="1f1f1f"/>
                </a:solidFill>
                <a:latin typeface="Candara"/>
              </a:rPr>
              <a:t>’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тнадцяти радіусам Земл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4" name="TextBox 1" descr=""/>
          <p:cNvPicPr/>
          <p:nvPr/>
        </p:nvPicPr>
        <p:blipFill>
          <a:blip r:embed="rId1"/>
          <a:stretch/>
        </p:blipFill>
        <p:spPr>
          <a:xfrm>
            <a:off x="2828880" y="6480"/>
            <a:ext cx="28954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dddd\Рабочий стол\и с з\main.jpg"/>
          <p:cNvPicPr/>
          <p:nvPr/>
        </p:nvPicPr>
        <p:blipFill>
          <a:blip r:embed="rId1"/>
          <a:stretch/>
        </p:blipFill>
        <p:spPr>
          <a:xfrm>
            <a:off x="2021040" y="119700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" descr=""/>
          <p:cNvPicPr/>
          <p:nvPr/>
        </p:nvPicPr>
        <p:blipFill>
          <a:blip r:embed="rId2"/>
          <a:stretch/>
        </p:blipFill>
        <p:spPr>
          <a:xfrm>
            <a:off x="-536400" y="-317520"/>
            <a:ext cx="9882000" cy="727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11в"/>
          <p:cNvPicPr/>
          <p:nvPr/>
        </p:nvPicPr>
        <p:blipFill>
          <a:blip r:embed="rId3"/>
          <a:stretch/>
        </p:blipFill>
        <p:spPr>
          <a:xfrm>
            <a:off x="500040" y="262080"/>
            <a:ext cx="1352520" cy="31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Raechka\Pictures\shkola animat\анимации шкеола\школа-2.gif"/>
          <p:cNvPicPr/>
          <p:nvPr/>
        </p:nvPicPr>
        <p:blipFill>
          <a:blip r:embed="rId4"/>
          <a:stretch/>
        </p:blipFill>
        <p:spPr>
          <a:xfrm>
            <a:off x="6572160" y="4102200"/>
            <a:ext cx="19195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845560" cy="2298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4" descr=""/>
          <p:cNvPicPr/>
          <p:nvPr/>
        </p:nvPicPr>
        <p:blipFill>
          <a:blip r:embed="rId3"/>
          <a:stretch/>
        </p:blipFill>
        <p:spPr>
          <a:xfrm>
            <a:off x="566640" y="2736720"/>
            <a:ext cx="4724640" cy="2646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thumbnailCAMMSS3Z.jpg"/>
          <p:cNvPicPr/>
          <p:nvPr/>
        </p:nvPicPr>
        <p:blipFill>
          <a:blip r:embed="rId4"/>
          <a:stretch/>
        </p:blipFill>
        <p:spPr>
          <a:xfrm>
            <a:off x="5003640" y="2565360"/>
            <a:ext cx="3745080" cy="37911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7"/>
          <p:cNvSpPr/>
          <p:nvPr/>
        </p:nvSpPr>
        <p:spPr>
          <a:xfrm>
            <a:off x="555480" y="4797360"/>
            <a:ext cx="4016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-36360"/>
            <a:ext cx="8748720" cy="184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900000" y="2684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 1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 11,2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7,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9,3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7" name="Picture 2" descr="ris26"/>
          <p:cNvPicPr/>
          <p:nvPr/>
        </p:nvPicPr>
        <p:blipFill>
          <a:blip r:embed="rId3"/>
          <a:stretch/>
        </p:blipFill>
        <p:spPr>
          <a:xfrm>
            <a:off x="5867280" y="2276640"/>
            <a:ext cx="2727360" cy="312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7"/>
          <p:cNvSpPr/>
          <p:nvPr/>
        </p:nvSpPr>
        <p:spPr>
          <a:xfrm>
            <a:off x="900000" y="4329000"/>
            <a:ext cx="386244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3:18:45Z</dcterms:created>
  <dc:creator>Раечка</dc:creator>
  <dc:description/>
  <dc:language>en-US</dc:language>
  <cp:lastModifiedBy>UserPC</cp:lastModifiedBy>
  <dcterms:modified xsi:type="dcterms:W3CDTF">2012-12-02T18:47:46Z</dcterms:modified>
  <cp:revision>9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140</vt:lpwstr>
  </property>
</Properties>
</file>