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CE5-11E7-4AB3-A9E4-991E0E21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1D1-61B1-46DA-B1BD-95F820A7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0BE-3B5C-479B-BBC3-91A2BCE5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B93-82F1-471E-9BE5-3A32053B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C6F-60CC-4332-967C-00E52DB9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B5B-4F38-43AB-81F6-225BDCEF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C43-402B-4777-B087-138A4CA0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C11-E785-4689-BBDE-80D30769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DC5-8CAE-4DB2-8ACD-15C4CAF2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FFE-965E-4671-AEDA-6CEAFC3C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66C-B713-4107-AF5F-33073EB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1BB-27DE-4713-B594-E8647EC6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6093-65C6-437C-8392-5F78D4102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Дайте загальну характеристику фізичних параметрів звичайних з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подвійність яких можна встановити тільки за допомогою спектральних спостережень, називаються спектрально-подвійними. У спектрах таких зір спостерігається періодичне роздвоєння спектральних ліній відносно середнього положенн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img18_6"/>
          <p:cNvPicPr/>
          <p:nvPr/>
        </p:nvPicPr>
        <p:blipFill>
          <a:blip r:embed="rId2"/>
          <a:stretch/>
        </p:blipFill>
        <p:spPr>
          <a:xfrm>
            <a:off x="1979640" y="2349360"/>
            <a:ext cx="63072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ари зір, відстані між якими сумірні з їхніми розмірами, називаються тісними подвійними системами. За тісного розташування зір частинки газу починають належати не окремомому компоненту, а системі в цілому. Починається процес обміну речовиною між зоря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img15_6"/>
          <p:cNvPicPr/>
          <p:nvPr/>
        </p:nvPicPr>
        <p:blipFill>
          <a:blip r:embed="rId2"/>
          <a:stretch/>
        </p:blipFill>
        <p:spPr>
          <a:xfrm>
            <a:off x="1835280" y="2781360"/>
            <a:ext cx="53625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орі, зміна блиску яких зумовлена процесами, що відбуваються у їх надрах, називають фізичними змінними зор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Фізичні змінні зорі поділяють на пульсуючі та спалахуючі зор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434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Фізичні змінні з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Цефеї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99"/>
                </a:solidFill>
                <a:latin typeface="Arial"/>
              </a:rPr>
              <a:t>Цефеїди – це зорі, протяжні оболонки яких здатні нагромаджувати енергію, що йде з глибин, а потім віддавати ї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99"/>
                </a:solidFill>
                <a:latin typeface="Arial"/>
              </a:rPr>
              <a:t>Зоря періодично стискається, розігріваючись, і розширюється, охолоджуюч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img15_6"/>
          <p:cNvPicPr/>
          <p:nvPr/>
        </p:nvPicPr>
        <p:blipFill>
          <a:blip r:embed="rId2"/>
          <a:stretch/>
        </p:blipFill>
        <p:spPr>
          <a:xfrm>
            <a:off x="2771640" y="3716280"/>
            <a:ext cx="3571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Зорі, блиск яких раптово зростає в тисячі й навіть мільйони разів, називаються новими зор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img15_6"/>
          <p:cNvPicPr/>
          <p:nvPr/>
        </p:nvPicPr>
        <p:blipFill>
          <a:blip r:embed="rId2"/>
          <a:stretch/>
        </p:blipFill>
        <p:spPr>
          <a:xfrm>
            <a:off x="1763640" y="3213000"/>
            <a:ext cx="53625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ад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блиск яких зростає на десятки зоряних величин упродовж кількох діб називються наднов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максимумі блиску світність наднових перевищує сонячну у мільярди разі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img25_6"/>
          <p:cNvPicPr/>
          <p:nvPr/>
        </p:nvPicPr>
        <p:blipFill>
          <a:blip r:embed="rId2"/>
          <a:stretch/>
        </p:blipFill>
        <p:spPr>
          <a:xfrm>
            <a:off x="2411280" y="2924280"/>
            <a:ext cx="48484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ад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47210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Arial"/>
              </a:rPr>
              <a:t>Пульс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жоселін Белл і Ентоні Х'юїш у 1967 відкрили пульсюючі джерела радіовипромінювання або просто пульса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осмічне джерело електромагнітного випромінювання, що реєструється на Землі у вигляді імпульсів - сплесків, які періодично повторю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жерелом імпульсів вважається зоря з сильним магнітним полем, яка обертається і має вузькоспрямоване випроміню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3640" y="4221000"/>
            <a:ext cx="295272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Пульсари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Багато пульсарів спостерігається в залишках спалахів наднових з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Згідно з сучасними теоріями, пульсари – це об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єкти, які виникають на заключних етапах еволюції з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3929040" cy="30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Чому пульсуючі змінні цефеїди отримали назву «маяків Всесвіту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оясніть якісно, чому енергія ядерних реакцій на поверхні нової зорі викликає скидання оболонки, а енергія ядерних реакцій в ядрі Сонця не призводить до його руйнуван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В яких випадках буде спостерігатися розщеплення ліній в спектрі спектрально-подвійної зоряної системи, а в яких — зміщення? Поясні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 чому суть методу спектральних паралакс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ивчи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§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22-23, повторити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§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2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Чим пояснюється відмінність спектрів зі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img6_6"/>
          <p:cNvPicPr/>
          <p:nvPr/>
        </p:nvPicPr>
        <p:blipFill>
          <a:blip r:embed="rId2"/>
          <a:stretch/>
        </p:blipFill>
        <p:spPr>
          <a:xfrm>
            <a:off x="1547640" y="2924280"/>
            <a:ext cx="5562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 чому суть методу типового представ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333399"/>
                </a:solidFill>
                <a:latin typeface="Arial"/>
              </a:rPr>
              <a:t>Як будується діаграма спектр-світні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752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У чому полягає несхожість внутрішньої будови зір з масою 2М   і 0,5М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9400" y="28519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01760" y="2348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Arial"/>
              </a:rPr>
              <a:t>Подвійні зорі. Фізичні змінн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стеми зір (від двох до десяти), які під дією сил взаємного тяжіння обертаються навколо спільного центра мас називаються фізичними подвійними або кратними. Якщо компоненти кратної зорі видно в телескоп нарізно, то її називають візуально кратною зоре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img13_6"/>
          <p:cNvPicPr/>
          <p:nvPr/>
        </p:nvPicPr>
        <p:blipFill>
          <a:blip r:embed="rId2"/>
          <a:stretch/>
        </p:blipFill>
        <p:spPr>
          <a:xfrm>
            <a:off x="2484360" y="2133720"/>
            <a:ext cx="42483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7720" y="288000"/>
            <a:ext cx="744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видима величина яких ритмічно змінюється внаслід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темнення одного компонента іншим, називаю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темнювано-подвійними або затемнювано-змінн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img14_6"/>
          <p:cNvPicPr/>
          <p:nvPr/>
        </p:nvPicPr>
        <p:blipFill>
          <a:blip r:embed="rId2"/>
          <a:stretch/>
        </p:blipFill>
        <p:spPr>
          <a:xfrm>
            <a:off x="2340000" y="1700280"/>
            <a:ext cx="4464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20:27:22Z</dcterms:created>
  <dc:creator>Customer</dc:creator>
  <dc:description/>
  <dc:language>en-US</dc:language>
  <cp:lastModifiedBy>Admin</cp:lastModifiedBy>
  <dcterms:modified xsi:type="dcterms:W3CDTF">2011-03-02T10:07:37Z</dcterms:modified>
  <cp:revision>8</cp:revision>
  <dc:subject/>
  <dc:title>Слайд 1</dc:title>
</cp:coreProperties>
</file>