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260-26D8-4B05-B331-EFE720B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132-0511-497C-A092-21A223D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471-DD39-44F2-99C4-F326B086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274-A103-4572-B640-4C06B6C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B1B-B396-46A6-ABDC-E6E48EE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3A9-9BFB-4CF3-8EE5-FCF164D3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5E4-FEB0-4A91-BE41-97B21E22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726-4D08-4B91-9313-9D403F2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720-988A-4F66-8926-BD20751C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834-89A0-43BC-B862-6491B51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FC6-E955-45FD-9900-134FA90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0EB-E2D8-46A9-8ADF-88D4A30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A04-0A8C-46AD-B684-BFC91F6C4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Дайте загальну характеристику фізичних параметрів звичайних з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подвійність яких можна встановити тільки за допомогою спектральних спостережень, називаються спектрально-подвійними. У спектрах таких зір спостерігається періодичне роздвоєння спектральних ліній відносно середнього положенн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g18_6"/>
          <p:cNvPicPr/>
          <p:nvPr/>
        </p:nvPicPr>
        <p:blipFill>
          <a:blip r:embed="rId2"/>
          <a:stretch/>
        </p:blipFill>
        <p:spPr>
          <a:xfrm>
            <a:off x="1979640" y="2349360"/>
            <a:ext cx="6307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ари зір, відстані між якими сумірні з їхніми розмірами, називаються тісними подвійними системами. За тісного розташування зір частинки газу починають належати не окремомому компоненту, а системі в цілому. Починається процес обміну речовиною між зор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mg15_6"/>
          <p:cNvPicPr/>
          <p:nvPr/>
        </p:nvPicPr>
        <p:blipFill>
          <a:blip r:embed="rId2"/>
          <a:stretch/>
        </p:blipFill>
        <p:spPr>
          <a:xfrm>
            <a:off x="1835280" y="2781360"/>
            <a:ext cx="5362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рі, зміна блиску яких зумовлена процесами, що відбуваються у їх надрах, називають фізичними змінними зор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ізичні змінні зорі поділяють на пульсуючі та спалахуючі зо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3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Фізичні змінні з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Цефе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Цефеїди – це зорі, протяжні оболонки яких здатні нагромаджувати енергію, що йде з глибин, а потім віддавати ї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Зоря періодично стискається, розігріваючись, і розширюється, охолоджуюч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mg15_6"/>
          <p:cNvPicPr/>
          <p:nvPr/>
        </p:nvPicPr>
        <p:blipFill>
          <a:blip r:embed="rId2"/>
          <a:stretch/>
        </p:blipFill>
        <p:spPr>
          <a:xfrm>
            <a:off x="2771640" y="3716280"/>
            <a:ext cx="3571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Зорі, блиск яких раптово зростає в тисячі й навіть мільйони разів, називаються новими з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img15_6"/>
          <p:cNvPicPr/>
          <p:nvPr/>
        </p:nvPicPr>
        <p:blipFill>
          <a:blip r:embed="rId2"/>
          <a:stretch/>
        </p:blipFill>
        <p:spPr>
          <a:xfrm>
            <a:off x="1763640" y="3213000"/>
            <a:ext cx="53625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блиск яких зростає на десятки зоряних величин упродовж кількох діб називються надно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максимумі блиску світність наднових перевищує сонячну у мільярди разі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mg25_6"/>
          <p:cNvPicPr/>
          <p:nvPr/>
        </p:nvPicPr>
        <p:blipFill>
          <a:blip r:embed="rId2"/>
          <a:stretch/>
        </p:blipFill>
        <p:spPr>
          <a:xfrm>
            <a:off x="2411280" y="2924280"/>
            <a:ext cx="4848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4721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оселін Белл і Ентоні Х'юїш у 1967 відкрили пульсюючі джерела радіовипромінювання або просто пульса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смічне джерело електромагнітного випромінювання, що реєструється на Землі у вигляді імпульсів - сплесків, які періодично повтор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ерелом імпульсів вважається зоря з сильним магнітним полем, яка обертається і має вузькоспрямоване випромін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Багато пульсарів спостерігається в залишках спалахів наднових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Згідно з сучасними теоріями, пульсари – це об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єкти, які виникають на заключних етапах еволюції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Чому пульсуючі змінні цефеїди отримали назву «маяків Всесвіт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ясніть якісно, чому енергія ядерних реакцій на поверхні нової зорі викликає скидання оболонки, а енергія ядерних реакцій в ядрі Сонця не призводить до його руйнува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 яких випадках буде спостерігатися розщеплення ліній в спектрі спектрально-подвійної зоряної системи, а в яких — зміщення? Поясні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спектральних паралакс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ивч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2-23, повторит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Чим пояснюється відмінність спектрів з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g6_6"/>
          <p:cNvPicPr/>
          <p:nvPr/>
        </p:nvPicPr>
        <p:blipFill>
          <a:blip r:embed="rId2"/>
          <a:stretch/>
        </p:blipFill>
        <p:spPr>
          <a:xfrm>
            <a:off x="1547640" y="292428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типового представ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Arial"/>
              </a:rPr>
              <a:t>Як будується діаграма спектр-світ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У чому полягає несхожість внутрішньої будови зір з масою 2М   і 0,5М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2851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01760" y="2348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одвійні зорі. Фізичні змінн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стеми зір (від двох до десяти), які під дією сил взаємного тяжіння обертаються навколо спільного центра мас називаються фізичними подвійними або кратними. Якщо компоненти кратної зорі видно в телескоп нарізно, то її називають візуально кратною зоре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g13_6"/>
          <p:cNvPicPr/>
          <p:nvPr/>
        </p:nvPicPr>
        <p:blipFill>
          <a:blip r:embed="rId2"/>
          <a:stretch/>
        </p:blipFill>
        <p:spPr>
          <a:xfrm>
            <a:off x="2484360" y="2133720"/>
            <a:ext cx="42483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880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видима величина яких ритмічно змінюється в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ення одного компонента іншим, називаю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ювано-подвійними або затемнювано-змін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g14_6"/>
          <p:cNvPicPr/>
          <p:nvPr/>
        </p:nvPicPr>
        <p:blipFill>
          <a:blip r:embed="rId2"/>
          <a:stretch/>
        </p:blipFill>
        <p:spPr>
          <a:xfrm>
            <a:off x="2340000" y="1700280"/>
            <a:ext cx="446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0:27:22Z</dcterms:created>
  <dc:creator>Customer</dc:creator>
  <dc:description/>
  <dc:language>en-US</dc:language>
  <cp:lastModifiedBy>Admin</cp:lastModifiedBy>
  <dcterms:modified xsi:type="dcterms:W3CDTF">2011-03-02T10:07:37Z</dcterms:modified>
  <cp:revision>8</cp:revision>
  <dc:subject/>
  <dc:title>Слайд 1</dc:title>
</cp:coreProperties>
</file>