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02C-A9B6-4F93-B196-6A0FBC0F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51F-128F-43FD-9F21-63ADD995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237-20FE-4E43-AC1D-27A7D242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86B-6161-4E4A-A6C0-AA5CFB50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A39-4AE0-47CD-9127-2CC35EA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039-0CB3-40FB-B4EC-10F60239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2EA-125D-4B0B-AE50-90DD6E2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599-C0A0-4901-A968-E27A9EA8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AE1-8F1C-4BFD-924F-10CFEADB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848-93C3-424E-A7B3-2F86E24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D5E-7F18-4C13-A1DD-8CEE8FE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EF9-F091-4D40-99D0-99EFA555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DC8F-4DAA-4CF4-9735-F85E07B6F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Дайте загальну характеристику фізичних параметрів звичайних з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подвійність яких можна встановити тільки за допомогою спектральних спостережень, називаються спектрально-подвійними. У спектрах таких зір спостерігається періодичне роздвоєння спектральних ліній відносно середнього положенн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g18_6"/>
          <p:cNvPicPr/>
          <p:nvPr/>
        </p:nvPicPr>
        <p:blipFill>
          <a:blip r:embed="rId2"/>
          <a:stretch/>
        </p:blipFill>
        <p:spPr>
          <a:xfrm>
            <a:off x="1979640" y="2349360"/>
            <a:ext cx="63072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ари зір, відстані між якими сумірні з їхніми розмірами, називаються тісними подвійними системами. За тісного розташування зір частинки газу починають належати не окремомому компоненту, а системі в цілому. Починається процес обміну речовиною між зоря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mg15_6"/>
          <p:cNvPicPr/>
          <p:nvPr/>
        </p:nvPicPr>
        <p:blipFill>
          <a:blip r:embed="rId2"/>
          <a:stretch/>
        </p:blipFill>
        <p:spPr>
          <a:xfrm>
            <a:off x="1835280" y="2781360"/>
            <a:ext cx="5362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орі, зміна блиску яких зумовлена процесами, що відбуваються у їх надрах, називають фізичними змінними зор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ізичні змінні зорі поділяють на пульсуючі та спалахуючі зо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3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Фізичні змінні з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Цефе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Цефеїди – це зорі, протяжні оболонки яких здатні нагромаджувати енергію, що йде з глибин, а потім віддавати ї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99"/>
                </a:solidFill>
                <a:latin typeface="Arial"/>
              </a:rPr>
              <a:t>Зоря періодично стискається, розігріваючись, і розширюється, охолоджуюч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img15_6"/>
          <p:cNvPicPr/>
          <p:nvPr/>
        </p:nvPicPr>
        <p:blipFill>
          <a:blip r:embed="rId2"/>
          <a:stretch/>
        </p:blipFill>
        <p:spPr>
          <a:xfrm>
            <a:off x="2771640" y="3716280"/>
            <a:ext cx="3571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Зорі, блиск яких раптово зростає в тисячі й навіть мільйони разів, називаються новими з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img15_6"/>
          <p:cNvPicPr/>
          <p:nvPr/>
        </p:nvPicPr>
        <p:blipFill>
          <a:blip r:embed="rId2"/>
          <a:stretch/>
        </p:blipFill>
        <p:spPr>
          <a:xfrm>
            <a:off x="1763640" y="3213000"/>
            <a:ext cx="53625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блиск яких зростає на десятки зоряних величин упродовж кількох діб називються надно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максимумі блиску світність наднових перевищує сонячну у мільярди разі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mg25_6"/>
          <p:cNvPicPr/>
          <p:nvPr/>
        </p:nvPicPr>
        <p:blipFill>
          <a:blip r:embed="rId2"/>
          <a:stretch/>
        </p:blipFill>
        <p:spPr>
          <a:xfrm>
            <a:off x="2411280" y="2924280"/>
            <a:ext cx="4848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Наднов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4721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оселін Белл і Ентоні Х'юїш у 1967 відкрили пульсюючі джерела радіовипромінювання або просто пульса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осмічне джерело електромагнітного випромінювання, що реєструється на Землі у вигляді імпульсів - сплесків, які періодично повтор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жерелом імпульсів вважається зоря з сильним магнітним полем, яка обертається і має вузькоспрямоване випроміню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3640" y="4221000"/>
            <a:ext cx="295272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Пульсар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Багато пульсарів спостерігається в залишках спалахів наднових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Згідно з сучасними теоріями, пульсари – це об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uk-UA" sz="1800" spc="-1" strike="noStrike">
                <a:solidFill>
                  <a:srgbClr val="333399"/>
                </a:solidFill>
                <a:latin typeface="Arial"/>
              </a:rPr>
              <a:t>єкти, які виникають на заключних етапах еволюції з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Чому пульсуючі змінні цефеїди отримали назву «маяків Всесвіту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ясніть якісно, чому енергія ядерних реакцій на поверхні нової зорі викликає скидання оболонки, а енергія ядерних реакцій в ядрі Сонця не призводить до його руйнуван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 яких випадках буде спостерігатися розщеплення ліній в спектрі спектрально-подвійної зоряної системи, а в яких — зміщення? Поясні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спектральних паралакс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ивч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2-23, повторити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2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Чим пояснюється відмінність спектрів з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img6_6"/>
          <p:cNvPicPr/>
          <p:nvPr/>
        </p:nvPicPr>
        <p:blipFill>
          <a:blip r:embed="rId2"/>
          <a:stretch/>
        </p:blipFill>
        <p:spPr>
          <a:xfrm>
            <a:off x="1547640" y="292428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В чому суть методу типового представ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333399"/>
                </a:solidFill>
                <a:latin typeface="Arial"/>
              </a:rPr>
              <a:t>Як будується діаграма спектр-світн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752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333399"/>
                </a:solidFill>
                <a:latin typeface="Arial"/>
              </a:rPr>
              <a:t>У чому полягає несхожість внутрішньої будови зір з масою 2М   і 0,5М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9400" y="2851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01760" y="2348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Подвійні зорі. Фізичні змінні зо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стеми зір (від двох до десяти), які під дією сил взаємного тяжіння обертаються навколо спільного центра мас називаються фізичними подвійними або кратними. Якщо компоненти кратної зорі видно в телескоп нарізно, то її називають візуально кратною зоре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g13_6"/>
          <p:cNvPicPr/>
          <p:nvPr/>
        </p:nvPicPr>
        <p:blipFill>
          <a:blip r:embed="rId2"/>
          <a:stretch/>
        </p:blipFill>
        <p:spPr>
          <a:xfrm>
            <a:off x="2484360" y="2133720"/>
            <a:ext cx="42483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720" y="2880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орі, видима величина яких ритмічно змінюється в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ення одного компонента іншим, називаю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темнювано-подвійними або затемнювано-змін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g14_6"/>
          <p:cNvPicPr/>
          <p:nvPr/>
        </p:nvPicPr>
        <p:blipFill>
          <a:blip r:embed="rId2"/>
          <a:stretch/>
        </p:blipFill>
        <p:spPr>
          <a:xfrm>
            <a:off x="2340000" y="1700280"/>
            <a:ext cx="446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20:27:22Z</dcterms:created>
  <dc:creator>Customer</dc:creator>
  <dc:description/>
  <dc:language>en-US</dc:language>
  <cp:lastModifiedBy>Admin</cp:lastModifiedBy>
  <dcterms:modified xsi:type="dcterms:W3CDTF">2011-03-02T10:07:37Z</dcterms:modified>
  <cp:revision>8</cp:revision>
  <dc:subject/>
  <dc:title>Слайд 1</dc:title>
</cp:coreProperties>
</file>