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370-DB7F-4C22-BD29-1F39C18A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248-1C0B-413C-A7B2-A5A7223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55F-90AC-4D8D-B56D-54FE3450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F5D-185B-4731-81A2-F8A28CBF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B66-5B4C-433B-B17C-02C6A883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EE9-8A09-496F-B8BB-41E2E496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4AD-4FA6-4A38-93FE-792476CE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A23-5A76-4EB7-8D0D-477F61A8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9C3-0359-4DAF-893F-79CC3F3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2CF-5967-4B47-9E07-B06283B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301-9D07-4054-989E-EE9D9BD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050-002F-4404-937B-944DCE8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8DCF-833F-48B8-819B-F7B5EF2EC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Дайте загальну характеристику фізичних параметрів звичайних з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подвійність яких можна встановити тільки за допомогою спектральних спостережень, називаються спектрально-подвійними. У спектрах таких зір спостерігається періодичне роздвоєння спектральних ліній відносно середнього положенн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g18_6"/>
          <p:cNvPicPr/>
          <p:nvPr/>
        </p:nvPicPr>
        <p:blipFill>
          <a:blip r:embed="rId2"/>
          <a:stretch/>
        </p:blipFill>
        <p:spPr>
          <a:xfrm>
            <a:off x="1979640" y="2349360"/>
            <a:ext cx="6307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ари зір, відстані між якими сумірні з їхніми розмірами, називаються тісними подвійними системами. За тісного розташування зір частинки газу починають належати не окремомому компоненту, а системі в цілому. Починається процес обміну речовиною між зоря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img15_6"/>
          <p:cNvPicPr/>
          <p:nvPr/>
        </p:nvPicPr>
        <p:blipFill>
          <a:blip r:embed="rId2"/>
          <a:stretch/>
        </p:blipFill>
        <p:spPr>
          <a:xfrm>
            <a:off x="1835280" y="2781360"/>
            <a:ext cx="5362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орі, зміна блиску яких зумовлена процесами, що відбуваються у їх надрах, називають фізичними змінними зор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ізичні змінні зорі поділяють на пульсуючі та спалахуючі зор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43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Фізичні змінні з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Цефе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Цефеїди – це зорі, протяжні оболонки яких здатні нагромаджувати енергію, що йде з глибин, а потім віддавати ї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Зоря періодично стискається, розігріваючись, і розширюється, охолоджуюч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img15_6"/>
          <p:cNvPicPr/>
          <p:nvPr/>
        </p:nvPicPr>
        <p:blipFill>
          <a:blip r:embed="rId2"/>
          <a:stretch/>
        </p:blipFill>
        <p:spPr>
          <a:xfrm>
            <a:off x="2771640" y="3716280"/>
            <a:ext cx="3571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Зорі, блиск яких раптово зростає в тисячі й навіть мільйони разів, називаються новими з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img15_6"/>
          <p:cNvPicPr/>
          <p:nvPr/>
        </p:nvPicPr>
        <p:blipFill>
          <a:blip r:embed="rId2"/>
          <a:stretch/>
        </p:blipFill>
        <p:spPr>
          <a:xfrm>
            <a:off x="1763640" y="3213000"/>
            <a:ext cx="53625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блиск яких зростає на десятки зоряних величин упродовж кількох діб називються надно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максимумі блиску світність наднових перевищує сонячну у мільярди разі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img25_6"/>
          <p:cNvPicPr/>
          <p:nvPr/>
        </p:nvPicPr>
        <p:blipFill>
          <a:blip r:embed="rId2"/>
          <a:stretch/>
        </p:blipFill>
        <p:spPr>
          <a:xfrm>
            <a:off x="2411280" y="2924280"/>
            <a:ext cx="4848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47210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оселін Белл і Ентоні Х'юїш у 1967 відкрили пульсюючі джерела радіовипромінювання або просто пульса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осмічне джерело електромагнітного випромінювання, що реєструється на Землі у вигляді імпульсів - сплесків, які періодично повторю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ерелом імпульсів вважається зоря з сильним магнітним полем, яка обертається і має вузькоспрямоване випромін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Багато пульсарів спостерігається в залишках спалахів наднових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Згідно з сучасними теоріями, пульсари – це об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єкти, які виникають на заключних етапах еволюції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Чому пульсуючі змінні цефеїди отримали назву «маяків Всесвіт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ясніть якісно, чому енергія ядерних реакцій на поверхні нової зорі викликає скидання оболонки, а енергія ядерних реакцій в ядрі Сонця не призводить до його руйнуван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 яких випадках буде спостерігатися розщеплення ліній в спектрі спектрально-подвійної зоряної системи, а в яких — зміщення? Поясні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спектральних паралакс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ивчи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2-23, повторит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Чим пояснюється відмінність спектрів зі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g6_6"/>
          <p:cNvPicPr/>
          <p:nvPr/>
        </p:nvPicPr>
        <p:blipFill>
          <a:blip r:embed="rId2"/>
          <a:stretch/>
        </p:blipFill>
        <p:spPr>
          <a:xfrm>
            <a:off x="1547640" y="2924280"/>
            <a:ext cx="5562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типового представ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Arial"/>
              </a:rPr>
              <a:t>Як будується діаграма спектр-світн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75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У чому полягає несхожість внутрішньої будови зір з масою 2М   і 0,5М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400" y="2851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01760" y="2348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одвійні зорі. Фізичні змінн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стеми зір (від двох до десяти), які під дією сил взаємного тяжіння обертаються навколо спільного центра мас називаються фізичними подвійними або кратними. Якщо компоненти кратної зорі видно в телескоп нарізно, то її називають візуально кратною зоре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mg13_6"/>
          <p:cNvPicPr/>
          <p:nvPr/>
        </p:nvPicPr>
        <p:blipFill>
          <a:blip r:embed="rId2"/>
          <a:stretch/>
        </p:blipFill>
        <p:spPr>
          <a:xfrm>
            <a:off x="2484360" y="2133720"/>
            <a:ext cx="42483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7720" y="2880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видима величина яких ритмічно змінюється внаслі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ення одного компонента іншим, називаю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ювано-подвійними або затемнювано-змін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mg14_6"/>
          <p:cNvPicPr/>
          <p:nvPr/>
        </p:nvPicPr>
        <p:blipFill>
          <a:blip r:embed="rId2"/>
          <a:stretch/>
        </p:blipFill>
        <p:spPr>
          <a:xfrm>
            <a:off x="2340000" y="1700280"/>
            <a:ext cx="446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20:27:22Z</dcterms:created>
  <dc:creator>Customer</dc:creator>
  <dc:description/>
  <dc:language>en-US</dc:language>
  <cp:lastModifiedBy>Admin</cp:lastModifiedBy>
  <dcterms:modified xsi:type="dcterms:W3CDTF">2011-03-02T10:07:37Z</dcterms:modified>
  <cp:revision>8</cp:revision>
  <dc:subject/>
  <dc:title>Слайд 1</dc:title>
</cp:coreProperties>
</file>