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653-9133-4B2D-8DA4-4DB7C94D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5A2-F7C0-4780-AE00-FA6E983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512-9699-4F6A-B5F4-966FB77D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EFD-CA6A-4961-BF3E-DC86CB6E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DF98-4040-414A-8FDB-8CFC5058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D862-76DA-42D8-9D76-6709DBB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AB4E-E7F1-4F79-8784-13661B57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4A5E-44F6-4F73-B967-F0D10B9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7E24-E95D-44DD-A686-7D1EB67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60B-E77B-44DD-AA64-6D3F21B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C9D-4FAC-4BE4-B49E-AC55C72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3C7-E06D-4B48-9505-CC4E3987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950D-54EB-4E0D-BCF1-2DB0069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86EE-C661-4735-90C4-51C447B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17E-DE6A-49C2-B3F7-EECC79B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DC3A-AB01-484E-9C5F-A3D79EBE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5B33-0DF1-480C-A4E3-F58154DE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1CBE-0E44-47C8-8EF9-F73C8819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92CB-0C88-4FDB-BB03-307AB7D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63BF-ABD7-46D8-BF88-40208E7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44FA-EBA9-46B4-8CF3-C6AA2B1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FF6F-056E-463C-B5C2-4AEEC67D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C01-B428-4428-A331-0DE65DEB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6BB3-C5A7-40AB-8AF4-B18ECB4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2CCC-4331-4585-B97C-604EBEA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67FF-3E09-469F-A6EA-98FE7277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C50D-B69B-45DC-BE4B-BBEC57D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0116-721E-4B2E-8EB5-1552222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5199-3C39-44B2-B53F-AEBB629B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69A8-11DF-4CF8-884E-3803EA19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A814-9953-4452-BA37-8474D60C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FFEF-04A7-4F3A-AD6F-672D288A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6EFC6-C401-463F-BC59-92B318A2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872-9573-46B2-8733-6C2773F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A6DF-8154-4FCA-A1B2-01F0CB9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F43F-2B05-4F20-A797-266FB51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B833-322E-42A0-9681-794B405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7D6E-354D-4E14-ADF9-A2D7E42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0CFE-23A7-421F-B3C7-D7EB19C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3373-830D-4BCF-B7E2-F0063A8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40392-6402-4B75-BDA4-F2EEEA5C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C7A16-D908-4306-9809-0D403B01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C7AA-246D-4CC0-AAFC-A2DBC0A5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414-CEE5-4BB0-B87B-2417347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A3B-D499-4A15-8C67-B9C0BF1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FB7-657D-431C-A945-7130235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727-98AB-4FC9-A6BF-6F60A15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1DA-685A-425D-B8CB-7177B57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438-E217-4755-A299-CB78E18BD2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20C-C04E-4A7B-B209-A0E0E8CE88A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AB64-28DA-45F1-A3BE-FE60D178244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5B97-7DC0-44CC-9C5C-BAE1F57955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-304920" y="-189000"/>
            <a:ext cx="7491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вітова держ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елика країна, до складу якої входили десятки завойованих пле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Фараон реформатор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72 – 1354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Ехнатон (Аменхотеп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617b"/>
                </a:solidFill>
                <a:latin typeface="Constantia"/>
              </a:rPr>
              <a:t>Дружина Ехнатона  Ніфертіті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Админ\Pictures\ехнатон.jpeg"/>
          <p:cNvPicPr/>
          <p:nvPr/>
        </p:nvPicPr>
        <p:blipFill>
          <a:blip r:embed="rId2"/>
          <a:stretch/>
        </p:blipFill>
        <p:spPr>
          <a:xfrm>
            <a:off x="1332000" y="2637000"/>
            <a:ext cx="2376360" cy="40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дмин\Pictures\Nefertiti.jpg"/>
          <p:cNvPicPr/>
          <p:nvPr/>
        </p:nvPicPr>
        <p:blipFill>
          <a:blip r:embed="rId3"/>
          <a:stretch/>
        </p:blipFill>
        <p:spPr>
          <a:xfrm>
            <a:off x="5222880" y="2514600"/>
            <a:ext cx="2886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амзес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Великий  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01 – 1235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Users\Админ\Pictures\Рамзес другий.jpeg"/>
          <p:cNvPicPr/>
          <p:nvPr/>
        </p:nvPicPr>
        <p:blipFill>
          <a:blip r:embed="rId2"/>
          <a:srcRect l="0" t="0" r="-236" b="0"/>
          <a:stretch/>
        </p:blipFill>
        <p:spPr>
          <a:xfrm>
            <a:off x="1619280" y="2060640"/>
            <a:ext cx="583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йсько єгиптя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Колісниці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іх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Админ\Pictures\піхота.jpeg"/>
          <p:cNvPicPr/>
          <p:nvPr/>
        </p:nvPicPr>
        <p:blipFill>
          <a:blip r:embed="rId2"/>
          <a:stretch/>
        </p:blipFill>
        <p:spPr>
          <a:xfrm>
            <a:off x="4572000" y="2708280"/>
            <a:ext cx="4356000" cy="331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\Pictures\колісниці.jpeg"/>
          <p:cNvPicPr/>
          <p:nvPr/>
        </p:nvPicPr>
        <p:blipFill>
          <a:blip r:embed="rId3"/>
          <a:stretch/>
        </p:blipFill>
        <p:spPr>
          <a:xfrm>
            <a:off x="468360" y="2781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1125360"/>
          <a:ext cx="7920000" cy="5112000"/>
        </p:xfrm>
        <a:graphic>
          <a:graphicData uri="http://schemas.openxmlformats.org/drawingml/2006/table">
            <a:tbl>
              <a:tblPr/>
              <a:tblGrid>
                <a:gridCol w="966960"/>
                <a:gridCol w="2338200"/>
                <a:gridCol w="46148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нання гіксосів з Єгипту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цариці Хатшепс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 фараона Тутмоса І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Ехнат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Рамзеса 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І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 завоювали Єгип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з‘ясувати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Яка політика мирна чи завойовницька сприяє розвитку держави?  Обгрунтуйте вашу дум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Опрацювати § 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Дати відповіді на питання ст. 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Опрацювати  контурну карту на ст…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Історія розвивається по синусоїд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 періодом розквіту обов'язково буде період занепаду, а потім знову розквіт і так до безкінечності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олилиния 4"/>
          <p:cNvSpPr/>
          <p:nvPr/>
        </p:nvSpPr>
        <p:spPr>
          <a:xfrm>
            <a:off x="484200" y="3430440"/>
            <a:ext cx="8493120" cy="2319480"/>
          </a:xfrm>
          <a:custGeom>
            <a:avLst/>
            <a:gdLst/>
            <a:ahLst/>
            <a:rect l="l" t="t" r="r" b="b"/>
            <a:pathLst>
              <a:path w="8492836" h="2318327">
                <a:moveTo>
                  <a:pt x="0" y="2193636"/>
                </a:moveTo>
                <a:cubicBezTo>
                  <a:pt x="213591" y="1401618"/>
                  <a:pt x="427182" y="609600"/>
                  <a:pt x="734291" y="586509"/>
                </a:cubicBezTo>
                <a:cubicBezTo>
                  <a:pt x="1041400" y="563418"/>
                  <a:pt x="1512455" y="2004291"/>
                  <a:pt x="1842655" y="2055091"/>
                </a:cubicBezTo>
                <a:cubicBezTo>
                  <a:pt x="2172855" y="2105891"/>
                  <a:pt x="2378364" y="921327"/>
                  <a:pt x="2715491" y="891309"/>
                </a:cubicBezTo>
                <a:cubicBezTo>
                  <a:pt x="3052618" y="861291"/>
                  <a:pt x="3389745" y="2022764"/>
                  <a:pt x="3865418" y="1874982"/>
                </a:cubicBezTo>
                <a:cubicBezTo>
                  <a:pt x="4341091" y="1727200"/>
                  <a:pt x="5144654" y="0"/>
                  <a:pt x="5569527" y="4618"/>
                </a:cubicBezTo>
                <a:cubicBezTo>
                  <a:pt x="5994400" y="9236"/>
                  <a:pt x="6089073" y="1877291"/>
                  <a:pt x="6414655" y="1902691"/>
                </a:cubicBezTo>
                <a:cubicBezTo>
                  <a:pt x="6740237" y="1928091"/>
                  <a:pt x="7178964" y="99291"/>
                  <a:pt x="7523018" y="157018"/>
                </a:cubicBezTo>
                <a:cubicBezTo>
                  <a:pt x="7867072" y="214745"/>
                  <a:pt x="8478982" y="2249055"/>
                  <a:pt x="8478982" y="2249055"/>
                </a:cubicBezTo>
                <a:lnTo>
                  <a:pt x="8478982" y="2249055"/>
                </a:lnTo>
                <a:lnTo>
                  <a:pt x="8492836" y="2318327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уроку з'ясува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 Особливості правління єгипетських фараонів Хатшепсут, Тутмо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Ехнато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амзе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6 Яка політика мирна чи завойовницька сприяє розвитку держав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Гіксоси - кочові плем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93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ронологічна таблиц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935000"/>
          <a:ext cx="8435880" cy="4373640"/>
        </p:xfrm>
        <a:graphic>
          <a:graphicData uri="http://schemas.openxmlformats.org/drawingml/2006/table">
            <a:tbl>
              <a:tblPr/>
              <a:tblGrid>
                <a:gridCol w="749160"/>
                <a:gridCol w="2583000"/>
                <a:gridCol w="51037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981000"/>
          <a:ext cx="8435880" cy="5256360"/>
        </p:xfrm>
        <a:graphic>
          <a:graphicData uri="http://schemas.openxmlformats.org/drawingml/2006/table">
            <a:tbl>
              <a:tblPr/>
              <a:tblGrid>
                <a:gridCol w="749160"/>
                <a:gridCol w="2805120"/>
                <a:gridCol w="48816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гнання гіксосів з Єгип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Хатшепсут - “перша серед найвродливіших ”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489 – 1468 рр.до.н.е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Админ\Pictures\хатшепсут.jpg"/>
          <p:cNvPicPr/>
          <p:nvPr/>
        </p:nvPicPr>
        <p:blipFill>
          <a:blip r:embed="rId2"/>
          <a:stretch/>
        </p:blipFill>
        <p:spPr>
          <a:xfrm>
            <a:off x="2484360" y="1947960"/>
            <a:ext cx="40323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сипальниця цариці в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                               Дейр-ель-Бахр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Админ\Pictures\усипальниця хатшепсут.jpeg"/>
          <p:cNvPicPr/>
          <p:nvPr/>
        </p:nvPicPr>
        <p:blipFill>
          <a:blip r:embed="rId2"/>
          <a:stretch/>
        </p:blipFill>
        <p:spPr>
          <a:xfrm>
            <a:off x="900000" y="2021040"/>
            <a:ext cx="7632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Тутмос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– завойовник. Єгипет став світовою державою.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 1504 – 1450 рр. до н.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Users\Админ\Pictures\тутмос третій.jpg"/>
          <p:cNvPicPr/>
          <p:nvPr/>
        </p:nvPicPr>
        <p:blipFill>
          <a:blip r:embed="rId2"/>
          <a:srcRect l="0" t="0" r="0" b="-52"/>
          <a:stretch/>
        </p:blipFill>
        <p:spPr>
          <a:xfrm>
            <a:off x="1763640" y="1916280"/>
            <a:ext cx="493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8:25:23Z</dcterms:created>
  <dc:creator>Админ</dc:creator>
  <dc:description/>
  <dc:language>en-US</dc:language>
  <cp:lastModifiedBy>Admin</cp:lastModifiedBy>
  <dcterms:modified xsi:type="dcterms:W3CDTF">2014-05-05T07:55:0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